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5.wmf" ContentType="image/x-wmf"/>
  <Override PartName="/ppt/media/image15.jpeg" ContentType="image/jpeg"/>
  <Override PartName="/ppt/media/image21.jpeg" ContentType="image/jpeg"/>
  <Override PartName="/ppt/media/image6.wmf" ContentType="image/x-wmf"/>
  <Override PartName="/ppt/media/image31.wmf" ContentType="image/x-wmf"/>
  <Override PartName="/ppt/media/image1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22.jpeg" ContentType="image/jpeg"/>
  <Override PartName="/ppt/media/image9.png" ContentType="image/png"/>
  <Override PartName="/ppt/media/image34.png" ContentType="image/png"/>
  <Override PartName="/ppt/media/image30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4.wmf" ContentType="image/x-wmf"/>
  <Override PartName="/ppt/media/image11.jpeg" ContentType="image/jpeg"/>
  <Override PartName="/ppt/media/image1.gif" ContentType="image/gif"/>
  <Override PartName="/ppt/media/image32.jpeg" ContentType="image/jpeg"/>
  <Override PartName="/ppt/media/image24.gif" ContentType="image/gif"/>
  <Override PartName="/ppt/media/image14.png" ContentType="image/png"/>
  <Override PartName="/ppt/media/image16.png" ContentType="image/png"/>
  <Override PartName="/ppt/media/image18.jpeg" ContentType="image/jpeg"/>
  <Override PartName="/ppt/media/image20.png" ContentType="image/png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D7FD-515E-4BD3-BA15-A60F7F492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B307-A685-4A41-9AA9-A46EA6F6A2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E6D4-2E29-4360-9914-F2EC4E59DE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A7C7-355F-420F-980B-2FE733A05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A827-0E6F-493A-A35E-A851D0CB28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FA36-7D60-4781-88E8-C88FB95FB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FF54-F686-47BC-88F2-13FF0565A3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FB22-98FB-46B2-BC0E-995A3D2F6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5263-354D-4429-A762-EC0C4B6892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D63B-E0C3-454D-894F-47260AF6A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3A57-3D1C-4FE9-8B9D-D50EC9EE9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4EE7-BFF4-41EC-8D97-9F43BF4B1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650B-C9D3-449F-AD5B-6204A9421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751A-08EF-436A-B6FA-0765AE9F7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3831-F938-49E0-BE8C-28F43A3C7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87D3-2F93-4E55-B8D3-BEF92DAC12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A134-73E4-425E-AF73-A6A845C3D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B0B7-FE50-4A8B-9D12-C4B867F2F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F4FA-A6A2-436F-A1AC-392D7D0E4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038A-B241-483F-8BE1-50F8896DF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C34B-792B-4CDC-BD96-1AF0BA498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8303-02F1-4028-B112-BE4429837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B2A4-8740-495B-A978-B9FA989AAC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D926-A6FD-4CF4-9752-151CF9C59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77AE-32A2-4CD5-817B-71ED690D8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5508-D184-4F67-82C2-9DC616DE6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002-0912-4D4E-878A-3307D5C3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DBD-D6BC-4871-B60D-D001BCB4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521-46F0-4697-A775-BD9D57EC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EE5-F6A0-4E76-8781-2EC4533E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4CD-AC32-47BA-B625-11E89F77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F58-B381-4C5D-83C5-8E616051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943-7B99-4188-8D04-4DF45094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08B-292B-4360-8D9A-EAB59C9D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C48-BE52-4CAA-A0BB-BF5524F2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CFD-0C48-423C-928D-8F731599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607-32C1-4099-8162-F3EC5CC2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4AA-5F1E-470F-910E-2B7D5275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C7C6-0873-4296-BCC5-A8987E46C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3106-0101-49F9-9D15-CC9C7C221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cccc"/>
                </a:solidFill>
                <a:uFillTx/>
                <a:latin typeface="Century Gothic"/>
              </a:rPr>
              <a:t>СУ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48769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утках есть утро, день, вечер, 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тки это 24 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часть суток длится примерно одинаково - по 6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Mj03368630000[1]"/>
          <p:cNvPicPr/>
          <p:nvPr/>
        </p:nvPicPr>
        <p:blipFill>
          <a:blip r:embed="rId1"/>
          <a:stretch/>
        </p:blipFill>
        <p:spPr>
          <a:xfrm>
            <a:off x="6858000" y="1341360"/>
            <a:ext cx="1604880" cy="14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85345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7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8E89-CB91-4ACF-B48E-3FE8F21DF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м солнце находится в зените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, высоко- высоко в 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sunny_sun"/>
          <p:cNvPicPr/>
          <p:nvPr/>
        </p:nvPicPr>
        <p:blipFill>
          <a:blip r:embed="rId1"/>
          <a:stretch/>
        </p:blipFill>
        <p:spPr>
          <a:xfrm>
            <a:off x="1981080" y="326880"/>
            <a:ext cx="556272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5947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D34F-AD82-429A-AE1E-2434343C4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м у мамы очень много 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usy_mom_1"/>
          <p:cNvPicPr/>
          <p:nvPr/>
        </p:nvPicPr>
        <p:blipFill>
          <a:blip r:embed="rId1"/>
          <a:stretch/>
        </p:blipFill>
        <p:spPr>
          <a:xfrm>
            <a:off x="2666880" y="533520"/>
            <a:ext cx="4454640" cy="5333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87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B144-A6C3-4136-9743-7FDDA9200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дети днем гуляют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building_a_snowman"/>
          <p:cNvPicPr/>
          <p:nvPr/>
        </p:nvPicPr>
        <p:blipFill>
          <a:blip r:embed="rId1"/>
          <a:stretch/>
        </p:blipFill>
        <p:spPr>
          <a:xfrm>
            <a:off x="4572000" y="1219320"/>
            <a:ext cx="4572000" cy="396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04"/>
          <p:cNvPicPr/>
          <p:nvPr/>
        </p:nvPicPr>
        <p:blipFill>
          <a:blip r:embed="rId2"/>
          <a:stretch/>
        </p:blipFill>
        <p:spPr>
          <a:xfrm>
            <a:off x="0" y="1295280"/>
            <a:ext cx="4419720" cy="385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9" name="Text Box 13"/>
          <p:cNvSpPr/>
          <p:nvPr/>
        </p:nvSpPr>
        <p:spPr>
          <a:xfrm>
            <a:off x="990720" y="5410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791320" y="53341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3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325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253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0734-53FA-4F5B-B7BE-087CF5F7C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дают обычно с 2 до 3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MCj04132620000[1]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460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85345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419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84B7-12F9-4AF0-9F6E-15CF6C213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сле обеда, маленькие дети ложатся спать, чтобы набраться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DSC04114"/>
          <p:cNvPicPr/>
          <p:nvPr/>
        </p:nvPicPr>
        <p:blipFill>
          <a:blip r:embed="rId1"/>
          <a:stretch/>
        </p:blipFill>
        <p:spPr>
          <a:xfrm>
            <a:off x="2438280" y="380880"/>
            <a:ext cx="4186440" cy="514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585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B131-CFC0-40F8-B69C-C5262DDD1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4876560"/>
            <a:ext cx="5029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ВЕЧ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981080" y="579132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ья часть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ер начинается в 17 часов и заканчивается в 23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030905 082"/>
          <p:cNvPicPr/>
          <p:nvPr/>
        </p:nvPicPr>
        <p:blipFill>
          <a:blip r:embed="rId1"/>
          <a:stretch/>
        </p:blipFill>
        <p:spPr>
          <a:xfrm>
            <a:off x="1447920" y="304920"/>
            <a:ext cx="6953040" cy="4630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4" name="Picture 14" descr=""/>
          <p:cNvPicPr/>
          <p:nvPr/>
        </p:nvPicPr>
        <p:blipFill>
          <a:blip r:embed="rId2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842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2300-63A2-46F1-B16D-3F9CDC80B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 папа приходит с работы, вся семья в сб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hapyhome"/>
          <p:cNvPicPr/>
          <p:nvPr/>
        </p:nvPicPr>
        <p:blipFill>
          <a:blip r:embed="rId1">
            <a:grayscl/>
          </a:blip>
          <a:stretch/>
        </p:blipFill>
        <p:spPr>
          <a:xfrm>
            <a:off x="2666880" y="228600"/>
            <a:ext cx="4251600" cy="52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87631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462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8382-5ADF-43E0-9F52-4405B6CD8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инают примерно в 7 часов ве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DSC04565"/>
          <p:cNvPicPr/>
          <p:nvPr/>
        </p:nvPicPr>
        <p:blipFill>
          <a:blip r:embed="rId1"/>
          <a:stretch/>
        </p:blipFill>
        <p:spPr>
          <a:xfrm>
            <a:off x="1981080" y="304920"/>
            <a:ext cx="5410440" cy="548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2" name="Picture 10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3453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DF09-ED4F-44DE-8EFE-C66CE131D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олнце приближается к горизонту- это время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SC04045"/>
          <p:cNvPicPr/>
          <p:nvPr/>
        </p:nvPicPr>
        <p:blipFill>
          <a:blip r:embed="rId1"/>
          <a:stretch/>
        </p:blipFill>
        <p:spPr>
          <a:xfrm>
            <a:off x="914400" y="2239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6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7325-D7EA-4013-A2CE-1F5CE83D7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сном все обязательно куп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MCj00889360000[1]"/>
          <p:cNvPicPr/>
          <p:nvPr/>
        </p:nvPicPr>
        <p:blipFill>
          <a:blip r:embed="rId1"/>
          <a:stretch/>
        </p:blipFill>
        <p:spPr>
          <a:xfrm>
            <a:off x="2590920" y="304920"/>
            <a:ext cx="4417920" cy="4952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868680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333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724280"/>
            <a:ext cx="7848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У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4760" y="5714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вая часть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начинается в 5 часов и заканчивается в 11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j01571730000[1]"/>
          <p:cNvPicPr/>
          <p:nvPr/>
        </p:nvPicPr>
        <p:blipFill>
          <a:blip r:embed="rId1"/>
          <a:stretch/>
        </p:blipFill>
        <p:spPr>
          <a:xfrm>
            <a:off x="1676520" y="152280"/>
            <a:ext cx="6400800" cy="451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759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4D9B-AC65-4EA0-89DE-71FBD2C8C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5627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ы любишь куп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MMj02836280000[1]"/>
          <p:cNvPicPr/>
          <p:nvPr/>
        </p:nvPicPr>
        <p:blipFill>
          <a:blip r:embed="rId1"/>
          <a:stretch/>
        </p:blipFill>
        <p:spPr>
          <a:xfrm>
            <a:off x="6019920" y="380880"/>
            <a:ext cx="1981080" cy="196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MCj03573850000[1]"/>
          <p:cNvPicPr/>
          <p:nvPr/>
        </p:nvPicPr>
        <p:blipFill>
          <a:blip r:embed="rId2"/>
          <a:stretch/>
        </p:blipFill>
        <p:spPr>
          <a:xfrm>
            <a:off x="5791320" y="358128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DSC00115"/>
          <p:cNvPicPr/>
          <p:nvPr/>
        </p:nvPicPr>
        <p:blipFill>
          <a:blip r:embed="rId3"/>
          <a:stretch/>
        </p:blipFill>
        <p:spPr>
          <a:xfrm>
            <a:off x="304920" y="1066680"/>
            <a:ext cx="5257800" cy="394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Picture 12" descr=""/>
          <p:cNvPicPr/>
          <p:nvPr/>
        </p:nvPicPr>
        <p:blipFill>
          <a:blip r:embed="rId4"/>
          <a:stretch/>
        </p:blipFill>
        <p:spPr>
          <a:xfrm>
            <a:off x="8610480" y="70866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239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395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3D03-C03F-4F6A-833F-8EFA3AAF4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, перед сном дети любят читать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kartinki"/>
          <p:cNvPicPr/>
          <p:nvPr/>
        </p:nvPicPr>
        <p:blipFill>
          <a:blip r:embed="rId1"/>
          <a:stretch/>
        </p:blipFill>
        <p:spPr>
          <a:xfrm>
            <a:off x="4724280" y="2438280"/>
            <a:ext cx="4152960" cy="311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0" name="Picture 9" descr="noviygod-garmoniya 071"/>
          <p:cNvPicPr/>
          <p:nvPr/>
        </p:nvPicPr>
        <p:blipFill>
          <a:blip r:embed="rId2"/>
          <a:stretch/>
        </p:blipFill>
        <p:spPr>
          <a:xfrm>
            <a:off x="457200" y="457200"/>
            <a:ext cx="395604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469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690"/>
                            </p:stCondLst>
                            <p:childTnLst>
                              <p:par>
                                <p:cTn id="1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7B19-B1B8-4A0F-8D0F-09F954D4E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Н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447920" y="60958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чь начинается в 23 часа и продолжается до 5 часов у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lun"/>
          <p:cNvPicPr/>
          <p:nvPr/>
        </p:nvPicPr>
        <p:blipFill>
          <a:blip r:embed="rId1"/>
          <a:stretch/>
        </p:blipFill>
        <p:spPr>
          <a:xfrm>
            <a:off x="1447920" y="228600"/>
            <a:ext cx="6400800" cy="5067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966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3DB4-74F7-4EAA-8B1F-D6EE8D11D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5867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солнышко спит, а на небе светят Луна и 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MPj01789760000[1]"/>
          <p:cNvPicPr/>
          <p:nvPr/>
        </p:nvPicPr>
        <p:blipFill>
          <a:blip r:embed="rId1"/>
          <a:stretch/>
        </p:blipFill>
        <p:spPr>
          <a:xfrm>
            <a:off x="685800" y="228600"/>
            <a:ext cx="8001000" cy="5637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MCj03189040000[1]"/>
          <p:cNvPicPr/>
          <p:nvPr/>
        </p:nvPicPr>
        <p:blipFill>
          <a:blip r:embed="rId2"/>
          <a:stretch/>
        </p:blipFill>
        <p:spPr>
          <a:xfrm>
            <a:off x="3581280" y="533520"/>
            <a:ext cx="15192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5628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BEF1-48D6-4D83-B087-40B0D2CD7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зажигают фонари. От огней на улице становится светло, как д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MG_2404"/>
          <p:cNvPicPr/>
          <p:nvPr/>
        </p:nvPicPr>
        <p:blipFill>
          <a:blip r:embed="rId1"/>
          <a:stretch/>
        </p:blipFill>
        <p:spPr>
          <a:xfrm>
            <a:off x="304920" y="1447920"/>
            <a:ext cx="5257800" cy="3502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5" name="Picture 17" descr="IMG_2382"/>
          <p:cNvPicPr/>
          <p:nvPr/>
        </p:nvPicPr>
        <p:blipFill>
          <a:blip r:embed="rId2"/>
          <a:stretch/>
        </p:blipFill>
        <p:spPr>
          <a:xfrm>
            <a:off x="5791320" y="685800"/>
            <a:ext cx="3166920" cy="475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6" name="Picture 18" descr=""/>
          <p:cNvPicPr/>
          <p:nvPr/>
        </p:nvPicPr>
        <p:blipFill>
          <a:blip r:embed="rId3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584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EC37-8FD8-41E0-97B9-2666EFA18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все люди ложатся 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sleepy"/>
          <p:cNvPicPr/>
          <p:nvPr/>
        </p:nvPicPr>
        <p:blipFill>
          <a:blip r:embed="rId1"/>
          <a:stretch/>
        </p:blipFill>
        <p:spPr>
          <a:xfrm>
            <a:off x="2362320" y="533520"/>
            <a:ext cx="4800600" cy="472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326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A0C4-4CFC-4EDC-9EB7-B63D52435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люди любят встреч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В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вые солнечные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Cj00904430000[1]"/>
          <p:cNvPicPr/>
          <p:nvPr/>
        </p:nvPicPr>
        <p:blipFill>
          <a:blip r:embed="rId1"/>
          <a:stretch/>
        </p:blipFill>
        <p:spPr>
          <a:xfrm>
            <a:off x="1295280" y="457200"/>
            <a:ext cx="7239240" cy="5226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66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0FC4-9496-4C9C-A448-9A9867FD3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олнышко поднимается над землей, это время называется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лнце вс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утроъ"/>
          <p:cNvPicPr/>
          <p:nvPr/>
        </p:nvPicPr>
        <p:blipFill>
          <a:blip r:embed="rId1"/>
          <a:stretch/>
        </p:blipFill>
        <p:spPr>
          <a:xfrm>
            <a:off x="1752480" y="228600"/>
            <a:ext cx="5867640" cy="519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4" name="Picture 14" descr=""/>
          <p:cNvPicPr/>
          <p:nvPr/>
        </p:nvPicPr>
        <p:blipFill>
          <a:blip r:embed="rId2"/>
          <a:stretch/>
        </p:blipFill>
        <p:spPr>
          <a:xfrm>
            <a:off x="8610480" y="70866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784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011A-3F18-404E-9DBB-8BD7A3B6C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1956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м просыпаются люди.            Доброе утро, Малыш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MCPE06995_0000[1]"/>
          <p:cNvPicPr/>
          <p:nvPr/>
        </p:nvPicPr>
        <p:blipFill>
          <a:blip r:embed="rId1"/>
          <a:stretch/>
        </p:blipFill>
        <p:spPr>
          <a:xfrm>
            <a:off x="1295280" y="990720"/>
            <a:ext cx="4267440" cy="384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hild_with_Mother_3"/>
          <p:cNvPicPr/>
          <p:nvPr/>
        </p:nvPicPr>
        <p:blipFill>
          <a:blip r:embed="rId2"/>
          <a:stretch/>
        </p:blipFill>
        <p:spPr>
          <a:xfrm>
            <a:off x="6851520" y="3581280"/>
            <a:ext cx="167184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49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A6E3-72FB-4FCF-AAF5-7D58EA7E6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ы чистишь зубы по утр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oothbrush"/>
          <p:cNvPicPr/>
          <p:nvPr/>
        </p:nvPicPr>
        <p:blipFill>
          <a:blip r:embed="rId1"/>
          <a:stretch/>
        </p:blipFill>
        <p:spPr>
          <a:xfrm>
            <a:off x="1447920" y="1371600"/>
            <a:ext cx="6348240" cy="30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8610480" y="701028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89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4CA6-A651-4270-BF0D-B204D2813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ром все завтракают. Взрослые идут на работу, а дети в садик или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utout_cookies"/>
          <p:cNvPicPr/>
          <p:nvPr/>
        </p:nvPicPr>
        <p:blipFill>
          <a:blip r:embed="rId1"/>
          <a:stretch/>
        </p:blipFill>
        <p:spPr>
          <a:xfrm>
            <a:off x="1523880" y="228600"/>
            <a:ext cx="6705720" cy="514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30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48BC-1B50-41DC-BB5F-C3CFE2D2EE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ы еще совсем маленький, мама остается с тобой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mom_toddler"/>
          <p:cNvPicPr/>
          <p:nvPr/>
        </p:nvPicPr>
        <p:blipFill>
          <a:blip r:embed="rId1"/>
          <a:stretch/>
        </p:blipFill>
        <p:spPr>
          <a:xfrm>
            <a:off x="2971800" y="1066680"/>
            <a:ext cx="3414600" cy="3592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463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6186-0D05-457A-941D-8FF4F3DAF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440" y="4800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27477286"/>
          <p:cNvPicPr/>
          <p:nvPr/>
        </p:nvPicPr>
        <p:blipFill>
          <a:blip r:embed="rId1"/>
          <a:stretch/>
        </p:blipFill>
        <p:spPr>
          <a:xfrm>
            <a:off x="1523880" y="228600"/>
            <a:ext cx="6365880" cy="4776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2057400" y="60199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вторая часть суток – самая основная. Продолжительность дня с 11  до 17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44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3:57:2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