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70F-2416-4B6A-BFFF-9D95AB6B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890-B3DD-4C92-A7B5-1418835C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5E1-0B1B-4C90-9C22-4609B6D2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D32-DC51-47A8-B91C-473BB2C8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AC3-0F1B-46F6-B125-9193227F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5DD-6B4C-4B3C-960A-5E8B5B3B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15D-A48C-41E1-B9EB-A4FD6310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220-7F83-4B7E-9862-89C8F3F8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C34-7B91-4AE2-A408-D45108C5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D5B-AAFA-4562-A6BA-5AB30EE7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138-F568-48BF-8DAB-6D027BAB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5A1-CD9B-4AB0-9238-4A17C4B2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ab"/>
            </a:gs>
            <a:gs pos="100000">
              <a:srgbClr val="ffe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B5F6-6C27-4A06-97D5-41F4FA677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Автор стихов и рисунков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алентина Черня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413000"/>
            <a:ext cx="777708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БАВНАЯ АРИФМЕТИКА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268360" y="3068640"/>
            <a:ext cx="482472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ЁЛЫЕ СЧИТАЛКИ</a:t>
            </a:r>
            <a:endParaRPr b="1" lang="en-US" sz="1800" spc="1" strike="noStrike">
              <a:ln w="381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65080" cy="80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7596360" y="573408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>
            <a:off x="7812000" y="2924280"/>
            <a:ext cx="865440" cy="80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932360" cy="4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от Корней - рыб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39640" y="40464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а траве лежит улов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йте, сколько штук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н поймал зубастых щук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колько выловил Корней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лосатых оку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6"/>
          <p:cNvPicPr/>
          <p:nvPr/>
        </p:nvPicPr>
        <p:blipFill>
          <a:blip r:embed="rId1"/>
          <a:stretch/>
        </p:blipFill>
        <p:spPr>
          <a:xfrm>
            <a:off x="1835280" y="2205000"/>
            <a:ext cx="52560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356544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айчики и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35640" y="475920"/>
            <a:ext cx="313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сосчитай-к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на той же кочке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й цветочки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1591"/>
          <p:cNvPicPr/>
          <p:nvPr/>
        </p:nvPicPr>
        <p:blipFill>
          <a:blip r:embed="rId1"/>
          <a:stretch/>
        </p:blipFill>
        <p:spPr>
          <a:xfrm>
            <a:off x="1619280" y="1557360"/>
            <a:ext cx="6003720" cy="5199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55640" y="692280"/>
            <a:ext cx="378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шки над бугром торчат..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ара — это зайк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за бугром зайчат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881080" cy="105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Планета Мартин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3241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осмонавты прилетел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планету Мартинел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ного видели план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такой, как эта — нет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ам кристаллов очень мног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де же к кораблю дорога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й скорей кристаллы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х в пути найдёшь немало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не пропусти их тольк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ойден путь? Кристаллов сколь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288"/>
          <p:cNvPicPr/>
          <p:nvPr/>
        </p:nvPicPr>
        <p:blipFill>
          <a:blip r:embed="rId1"/>
          <a:stretch/>
        </p:blipFill>
        <p:spPr>
          <a:xfrm>
            <a:off x="3492360" y="260280"/>
            <a:ext cx="5480280" cy="645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4149720"/>
            <a:ext cx="4932360" cy="50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Чудо-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5280" y="4770000"/>
            <a:ext cx="3527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До чего же хороши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вые карандаш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не рисуют всё под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т — солдаты стали в 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в ряду их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потом они в полё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Запустили самолё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амолётов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92"/>
          <p:cNvPicPr/>
          <p:nvPr/>
        </p:nvPicPr>
        <p:blipFill>
          <a:blip r:embed="rId1"/>
          <a:stretch/>
        </p:blipFill>
        <p:spPr>
          <a:xfrm>
            <a:off x="1042920" y="63360"/>
            <a:ext cx="7128000" cy="3942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292720" y="4076640"/>
            <a:ext cx="352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ы-купол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миг раскрасить я смогл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ов сколько?</a:t>
            </a: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андашики устали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Чтобы ночью отдыхал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пать в коробку уложу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тром снова разбужу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х в коробке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навальные ма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59280" y="836640"/>
            <a:ext cx="338472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чёлки и 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796000" y="2204640"/>
            <a:ext cx="334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цветочки-медоносы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илетели пчёлы, ос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жуж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Мы, млад и стар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Очень любим пить нектар!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тебе жужжат вопрос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Сколько пчёлок? Сколько ос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4084"/>
          <p:cNvPicPr/>
          <p:nvPr/>
        </p:nvPicPr>
        <p:blipFill>
          <a:blip r:embed="rId1"/>
          <a:stretch/>
        </p:blipFill>
        <p:spPr>
          <a:xfrm>
            <a:off x="179280" y="549360"/>
            <a:ext cx="5730840" cy="588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974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Мотыльки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и васи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91280" y="1916280"/>
            <a:ext cx="295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синеют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удо-диво василь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, малыш, мне подскаж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асильков во ржи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идишь колос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ьётся мотыль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ю я пок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рылышки у мотыл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4-626"/>
          <p:cNvPicPr/>
          <p:nvPr/>
        </p:nvPicPr>
        <p:blipFill>
          <a:blip r:embed="rId1"/>
          <a:stretch/>
        </p:blipFill>
        <p:spPr>
          <a:xfrm>
            <a:off x="25092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4-626"/>
          <p:cNvPicPr/>
          <p:nvPr/>
        </p:nvPicPr>
        <p:blipFill>
          <a:blip r:embed="rId2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24-626"/>
          <p:cNvPicPr/>
          <p:nvPr/>
        </p:nvPicPr>
        <p:blipFill>
          <a:blip r:embed="rId3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ичьи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867280" y="1267920"/>
            <a:ext cx="345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ыжие бел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грали в горелк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ишь только мелькали хвосты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веток на в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ыгали д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 очень большой высот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Дети скакал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мамы считали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резвится ребят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так рабо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бились со счёт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 сосчитай-ка бельч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4-667"/>
          <p:cNvPicPr/>
          <p:nvPr/>
        </p:nvPicPr>
        <p:blipFill>
          <a:blip r:embed="rId1"/>
          <a:stretch/>
        </p:blipFill>
        <p:spPr>
          <a:xfrm>
            <a:off x="0" y="404640"/>
            <a:ext cx="5638680" cy="597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3499920"/>
            <a:ext cx="568980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ки и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453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Белки для потех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Щёлкали орех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ак расколется ор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лышен белок звонкий см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270"/>
          <p:cNvPicPr/>
          <p:nvPr/>
        </p:nvPicPr>
        <p:blipFill>
          <a:blip r:embed="rId1"/>
          <a:stretch/>
        </p:blipFill>
        <p:spPr>
          <a:xfrm>
            <a:off x="900000" y="189000"/>
            <a:ext cx="7734240" cy="3514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788000" y="4581360"/>
            <a:ext cx="417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ть бы только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аскололи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считай ещё и те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то остались в скорлу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олотые апель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ъем огромный апельсин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ещё один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можешь в вазе сосчитать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остаётся? 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4-676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осмотри сперва на вазу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считай все сразу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Если б я не ел со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их было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3796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 пшеничном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2984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ышки в поле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ли колос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олодцы! Букет готов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 каждом колосков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мышек в поле э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там из них с буке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то за бабочкой гонялся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колоском одним остался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4-641"/>
          <p:cNvPicPr/>
          <p:nvPr/>
        </p:nvPicPr>
        <p:blipFill>
          <a:blip r:embed="rId1"/>
          <a:stretch/>
        </p:blipFill>
        <p:spPr>
          <a:xfrm>
            <a:off x="3348000" y="549360"/>
            <a:ext cx="5567400" cy="590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3933360"/>
            <a:ext cx="7488360" cy="5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ы не бойтесь, кр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33116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зле норки заскреблась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отихоньку кошк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спугала всех мыша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еньких. Немножко?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се трясутся малыш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 не понарошку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Быстро все до одного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лезли под рогожку.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4-65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3600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643280" y="4221000"/>
            <a:ext cx="3672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м знаком усатый з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ет страшнее кошк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овата в норку д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ы не бойтесь, крошки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 малютки всё дрожа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спокой их ты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оль не видишь здесь мышат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считай хво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344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Тянем-потя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700000" y="907560"/>
            <a:ext cx="4103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епка выросла большая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компания какая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ет урожай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всех их сосчит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4-659"/>
          <p:cNvPicPr/>
          <p:nvPr/>
        </p:nvPicPr>
        <p:blipFill>
          <a:blip r:embed="rId1"/>
          <a:stretch/>
        </p:blipFill>
        <p:spPr>
          <a:xfrm>
            <a:off x="826920" y="1949400"/>
            <a:ext cx="7704360" cy="490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овушки и шля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девали совуш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ы на головуш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одна всю ночь 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у где-то потеря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4-662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идит одна. Сердита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олова-то непокры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лювик вниз, поджала лап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сов надели шля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26:21Z</dcterms:created>
  <dc:creator>лрвапшиывар</dc:creator>
  <dc:description/>
  <dc:language>en-US</dc:language>
  <cp:lastModifiedBy>ОЕМ</cp:lastModifiedBy>
  <dcterms:modified xsi:type="dcterms:W3CDTF">2010-01-20T07:50:26Z</dcterms:modified>
  <cp:revision>7</cp:revision>
  <dc:subject/>
  <dc:title>Автор стихов и рисунков Валентина Черняева</dc:title>
</cp:coreProperties>
</file>