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9078-87C0-48AA-88E9-00E55C63D5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3B8-FA24-4B3A-A4E6-C4E0FFC971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C289-7F9F-4924-B6B8-AB35D1BC22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94E6-D51C-42FD-9338-D7B14C9A55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1A70-81FF-41D5-87D4-16DFB50848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43C-577E-4CD5-BD4A-EEEB904A0A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771-65AC-4476-AA84-CF09E33C1E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5E6E-F84B-4BAB-BA03-DFE191786F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128B-54CF-464C-8D51-5A1DAC429E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17DB-3A88-4A98-ADDD-9B542DED90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C185-0112-4713-960F-331CB65A74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81B2-D6B2-4920-B833-E90980BD92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A445-3F00-4F19-A5DD-E609308802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C1C-6207-422D-B173-89CD7B2E79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B8A9-DCCC-42EE-90BC-7AE1C94CB8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79E-4B01-4E2D-9948-F45AED5395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A5FB-7A0E-4CEE-8E63-FDB0C47239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0A35-E9A7-4C7C-83D4-5B6315C24B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33E-488A-4426-86F0-B2DBCC169E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C10C-A864-4D6B-9B68-F7FEF3421C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2532-7B70-4CE1-9F19-3FC1C9C4E6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D47E-9291-4ECC-B804-7CDAEC321A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5BBF-905B-4E6C-844E-0C6C620683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71F-8D63-4F18-B7C2-B91D9AE7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DBF-857D-4365-886A-5759DEEB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6E2-8AE8-4231-9F87-6CFE6A2C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4A2-9731-4CCB-8B66-2584EAD6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BD9-F076-4F7E-9F72-5160EED0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851-09E4-4F1D-8298-CD45F7F3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38C-59A9-42CC-8A7B-8704369C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CE1-50F9-4C7F-8FCE-B083CD3A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87B-911E-4115-952E-1953521A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9DD-9F16-4781-907D-9A6132F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B98-DB6E-4CA5-867F-2297CBA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207-8247-4F9F-B480-576FD3BC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A847-C9E7-4808-9488-119CD859DD5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Baskerville Old Face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2664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ЖА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6" descr="000803_1052_5426_vnvv"/>
          <p:cNvPicPr/>
          <p:nvPr/>
        </p:nvPicPr>
        <p:blipFill>
          <a:blip r:embed="rId1"/>
          <a:stretch/>
        </p:blipFill>
        <p:spPr>
          <a:xfrm>
            <a:off x="2971800" y="1486080"/>
            <a:ext cx="3449520" cy="53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0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УЖ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000803_1056_5190_vnvv"/>
          <p:cNvPicPr/>
          <p:nvPr/>
        </p:nvPicPr>
        <p:blipFill>
          <a:blip r:embed="rId1"/>
          <a:stretch/>
        </p:blipFill>
        <p:spPr>
          <a:xfrm>
            <a:off x="5638680" y="1219320"/>
            <a:ext cx="3308400" cy="443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803_1056_5194_vnvv"/>
          <p:cNvPicPr/>
          <p:nvPr/>
        </p:nvPicPr>
        <p:blipFill>
          <a:blip r:embed="rId2"/>
          <a:stretch/>
        </p:blipFill>
        <p:spPr>
          <a:xfrm>
            <a:off x="304920" y="2209680"/>
            <a:ext cx="4495680" cy="439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52_5381_vnvv"/>
          <p:cNvPicPr/>
          <p:nvPr/>
        </p:nvPicPr>
        <p:blipFill>
          <a:blip r:embed="rId1"/>
          <a:stretch/>
        </p:blipFill>
        <p:spPr>
          <a:xfrm>
            <a:off x="2486160" y="1447920"/>
            <a:ext cx="458460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9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27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52_5452_vnvv"/>
          <p:cNvPicPr/>
          <p:nvPr/>
        </p:nvPicPr>
        <p:blipFill>
          <a:blip r:embed="rId1"/>
          <a:stretch/>
        </p:blipFill>
        <p:spPr>
          <a:xfrm>
            <a:off x="3352680" y="228600"/>
            <a:ext cx="2806920" cy="636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553080" y="533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БРЮК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028840" y="9144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 flipH="1" flipV="1">
            <a:off x="5181480" y="46483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АЯ КУРТ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000803_1052_5411_vnvv"/>
          <p:cNvPicPr/>
          <p:nvPr/>
        </p:nvPicPr>
        <p:blipFill>
          <a:blip r:embed="rId1"/>
          <a:stretch/>
        </p:blipFill>
        <p:spPr>
          <a:xfrm>
            <a:off x="1905120" y="1523880"/>
            <a:ext cx="5357520" cy="442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ЫЕ ШТА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000803_1052_5410_vnvv"/>
          <p:cNvPicPr/>
          <p:nvPr/>
        </p:nvPicPr>
        <p:blipFill>
          <a:blip r:embed="rId1"/>
          <a:stretch/>
        </p:blipFill>
        <p:spPr>
          <a:xfrm>
            <a:off x="3429000" y="1295280"/>
            <a:ext cx="2509920" cy="539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СВИТ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000803_1052_5359_vnvv"/>
          <p:cNvPicPr/>
          <p:nvPr/>
        </p:nvPicPr>
        <p:blipFill>
          <a:blip r:embed="rId1"/>
          <a:stretch/>
        </p:blipFill>
        <p:spPr>
          <a:xfrm>
            <a:off x="2362320" y="1600200"/>
            <a:ext cx="4671720" cy="467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РУБАШ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52_5419_vnvv"/>
          <p:cNvPicPr/>
          <p:nvPr/>
        </p:nvPicPr>
        <p:blipFill>
          <a:blip r:embed="rId1"/>
          <a:stretch/>
        </p:blipFill>
        <p:spPr>
          <a:xfrm>
            <a:off x="1752480" y="1600200"/>
            <a:ext cx="5738760" cy="45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5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ШОР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000803_1052_5432_vnvv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8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АННЫЙ ХАЛА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52_5376_vnvv"/>
          <p:cNvPicPr/>
          <p:nvPr/>
        </p:nvPicPr>
        <p:blipFill>
          <a:blip r:embed="rId1"/>
          <a:stretch/>
        </p:blipFill>
        <p:spPr>
          <a:xfrm>
            <a:off x="2743200" y="1066680"/>
            <a:ext cx="36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2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ЖЕН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000803_1052_5304_vnvv"/>
          <p:cNvPicPr/>
          <p:nvPr/>
        </p:nvPicPr>
        <p:blipFill>
          <a:blip r:embed="rId1"/>
          <a:stretch/>
        </p:blipFill>
        <p:spPr>
          <a:xfrm>
            <a:off x="6858000" y="380880"/>
            <a:ext cx="1930320" cy="590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3_9736_vnvv"/>
          <p:cNvPicPr/>
          <p:nvPr/>
        </p:nvPicPr>
        <p:blipFill>
          <a:blip r:embed="rId2"/>
          <a:stretch/>
        </p:blipFill>
        <p:spPr>
          <a:xfrm>
            <a:off x="685800" y="914400"/>
            <a:ext cx="18414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803_1053_9796_vnvv"/>
          <p:cNvPicPr/>
          <p:nvPr/>
        </p:nvPicPr>
        <p:blipFill>
          <a:blip r:embed="rId3"/>
          <a:stretch/>
        </p:blipFill>
        <p:spPr>
          <a:xfrm>
            <a:off x="3276720" y="1143000"/>
            <a:ext cx="29430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ЖИЛЕ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000803_1052_5361_vnvv"/>
          <p:cNvPicPr/>
          <p:nvPr/>
        </p:nvPicPr>
        <p:blipFill>
          <a:blip r:embed="rId1"/>
          <a:stretch/>
        </p:blipFill>
        <p:spPr>
          <a:xfrm>
            <a:off x="2971800" y="1143000"/>
            <a:ext cx="31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000803_1052_5399_vnvv"/>
          <p:cNvPicPr/>
          <p:nvPr/>
        </p:nvPicPr>
        <p:blipFill>
          <a:blip r:embed="rId1"/>
          <a:stretch/>
        </p:blipFill>
        <p:spPr>
          <a:xfrm>
            <a:off x="2971800" y="1219320"/>
            <a:ext cx="3855960" cy="53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2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6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УБЛЕ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52_5398_vnvv"/>
          <p:cNvPicPr/>
          <p:nvPr/>
        </p:nvPicPr>
        <p:blipFill>
          <a:blip r:embed="rId1"/>
          <a:stretch/>
        </p:blipFill>
        <p:spPr>
          <a:xfrm>
            <a:off x="3124080" y="1371600"/>
            <a:ext cx="372924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Щ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52_5430_vnvv"/>
          <p:cNvPicPr/>
          <p:nvPr/>
        </p:nvPicPr>
        <p:blipFill>
          <a:blip r:embed="rId1"/>
          <a:stretch/>
        </p:blipFill>
        <p:spPr>
          <a:xfrm>
            <a:off x="3200400" y="1219320"/>
            <a:ext cx="2654280" cy="55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52_5389_vnvv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9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52_5396_vnvv"/>
          <p:cNvPicPr/>
          <p:nvPr/>
        </p:nvPicPr>
        <p:blipFill>
          <a:blip r:embed="rId1"/>
          <a:stretch/>
        </p:blipFill>
        <p:spPr>
          <a:xfrm>
            <a:off x="3200400" y="1295280"/>
            <a:ext cx="2938320" cy="533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ХАЛАТ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52_5375_vnvv"/>
          <p:cNvPicPr/>
          <p:nvPr/>
        </p:nvPicPr>
        <p:blipFill>
          <a:blip r:embed="rId1"/>
          <a:stretch/>
        </p:blipFill>
        <p:spPr>
          <a:xfrm>
            <a:off x="2590920" y="1143000"/>
            <a:ext cx="4197240" cy="539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ЛУЗ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2_5420_vnvv"/>
          <p:cNvPicPr/>
          <p:nvPr/>
        </p:nvPicPr>
        <p:blipFill>
          <a:blip r:embed="rId1"/>
          <a:stretch/>
        </p:blipFill>
        <p:spPr>
          <a:xfrm>
            <a:off x="3200400" y="1143000"/>
            <a:ext cx="308628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0958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10666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181480" y="4724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ЮБ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2_5440_vnvv"/>
          <p:cNvPicPr/>
          <p:nvPr/>
        </p:nvPicPr>
        <p:blipFill>
          <a:blip r:embed="rId1"/>
          <a:stretch/>
        </p:blipFill>
        <p:spPr>
          <a:xfrm>
            <a:off x="3352680" y="1676520"/>
            <a:ext cx="2527560" cy="493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36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