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163-03EB-4EED-9F6A-1F8DB922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270-B814-4B52-8584-397EB686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BDF-4BB6-4E38-9257-FF41A2A0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0B9-9A06-4B70-AD99-68ADAFB9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82C6-6B28-47E6-8C4B-8EFE596F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19E-53C9-4FF4-B521-61559B6A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BAC-0569-4AC2-BAF5-3D1429F4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7D2-E76B-4F24-9292-776D58C1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7AF-020E-48FB-B187-C7E4D907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F670-1F02-461C-B54B-E1FDFA84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2F5A-19A6-46EE-9826-B7E44A7A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8F7-A63E-4C3A-BAA9-D42E0275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33C4-817F-4234-8178-924CF960A1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Мои документы\Мои рисунки\Новая папка\Изображение 3 in Рыб3 copy.jpg"/>
          <p:cNvPicPr/>
          <p:nvPr/>
        </p:nvPicPr>
        <p:blipFill>
          <a:blip r:embed="rId1"/>
          <a:stretch/>
        </p:blipFill>
        <p:spPr>
          <a:xfrm>
            <a:off x="500040" y="-7920"/>
            <a:ext cx="4151160" cy="3008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767160" y="2133720"/>
            <a:ext cx="52603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0" spc="-1" strike="noStrike">
                <a:solidFill>
                  <a:srgbClr val="000000"/>
                </a:solidFill>
                <a:latin typeface="Chicago"/>
              </a:rPr>
              <a:t>РЫБЫ</a:t>
            </a:r>
            <a:endParaRPr b="1" lang="en-US" sz="13000" spc="-1" strike="noStrike">
              <a:solidFill>
                <a:srgbClr val="006600"/>
              </a:solidFill>
              <a:latin typeface="Chicago"/>
            </a:endParaRPr>
          </a:p>
        </p:txBody>
      </p:sp>
      <p:pic>
        <p:nvPicPr>
          <p:cNvPr id="43" name="Picture 2" descr="C:\Мои документы\Мои рисунки\Новая папка\Изображение 4 in Рыб11 copy.jpg"/>
          <p:cNvPicPr/>
          <p:nvPr/>
        </p:nvPicPr>
        <p:blipFill>
          <a:blip r:embed="rId2"/>
          <a:stretch/>
        </p:blipFill>
        <p:spPr>
          <a:xfrm>
            <a:off x="1928880" y="4500720"/>
            <a:ext cx="4173480" cy="34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Мои документы\Мои рисунки\Новая папка\Изображение 3 in Рыб10 copy.jpg"/>
          <p:cNvPicPr/>
          <p:nvPr/>
        </p:nvPicPr>
        <p:blipFill>
          <a:blip r:embed="rId1"/>
          <a:stretch/>
        </p:blipFill>
        <p:spPr>
          <a:xfrm>
            <a:off x="1981080" y="533520"/>
            <a:ext cx="2881440" cy="5181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640440" y="6032520"/>
            <a:ext cx="55634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ОРСКО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ОНЁК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Мои документы\Мои рисунки\Новая папка\Изображение 2 in Рыб4 copy.jpg"/>
          <p:cNvPicPr/>
          <p:nvPr/>
        </p:nvPicPr>
        <p:blipFill>
          <a:blip r:embed="rId1"/>
          <a:stretch/>
        </p:blipFill>
        <p:spPr>
          <a:xfrm>
            <a:off x="685800" y="533520"/>
            <a:ext cx="5638680" cy="4916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248120" y="5715000"/>
            <a:ext cx="45745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БЕЛАЯ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АКУЛ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Мои документы\Мои рисунки\Новая папка\Изображение 3 in Рыб3 copy.jpg"/>
          <p:cNvPicPr/>
          <p:nvPr/>
        </p:nvPicPr>
        <p:blipFill>
          <a:blip r:embed="rId1"/>
          <a:stretch/>
        </p:blipFill>
        <p:spPr>
          <a:xfrm>
            <a:off x="457200" y="1371600"/>
            <a:ext cx="5867280" cy="4251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-59040" y="7086600"/>
            <a:ext cx="7053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А-МЕЧ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Мои документы\Мои рисунки\Новая папка\Изображение 6 in Рыб2 copy.jpg"/>
          <p:cNvPicPr/>
          <p:nvPr/>
        </p:nvPicPr>
        <p:blipFill>
          <a:blip r:embed="rId1"/>
          <a:stretch/>
        </p:blipFill>
        <p:spPr>
          <a:xfrm>
            <a:off x="533520" y="1600200"/>
            <a:ext cx="5790960" cy="3548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716400" y="6032520"/>
            <a:ext cx="55634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ОРСКО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ЧЁРТ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Мои документы\Мои рисунки\Новая папка\Изображение 7 in Рыб9 copy.jpg"/>
          <p:cNvPicPr/>
          <p:nvPr/>
        </p:nvPicPr>
        <p:blipFill>
          <a:blip r:embed="rId1"/>
          <a:stretch/>
        </p:blipFill>
        <p:spPr>
          <a:xfrm>
            <a:off x="533520" y="2057400"/>
            <a:ext cx="5790960" cy="3730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133720" y="7086600"/>
            <a:ext cx="26082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КАТ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Мои документы\Мои рисунки\Новая папка\Изображение 6 in Рыб12 copy.jpg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2946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-494280" y="7086600"/>
            <a:ext cx="7876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БАРРАКУД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Мои документы\Мои рисунки\Новая папка\Изображение 8 in Рыб9 copy.jpg"/>
          <p:cNvPicPr/>
          <p:nvPr/>
        </p:nvPicPr>
        <p:blipFill>
          <a:blip r:embed="rId1"/>
          <a:stretch/>
        </p:blipFill>
        <p:spPr>
          <a:xfrm>
            <a:off x="1371600" y="609480"/>
            <a:ext cx="4307040" cy="5416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761760" y="6095880"/>
            <a:ext cx="54158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ОРСКАЯ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ОБА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Мои документы\Мои рисунки\Новая папка\Изображение 1 in Рыб4 copy.jpg"/>
          <p:cNvPicPr/>
          <p:nvPr/>
        </p:nvPicPr>
        <p:blipFill>
          <a:blip r:embed="rId1"/>
          <a:stretch/>
        </p:blipFill>
        <p:spPr>
          <a:xfrm>
            <a:off x="685800" y="838080"/>
            <a:ext cx="5562720" cy="42879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-857520" y="6019920"/>
            <a:ext cx="85046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БОЛЬШЕРОТЫ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УГОР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Мои документы\Мои рисунки\Новая папка\Изображение 10 in Рыб8 copy.jpg"/>
          <p:cNvPicPr/>
          <p:nvPr/>
        </p:nvPicPr>
        <p:blipFill>
          <a:blip r:embed="rId1"/>
          <a:stretch/>
        </p:blipFill>
        <p:spPr>
          <a:xfrm>
            <a:off x="533520" y="1371600"/>
            <a:ext cx="5790960" cy="3670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714600" y="5715000"/>
            <a:ext cx="5598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А-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АМЕН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Мои документы\Мои рисунки\Новая папка\Изображение 11 in Рыб7 copy.jpg"/>
          <p:cNvPicPr/>
          <p:nvPr/>
        </p:nvPicPr>
        <p:blipFill>
          <a:blip r:embed="rId1"/>
          <a:stretch/>
        </p:blipFill>
        <p:spPr>
          <a:xfrm>
            <a:off x="685800" y="1600200"/>
            <a:ext cx="5638680" cy="43941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-171360" y="7010280"/>
            <a:ext cx="7154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КОРПЕН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Мои документы\Мои рисунки\Новая папка\Untitled-23 copy.jpg"/>
          <p:cNvPicPr/>
          <p:nvPr/>
        </p:nvPicPr>
        <p:blipFill>
          <a:blip r:embed="rId1"/>
          <a:stretch/>
        </p:blipFill>
        <p:spPr>
          <a:xfrm>
            <a:off x="304920" y="2819520"/>
            <a:ext cx="6211800" cy="25318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752480" y="7086600"/>
            <a:ext cx="3102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ЩУ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Мои документы\Мои рисунки\Новая папка\Изображение 12 in Рыб7 copy.jpg"/>
          <p:cNvPicPr/>
          <p:nvPr/>
        </p:nvPicPr>
        <p:blipFill>
          <a:blip r:embed="rId1"/>
          <a:stretch/>
        </p:blipFill>
        <p:spPr>
          <a:xfrm>
            <a:off x="838080" y="838080"/>
            <a:ext cx="5257800" cy="45468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-580320" y="6019920"/>
            <a:ext cx="813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КОРОЛЕВСКИ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АНГЕЛ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Мои документы\Мои рисунки\Новая папка\Изображение 13 in Рыб6 copy.jpg"/>
          <p:cNvPicPr/>
          <p:nvPr/>
        </p:nvPicPr>
        <p:blipFill>
          <a:blip r:embed="rId1"/>
          <a:stretch/>
        </p:blipFill>
        <p:spPr>
          <a:xfrm>
            <a:off x="1523880" y="533520"/>
            <a:ext cx="3783240" cy="5105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71080" y="5715000"/>
            <a:ext cx="65588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А-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ПОПУГАЙ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Мои документы\Мои рисунки\Новая папка\Изображение 14 in Рыб6 copy.jpg"/>
          <p:cNvPicPr/>
          <p:nvPr/>
        </p:nvPicPr>
        <p:blipFill>
          <a:blip r:embed="rId1"/>
          <a:stretch/>
        </p:blipFill>
        <p:spPr>
          <a:xfrm>
            <a:off x="1447920" y="304920"/>
            <a:ext cx="3978000" cy="5638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-1117080" y="6019920"/>
            <a:ext cx="90687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АВРИТАНСКИ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ИДОЛ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Мои документы\Мои рисунки\Новая папка\Изображение 15 in Рыб5 copy.jpg"/>
          <p:cNvPicPr/>
          <p:nvPr/>
        </p:nvPicPr>
        <p:blipFill>
          <a:blip r:embed="rId1"/>
          <a:stretch/>
        </p:blipFill>
        <p:spPr>
          <a:xfrm>
            <a:off x="914400" y="838080"/>
            <a:ext cx="5091120" cy="5943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-381240" y="7086600"/>
            <a:ext cx="7777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ВОББЕГОНГ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Мои документы\Мои рисунки\Новая папка\Изображение 16 in Рыб5 copy.jpg"/>
          <p:cNvPicPr/>
          <p:nvPr/>
        </p:nvPicPr>
        <p:blipFill>
          <a:blip r:embed="rId1"/>
          <a:stretch/>
        </p:blipFill>
        <p:spPr>
          <a:xfrm>
            <a:off x="609480" y="1752480"/>
            <a:ext cx="5715000" cy="3948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-773640" y="7162920"/>
            <a:ext cx="841644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500" spc="-1" strike="noStrike">
                <a:solidFill>
                  <a:srgbClr val="000000"/>
                </a:solidFill>
                <a:latin typeface="Chicago"/>
              </a:rPr>
              <a:t>РЫБА-КЛОУН</a:t>
            </a:r>
            <a:endParaRPr b="1" lang="en-US" sz="95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Мои документы\Мои рисунки\Новая папка\Изображение 4 in Рыб3 copy.jpg"/>
          <p:cNvPicPr/>
          <p:nvPr/>
        </p:nvPicPr>
        <p:blipFill>
          <a:blip r:embed="rId1"/>
          <a:stretch/>
        </p:blipFill>
        <p:spPr>
          <a:xfrm>
            <a:off x="1523880" y="533520"/>
            <a:ext cx="3872160" cy="5105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44640" y="6032520"/>
            <a:ext cx="68101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ПЯТНИСТЫ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УГОР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Мои документы\Мои рисунки\Новая папка\Изображение 5 in Рыб12 copy.jpg"/>
          <p:cNvPicPr/>
          <p:nvPr/>
        </p:nvPicPr>
        <p:blipFill>
          <a:blip r:embed="rId1"/>
          <a:stretch/>
        </p:blipFill>
        <p:spPr>
          <a:xfrm>
            <a:off x="457200" y="1905120"/>
            <a:ext cx="5943600" cy="3381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-1176120" y="5943600"/>
            <a:ext cx="92181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АНДАРИНОВАЯ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Мои документы\Мои рисунки\Новая папка\Untitled-13 copy.jpg"/>
          <p:cNvPicPr/>
          <p:nvPr/>
        </p:nvPicPr>
        <p:blipFill>
          <a:blip r:embed="rId1"/>
          <a:stretch/>
        </p:blipFill>
        <p:spPr>
          <a:xfrm>
            <a:off x="457200" y="3200400"/>
            <a:ext cx="5943600" cy="2187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694800" y="708660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ФОРЕЛ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Мои документы\Мои рисунки\Новая папка\Изображение 4 in Рыб11 copy.jpg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4789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907920" y="7086600"/>
            <a:ext cx="4961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ТРЕС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Мои документы\Мои рисунки\Новая папка\Изображение 5 in Рыб2 copy.jpg"/>
          <p:cNvPicPr/>
          <p:nvPr/>
        </p:nvPicPr>
        <p:blipFill>
          <a:blip r:embed="rId1"/>
          <a:stretch/>
        </p:blipFill>
        <p:spPr>
          <a:xfrm>
            <a:off x="609480" y="1676520"/>
            <a:ext cx="5791320" cy="41893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-266400" y="7162920"/>
            <a:ext cx="7378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КУМБРИЯ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Мои документы\Мои рисунки\Новая папка\Изображение 1 in Рыб1 copy.jpg"/>
          <p:cNvPicPr/>
          <p:nvPr/>
        </p:nvPicPr>
        <p:blipFill>
          <a:blip r:embed="rId1"/>
          <a:stretch/>
        </p:blipFill>
        <p:spPr>
          <a:xfrm>
            <a:off x="914400" y="1143000"/>
            <a:ext cx="5181480" cy="4919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110600" y="7162920"/>
            <a:ext cx="4551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ГОЛЕЦ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Мои документы\Мои рисунки\Новая папка\Изображение 2 in Рыб10 copy.jpg"/>
          <p:cNvPicPr/>
          <p:nvPr/>
        </p:nvPicPr>
        <p:blipFill>
          <a:blip r:embed="rId1"/>
          <a:stretch/>
        </p:blipFill>
        <p:spPr>
          <a:xfrm>
            <a:off x="533520" y="2286000"/>
            <a:ext cx="5867280" cy="3538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284120" y="7086600"/>
            <a:ext cx="4350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УГОР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Мои документы\Мои рисунки\Новая папка\Изображение 9 in Рыб8 copy.jpg"/>
          <p:cNvPicPr/>
          <p:nvPr/>
        </p:nvPicPr>
        <p:blipFill>
          <a:blip r:embed="rId1"/>
          <a:stretch/>
        </p:blipFill>
        <p:spPr>
          <a:xfrm>
            <a:off x="609480" y="1828800"/>
            <a:ext cx="5715000" cy="2952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82880" y="5715000"/>
            <a:ext cx="6426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ЗОЛОТАЯ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Мои документы\Мои рисунки\Новая папка\Untitled-33 copy.jpg"/>
          <p:cNvPicPr/>
          <p:nvPr/>
        </p:nvPicPr>
        <p:blipFill>
          <a:blip r:embed="rId1"/>
          <a:stretch/>
        </p:blipFill>
        <p:spPr>
          <a:xfrm>
            <a:off x="457200" y="1752480"/>
            <a:ext cx="6046920" cy="3632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-302400" y="7086600"/>
            <a:ext cx="7447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ОЛЮШ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1:47:53Z</dcterms:created>
  <dc:creator>DIMA</dc:creator>
  <dc:description/>
  <dc:language>en-US</dc:language>
  <cp:lastModifiedBy>ОЕМ</cp:lastModifiedBy>
  <dcterms:modified xsi:type="dcterms:W3CDTF">2010-01-19T03:40:47Z</dcterms:modified>
  <cp:revision>9</cp:revision>
  <dc:subject/>
  <dc:title>Заголовок слайда отсутствует</dc:title>
</cp:coreProperties>
</file>