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EE6-5A5A-4CF1-B4CF-9352F51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E61-21CE-40E8-AA43-5775351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9B8-9CBA-4E11-B05A-D8CC79F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29E-3162-4381-AF0E-CE332910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640-5A3A-4A84-82CF-145F9E40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461-372B-4340-BBBD-5D92A43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BA8-7B45-4622-A9D3-CB1390C3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284-6467-48BB-9775-440D9F8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892-3CF4-4D30-83FE-6A54553C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D71-93BB-4BC4-AA9A-C60B5BA7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437-760B-4555-92CC-D31C2E5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77C-868B-477C-BB78-E11D371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522E-085A-4905-9558-0FBCACC9E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57120" y="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8240" y="357120"/>
            <a:ext cx="7589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storm</cp:lastModifiedBy>
  <dcterms:modified xsi:type="dcterms:W3CDTF">2010-01-19T13:14:01Z</dcterms:modified>
  <cp:revision>74</cp:revision>
  <dc:subject/>
  <dc:title>Слайд 1</dc:title>
</cp:coreProperties>
</file>