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F0D-1DB3-4C5B-9673-A65E0868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11F-B59D-47D4-9B9D-B1E05638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E54-AADE-4A07-A88F-6D942ADA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4BA-7818-4BD0-8EF5-6EFEED7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CE5-9A54-4A5B-9D1E-1CDD108A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E65-BBE2-40CB-A728-44153FD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9EF-22E6-473A-B744-DE75E415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CFD-DC86-4DB4-B9EE-8AAACA1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668-9299-4820-83E6-DD5955F4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F8F-7544-4E3F-B478-ED69D54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2FC-C9B4-4D8F-9B25-2BE5C06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73D-4A58-45A1-8D0F-6E963048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B66-5E1D-41BE-84FC-536FC012C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Автор стихов и рисунков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алентина Черня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АВН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ОЕМ</cp:lastModifiedBy>
  <dcterms:modified xsi:type="dcterms:W3CDTF">2010-01-20T07:50:26Z</dcterms:modified>
  <cp:revision>7</cp:revision>
  <dc:subject/>
  <dc:title>Автор стихов и рисунков Валентина Черняева</dc:title>
</cp:coreProperties>
</file>