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F13-940F-4D2C-8EB4-739B7956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D26-4A22-40E4-8996-41CD198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80A-6B7F-4697-AE26-09AFF5D2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24D-10A3-4C36-8B36-0010C210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2B5-5744-415B-8CC6-3F2E5B0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8C-800E-4BB0-9BA4-D1ADD763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B44-C3D5-4832-A177-03FB9230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F41-C0C4-499F-9A77-694F4AAC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CF6-170A-4B40-A93C-BD321D9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05F-ABCE-4C55-8AF0-7B05DA9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9FA-E47C-475C-9E73-C75CDCD9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045-7983-4BB7-A32F-B082073D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212-B7F4-4C79-AC1F-151F7DB0E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0" y="0"/>
            <a:ext cx="2195640" cy="2133720"/>
            <a:chOff x="0" y="0"/>
            <a:chExt cx="2195640" cy="2133720"/>
          </a:xfrm>
        </p:grpSpPr>
        <p:pic>
          <p:nvPicPr>
            <p:cNvPr id="45" name="Picture 12" descr="FLOWER2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956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13"/>
            <p:cNvSpPr txBox="1"/>
            <p:nvPr/>
          </p:nvSpPr>
          <p:spPr>
            <a:xfrm>
              <a:off x="772560" y="1149840"/>
              <a:ext cx="6786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WordArt 14"/>
            <p:cNvSpPr txBox="1"/>
            <p:nvPr/>
          </p:nvSpPr>
          <p:spPr>
            <a:xfrm>
              <a:off x="769680" y="723600"/>
              <a:ext cx="68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0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803_1071_4814_vnvv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storm</cp:lastModifiedBy>
  <dcterms:modified xsi:type="dcterms:W3CDTF">2010-04-03T04:42:11Z</dcterms:modified>
  <cp:revision>9</cp:revision>
  <dc:subject/>
  <dc:title>ЗАГАДКИ  ПРО ТРАНСПОРТ</dc:title>
</cp:coreProperties>
</file>