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43F-7A71-4891-A826-779A23E2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80B-1044-425B-BEE5-2F1CF802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8A2FA-EE0E-4A66-80B4-A352233D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02A1F-6F22-4199-B571-0E428A26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4CA40-2FC8-4FB3-BEDA-C30CABBB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62779-FD2D-4ED6-98B2-8C8886A4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F39DC-4093-4A8E-A478-9D743ED6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1D8E7-3EB3-4667-AF36-0F5BC813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2387D-DFC5-4C12-8F8F-0B0441BD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E47B2-4480-4C36-9D69-4648F942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CFA41-23A0-4952-BAB9-03627587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BED-9FF1-4A06-BF44-3F2CC026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92A-9D4F-4271-9FA9-02D13F5A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5214-2ADC-456B-B62E-1D93D7A2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3881-02BD-47DE-A019-A2901DBC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6BC9-4E8D-4393-A4AA-9678AA0B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D135-8B0B-45C6-89BE-D2AAB9EF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7834-55EC-49D9-AECE-7088E417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ED71-528F-46B6-A6FC-8ADA1E2D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A775-6690-4E79-A9EC-114A6FAC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DD7-B3DD-4CB0-AA8D-60256EA6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3A8A-2A7D-4086-9F40-A3DB21D4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A833-22D2-4275-ACE6-3095DC35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285F-8DEC-4C06-9D56-8741E7D7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A3F1-DB04-42CE-A34D-D7563EAA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A9B0-FF70-48E6-A629-A7BE6F78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2F4F6-0354-4316-9904-E32F95EC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2659-C73A-4B9B-A793-3EAFB6C5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1491-F6FE-4009-AB52-298D2144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6B2A-1C69-48FD-BF2F-B3F734C1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DFA41-4657-4B0B-91A4-20A3538A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EC7-22B8-4048-B8FB-B4EC7AA8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5C77D-A1C8-4BC2-85F7-A3E1BC14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EE24-D609-453B-A7CE-3DE36A38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D937A-A8EA-49AA-873F-3568760D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BBEB-3DF8-437B-B051-937C5BCA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ABD9-73BE-45B0-94A9-790E379A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15CE0-5E09-4309-BDA6-D8C19B42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D770-96EF-4F1B-BCE4-BEC8C4AF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DE568-0BE1-4388-BC34-432B456E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71962-C279-4E13-8F13-D8ECBA7F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C5781-D898-43BB-9C67-DE63162B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A0A-29C3-4069-850E-A9C725DE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3C48E-F971-4EFA-942D-0340EB50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F212-452D-45CF-B647-2967F4AD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71FC-EA7E-49C6-BA58-A0D1A9D3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3CFEF-6B42-43EA-B134-2E2BB2F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56114-8EB5-4796-B65E-08833C0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C501-A09A-4A03-A976-766AD0E6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43B7-C391-4F72-BEF2-CC6B22DD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5B72F-4DF8-460B-95B1-5489F73A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AFBF1-3015-44A5-8394-70B730DD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B152F-25E4-4C04-A2C8-FC0756EA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439-E0B8-4FE9-9AE3-E03FCD12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54147-06C2-4A87-A9DC-A09838B6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C28F9-C590-4ECA-AD54-74059DFB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4E01F-CB4D-41B1-8D46-4274689D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5FE6F-D28A-415B-8BA6-AC3E9E40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FF8DD-06DB-48D2-943B-AF57E8E7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14F7E-9DC8-485D-9770-16E7CAB1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24EC1-9E00-492C-B2F0-B1923E17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9E0EF-33B6-4C49-869F-189BB954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11C14-ED23-4FD8-9C40-450BFD0B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D2E84-1BE8-48FA-9A32-C00EF1A7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CC6-8706-41EB-8665-EFC477AC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F4C57-749C-4057-88EF-234FF859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04E44-A8CD-4996-950C-EBA01068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79664-ED9E-4F03-A090-3208343D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C256D-45F3-4C8E-B838-F64EABEC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F0D1-3A63-4696-BF1A-E1624F51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78438-C6C7-4B1A-96F8-CD8A21DE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16BF8-E822-4144-9FEA-7C1276A1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AC123-8747-4E69-92F0-854069A4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EF6F4-8960-446F-86B5-15B39B17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37474-6C17-425C-8F83-FB4D5D29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5F4-B4CD-4751-B44C-F5BC5F12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F0F46-F654-4ACB-97FF-4D8B82F6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52F9F-F77A-4578-91A0-9C849359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DF86F-AA68-4367-946E-F2F46FB4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E2B9C-8A86-497B-8F99-837B7C54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62AA8-9CA9-4EF6-90F2-479EA615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97E06-E90F-4DE6-9EA9-287690A4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C072E-5CF3-4CC2-A7EF-8905CF2D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4FB2D-B242-46DF-B260-B994DF62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0C599-D8FA-45B6-AE32-58D59876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45B9-8A10-4764-8E07-85556DAA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91E-E2BA-4075-9BE2-C4425F6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160B7-9213-4A59-996A-951657ED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2AB86-7039-49D0-990E-D29A02CF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4CA7F-57DF-4984-9D88-BF3F2998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54C3C-822F-4F66-8622-8DF48AFA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D7D54-3F85-4AF7-A0E1-A0050DAF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924F8-C215-4041-8314-916DECD5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2079C-D7BA-4CD5-B2A9-6120A53F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C9C06-A8BE-4FE1-8AF6-CDABF43F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C43C6-BDE8-4092-942F-B23138BF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EA372-F253-48BE-8117-FE0AFC95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9F5-3D00-4C7E-9E8A-6A0DE25A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F335D-5B9C-418F-8ABD-34E241DA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F415F-3E4E-4A06-B731-7ED391D2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AF057-0A7E-44BC-82D7-A524D0D4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6981B-6EF3-4B1F-8F0E-92E04EAA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A956D-B44F-476B-8B35-E6068530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9D50B-093E-4870-BEE1-417513CF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9E1F3-4F4F-43DE-B115-B236313A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4CE3C-EBCB-4999-B061-B6AD5B9F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9BD54-4A96-4E1E-BAB1-108E7411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39470-A50C-4913-B6B5-2A94A367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3924-4516-4688-AF5F-A256A2C75005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A998-C53D-4B02-918E-1B12BFB8F964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2796-E703-49D4-81FF-8119C6B2EABA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9293-F7AE-4A9C-BE87-62C437EAAB4B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9E29-8DE5-43E6-8C1C-744F152FD7D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17C8-0DCC-47CB-9791-42C193E03B5F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1316-0E22-4485-8F5C-75D586BA4E18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2698-ACC7-4688-9A15-0179A7F3BBD7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66BA-48B7-4EDE-9B90-4D72A14F66C6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image" Target="../media/image5.wmf"/><Relationship Id="rId4" Type="http://schemas.openxmlformats.org/officeDocument/2006/relationships/slide" Target="slide3.xml"/><Relationship Id="rId5" Type="http://schemas.openxmlformats.org/officeDocument/2006/relationships/image" Target="../media/image6.wmf"/><Relationship Id="rId6" Type="http://schemas.openxmlformats.org/officeDocument/2006/relationships/slide" Target="slide3.xml"/><Relationship Id="rId7" Type="http://schemas.openxmlformats.org/officeDocument/2006/relationships/image" Target="../media/image7.wmf"/><Relationship Id="rId8" Type="http://schemas.openxmlformats.org/officeDocument/2006/relationships/slide" Target="slide3.xml"/><Relationship Id="rId9" Type="http://schemas.openxmlformats.org/officeDocument/2006/relationships/image" Target="../media/image8.wmf"/><Relationship Id="rId10" Type="http://schemas.openxmlformats.org/officeDocument/2006/relationships/slide" Target="slide3.xml"/><Relationship Id="rId11" Type="http://schemas.openxmlformats.org/officeDocument/2006/relationships/image" Target="../media/image9.wmf"/><Relationship Id="rId12" Type="http://schemas.openxmlformats.org/officeDocument/2006/relationships/slide" Target="slide3.xml"/><Relationship Id="rId13" Type="http://schemas.openxmlformats.org/officeDocument/2006/relationships/image" Target="../media/image10.wmf"/><Relationship Id="rId14" Type="http://schemas.openxmlformats.org/officeDocument/2006/relationships/slide" Target="slide3.xml"/><Relationship Id="rId15" Type="http://schemas.openxmlformats.org/officeDocument/2006/relationships/image" Target="../media/image11.wmf"/><Relationship Id="rId16" Type="http://schemas.openxmlformats.org/officeDocument/2006/relationships/slide" Target="slide3.xml"/><Relationship Id="rId17" Type="http://schemas.openxmlformats.org/officeDocument/2006/relationships/image" Target="../media/image12.wmf"/><Relationship Id="rId18" Type="http://schemas.openxmlformats.org/officeDocument/2006/relationships/image" Target="../media/image4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image" Target="../media/image6.wmf"/><Relationship Id="rId7" Type="http://schemas.openxmlformats.org/officeDocument/2006/relationships/slide" Target="slide4.xml"/><Relationship Id="rId8" Type="http://schemas.openxmlformats.org/officeDocument/2006/relationships/image" Target="../media/image7.wmf"/><Relationship Id="rId9" Type="http://schemas.openxmlformats.org/officeDocument/2006/relationships/slide" Target="slide4.xml"/><Relationship Id="rId10" Type="http://schemas.openxmlformats.org/officeDocument/2006/relationships/image" Target="../media/image8.wmf"/><Relationship Id="rId11" Type="http://schemas.openxmlformats.org/officeDocument/2006/relationships/slide" Target="slide4.xml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slide" Target="slide4.xml"/><Relationship Id="rId15" Type="http://schemas.openxmlformats.org/officeDocument/2006/relationships/image" Target="../media/image11.wmf"/><Relationship Id="rId16" Type="http://schemas.openxmlformats.org/officeDocument/2006/relationships/slide" Target="slide4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3.xml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" Target="slide5.xml"/><Relationship Id="rId7" Type="http://schemas.openxmlformats.org/officeDocument/2006/relationships/image" Target="../media/image7.wmf"/><Relationship Id="rId8" Type="http://schemas.openxmlformats.org/officeDocument/2006/relationships/slide" Target="slide5.xml"/><Relationship Id="rId9" Type="http://schemas.openxmlformats.org/officeDocument/2006/relationships/image" Target="../media/image8.wmf"/><Relationship Id="rId10" Type="http://schemas.openxmlformats.org/officeDocument/2006/relationships/slide" Target="slide5.xml"/><Relationship Id="rId11" Type="http://schemas.openxmlformats.org/officeDocument/2006/relationships/image" Target="../media/image9.wmf"/><Relationship Id="rId12" Type="http://schemas.openxmlformats.org/officeDocument/2006/relationships/slide" Target="slide5.xml"/><Relationship Id="rId13" Type="http://schemas.openxmlformats.org/officeDocument/2006/relationships/image" Target="../media/image10.wmf"/><Relationship Id="rId14" Type="http://schemas.openxmlformats.org/officeDocument/2006/relationships/slide" Target="slide5.xml"/><Relationship Id="rId15" Type="http://schemas.openxmlformats.org/officeDocument/2006/relationships/image" Target="../media/image11.wmf"/><Relationship Id="rId16" Type="http://schemas.openxmlformats.org/officeDocument/2006/relationships/slide" Target="slide5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4.xml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" Target="slide6.xml"/><Relationship Id="rId6" Type="http://schemas.openxmlformats.org/officeDocument/2006/relationships/image" Target="../media/image6.wmf"/><Relationship Id="rId7" Type="http://schemas.openxmlformats.org/officeDocument/2006/relationships/slide" Target="slide6.xml"/><Relationship Id="rId8" Type="http://schemas.openxmlformats.org/officeDocument/2006/relationships/image" Target="../media/image7.wmf"/><Relationship Id="rId9" Type="http://schemas.openxmlformats.org/officeDocument/2006/relationships/slide" Target="slide6.xml"/><Relationship Id="rId10" Type="http://schemas.openxmlformats.org/officeDocument/2006/relationships/image" Target="../media/image8.wmf"/><Relationship Id="rId11" Type="http://schemas.openxmlformats.org/officeDocument/2006/relationships/slide" Target="slide6.xml"/><Relationship Id="rId12" Type="http://schemas.openxmlformats.org/officeDocument/2006/relationships/image" Target="../media/image9.wmf"/><Relationship Id="rId13" Type="http://schemas.openxmlformats.org/officeDocument/2006/relationships/slide" Target="slide6.xml"/><Relationship Id="rId14" Type="http://schemas.openxmlformats.org/officeDocument/2006/relationships/image" Target="../media/image10.wmf"/><Relationship Id="rId15" Type="http://schemas.openxmlformats.org/officeDocument/2006/relationships/slide" Target="slide6.xml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5.xml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" Target="slide7.xml"/><Relationship Id="rId4" Type="http://schemas.openxmlformats.org/officeDocument/2006/relationships/image" Target="../media/image5.wmf"/><Relationship Id="rId5" Type="http://schemas.openxmlformats.org/officeDocument/2006/relationships/slide" Target="slide7.xml"/><Relationship Id="rId6" Type="http://schemas.openxmlformats.org/officeDocument/2006/relationships/image" Target="../media/image6.wmf"/><Relationship Id="rId7" Type="http://schemas.openxmlformats.org/officeDocument/2006/relationships/slide" Target="slide7.xml"/><Relationship Id="rId8" Type="http://schemas.openxmlformats.org/officeDocument/2006/relationships/image" Target="../media/image7.wmf"/><Relationship Id="rId9" Type="http://schemas.openxmlformats.org/officeDocument/2006/relationships/slide" Target="slide7.xml"/><Relationship Id="rId10" Type="http://schemas.openxmlformats.org/officeDocument/2006/relationships/image" Target="../media/image8.wmf"/><Relationship Id="rId11" Type="http://schemas.openxmlformats.org/officeDocument/2006/relationships/slide" Target="slide7.xml"/><Relationship Id="rId12" Type="http://schemas.openxmlformats.org/officeDocument/2006/relationships/image" Target="../media/image9.wmf"/><Relationship Id="rId13" Type="http://schemas.openxmlformats.org/officeDocument/2006/relationships/slide" Target="slide7.xml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slide" Target="slide7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6.xml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TextBox 3"/>
          <p:cNvGrpSpPr/>
          <p:nvPr/>
        </p:nvGrpSpPr>
        <p:grpSpPr>
          <a:xfrm>
            <a:off x="1182600" y="1073160"/>
            <a:ext cx="6693120" cy="2114640"/>
            <a:chOff x="1182600" y="1073160"/>
            <a:chExt cx="6693120" cy="2114640"/>
          </a:xfrm>
        </p:grpSpPr>
        <p:pic>
          <p:nvPicPr>
            <p:cNvPr id="400" name="TextBox 3" descr=""/>
            <p:cNvPicPr/>
            <p:nvPr/>
          </p:nvPicPr>
          <p:blipFill>
            <a:blip r:embed="rId1"/>
            <a:stretch/>
          </p:blipFill>
          <p:spPr>
            <a:xfrm>
              <a:off x="1182600" y="1073160"/>
              <a:ext cx="66931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285920" y="1285920"/>
              <a:ext cx="6491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вивающая игр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Найди такой же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4"/>
          <p:cNvSpPr/>
          <p:nvPr/>
        </p:nvSpPr>
        <p:spPr>
          <a:xfrm>
            <a:off x="1466280" y="40719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Franklin Gothic Book"/>
              </a:rPr>
              <a:t>Цель: развитие вни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1071720" y="1428840"/>
            <a:ext cx="700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кажи в таблице  тот предм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торый изображен с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ответ верный, ты услышишь аплодисмент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перейти к следующему заданию, кликни левую кнопку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13" descr="J0215358.WMF"/>
          <p:cNvPicPr/>
          <p:nvPr/>
        </p:nvPicPr>
        <p:blipFill>
          <a:blip r:embed="rId1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4" descr="J0215360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5" descr="J0215361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29240" y="114300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29240" y="428616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2" descr="J0215358.WMF"/>
          <p:cNvPicPr/>
          <p:nvPr/>
        </p:nvPicPr>
        <p:blipFill>
          <a:blip r:embed="rId18"/>
          <a:stretch/>
        </p:blipFill>
        <p:spPr>
          <a:xfrm>
            <a:off x="857160" y="2214720"/>
            <a:ext cx="1627200" cy="2301840"/>
          </a:xfrm>
          <a:prstGeom prst="rect">
            <a:avLst/>
          </a:prstGeom>
          <a:ln w="0">
            <a:noFill/>
          </a:ln>
        </p:spPr>
      </p:pic>
      <p:pic>
        <p:nvPicPr>
          <p:cNvPr id="423" name="j0214098.wav" descr=""/>
          <p:cNvPicPr/>
          <p:nvPr/>
        </p:nvPicPr>
        <p:blipFill>
          <a:blip r:embed="rId19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745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4286160"/>
            <a:ext cx="1530000" cy="11304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0760" y="1214280"/>
            <a:ext cx="1149120" cy="10051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92880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414324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19" descr="J0215163.WMF"/>
          <p:cNvPicPr/>
          <p:nvPr/>
        </p:nvPicPr>
        <p:blipFill>
          <a:blip r:embed="rId13"/>
          <a:stretch/>
        </p:blipFill>
        <p:spPr>
          <a:xfrm>
            <a:off x="6572160" y="257184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86080" y="2714760"/>
            <a:ext cx="1201680" cy="111096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4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3" descr="J0215163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00040" y="2286000"/>
            <a:ext cx="2252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14920" y="4214880"/>
            <a:ext cx="1530360" cy="11304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5" descr="J0215361.WMF"/>
          <p:cNvPicPr/>
          <p:nvPr/>
        </p:nvPicPr>
        <p:blipFill>
          <a:blip r:embed="rId5"/>
          <a:stretch/>
        </p:blipFill>
        <p:spPr>
          <a:xfrm>
            <a:off x="3500280" y="442908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929120" y="271476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29240" y="1143000"/>
            <a:ext cx="1202040" cy="111132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50088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6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22" descr="J02153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85840" y="2143080"/>
            <a:ext cx="26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21488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29120" y="1214280"/>
            <a:ext cx="1149480" cy="100512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100008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000760" y="4286160"/>
            <a:ext cx="1071360" cy="11588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929120" y="264312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20" descr="J0215161.WM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21" descr="J0215368.WMF"/>
          <p:cNvPicPr/>
          <p:nvPr/>
        </p:nvPicPr>
        <p:blipFill>
          <a:blip r:embed="rId17"/>
          <a:stretch/>
        </p:blipFill>
        <p:spPr>
          <a:xfrm>
            <a:off x="357192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8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23" descr="J0215368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42960" y="2000160"/>
            <a:ext cx="1901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745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0" descr="J0215161.WMF"/>
          <p:cNvPicPr/>
          <p:nvPr/>
        </p:nvPicPr>
        <p:blipFill>
          <a:blip r:embed="rId15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0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2" descr="J02151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28760" y="2571840"/>
            <a:ext cx="2396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45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Рисунок 13" descr="J0215358.WMF"/>
          <p:cNvPicPr/>
          <p:nvPr/>
        </p:nvPicPr>
        <p:blipFill>
          <a:blip r:embed="rId1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14" descr="J0215360.WMF"/>
          <p:cNvPicPr/>
          <p:nvPr/>
        </p:nvPicPr>
        <p:blipFill>
          <a:blip r:embed="rId2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5" descr="J0215361.WMF"/>
          <p:cNvPicPr/>
          <p:nvPr/>
        </p:nvPicPr>
        <p:blipFill>
          <a:blip r:embed="rId3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6" descr="J0215362.WMF"/>
          <p:cNvPicPr/>
          <p:nvPr/>
        </p:nvPicPr>
        <p:blipFill>
          <a:blip r:embed="rId4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7" descr="J0215363.WMF"/>
          <p:cNvPicPr/>
          <p:nvPr/>
        </p:nvPicPr>
        <p:blipFill>
          <a:blip r:embed="rId5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18" descr="J0215155.WMF"/>
          <p:cNvPicPr/>
          <p:nvPr/>
        </p:nvPicPr>
        <p:blipFill>
          <a:blip r:embed="rId6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19" descr="J0215163.WMF"/>
          <p:cNvPicPr/>
          <p:nvPr/>
        </p:nvPicPr>
        <p:blipFill>
          <a:blip r:embed="rId7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0" descr="J0215161.WMF"/>
          <p:cNvPicPr/>
          <p:nvPr/>
        </p:nvPicPr>
        <p:blipFill>
          <a:blip r:embed="rId8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21" descr="J0215368.WMF"/>
          <p:cNvPicPr/>
          <p:nvPr/>
        </p:nvPicPr>
        <p:blipFill>
          <a:blip r:embed="rId9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22" name="j0214098.wav" descr=""/>
          <p:cNvPicPr/>
          <p:nvPr/>
        </p:nvPicPr>
        <p:blipFill>
          <a:blip r:embed="rId10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23" descr="J0215363.WMF"/>
          <p:cNvPicPr/>
          <p:nvPr/>
        </p:nvPicPr>
        <p:blipFill>
          <a:blip r:embed="rId11"/>
          <a:stretch/>
        </p:blipFill>
        <p:spPr>
          <a:xfrm>
            <a:off x="0" y="2571840"/>
            <a:ext cx="2543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83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84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extBox 2" descr=""/>
          <p:cNvPicPr/>
          <p:nvPr/>
        </p:nvPicPr>
        <p:blipFill>
          <a:blip r:embed="rId1"/>
          <a:stretch/>
        </p:blipFill>
        <p:spPr>
          <a:xfrm>
            <a:off x="2382840" y="1895400"/>
            <a:ext cx="3968640" cy="1451160"/>
          </a:xfrm>
          <a:prstGeom prst="rect">
            <a:avLst/>
          </a:prstGeom>
          <a:ln w="0">
            <a:noFill/>
          </a:ln>
        </p:spPr>
      </p:pic>
      <p:sp>
        <p:nvSpPr>
          <p:cNvPr id="525" name="TextBox 3"/>
          <p:cNvSpPr/>
          <p:nvPr/>
        </p:nvSpPr>
        <p:spPr>
          <a:xfrm>
            <a:off x="2128680" y="5072040"/>
            <a:ext cx="45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Автор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4:47:34Z</dcterms:created>
  <dc:creator>ОЕМ</dc:creator>
  <dc:description/>
  <dc:language>en-US</dc:language>
  <cp:lastModifiedBy>ОЕМ</cp:lastModifiedBy>
  <dcterms:modified xsi:type="dcterms:W3CDTF">2010-01-20T06:37:55Z</dcterms:modified>
  <cp:revision>15</cp:revision>
  <dc:subject/>
  <dc:title>Слайд 1</dc:title>
</cp:coreProperties>
</file>