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3B84-911E-49F8-8822-51466D17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579-7024-4783-A0A6-07488E6A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A4C9-5D46-45D8-A599-E99713E5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C439-6391-4CBD-A0D7-50C702ED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7A65-D219-454E-BE4E-13727BB6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BC1B-EC72-4127-966D-BE186546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ABF3-9476-4E6B-A0E9-568D19DD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2BEE-87A9-4188-859B-3B50B4BE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563F-55C8-4827-95C7-3FF9178B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7FE0-8055-46BE-B875-C630F962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E76B-7EB6-46E9-B70D-AD794347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34F3-1911-4383-85D6-C169A225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0E9A-42B2-4548-BE8D-D117B9868F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72F9-A320-477C-9D87-A59631D6AB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435640" y="4946040"/>
            <a:ext cx="3024000" cy="4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Изображение 14 in Насек11 copy"/>
          <p:cNvPicPr/>
          <p:nvPr/>
        </p:nvPicPr>
        <p:blipFill>
          <a:blip r:embed="rId1"/>
          <a:stretch/>
        </p:blipFill>
        <p:spPr>
          <a:xfrm>
            <a:off x="5000760" y="3714840"/>
            <a:ext cx="380988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Untitled-2 copy"/>
          <p:cNvPicPr/>
          <p:nvPr/>
        </p:nvPicPr>
        <p:blipFill>
          <a:blip r:embed="rId2"/>
          <a:stretch/>
        </p:blipFill>
        <p:spPr>
          <a:xfrm rot="9371400">
            <a:off x="544320" y="445680"/>
            <a:ext cx="26762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CCF3-9058-4038-B125-A020D75194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ечности для хва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ногих насекомых имеются хватательные конечности, которые используют для борьбы с соперниками или для ловчи добычи. Сильными передними конечностями богомол крепко держит добычу, когда её пое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3"/>
          <p:cNvPicPr/>
          <p:nvPr/>
        </p:nvPicPr>
        <p:blipFill>
          <a:blip r:embed="rId1"/>
          <a:stretch/>
        </p:blipFill>
        <p:spPr>
          <a:xfrm>
            <a:off x="4865760" y="1600200"/>
            <a:ext cx="3601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8650-8757-4159-A69E-0F29D17EBC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жные но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о другим насекомым, гусеницы имеют три пары ног на груди. Кроме того, у них есть пять пар ложных ножек на брюшке. Эти ложные ножки представляют собой четыре пары брюшных мускульных выростов с маленькими крючками на концах и пару анальных ножек, снабженных присосками. Брюшные ножки и присоски помогают гусеницам прицепляться к листьям и стеб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332000" y="3500280"/>
            <a:ext cx="69134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9CEE-1D81-4A94-B0C4-2076EB720D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ылья и по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укообразные не умеют летать, а насекомые умеют. Способность летать позволяет им спасаться от хищников и совершать дальние путешествия в поисках пищи или партнера. У большинства насекомых имеются две пары крылье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AC30-97C6-4360-BA24-85667BA9A5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ние крылья жуков, например, майского жука, превратились в жесткие защитные чехлы для крыльев. Для полетов жуки пользуются только задними крыльями, которые спрятаны свернутыми под надкрыльями, пока не наступит время взлете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3429000"/>
            <a:ext cx="2458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е прозрачные крылья дают возможность достигать поразительно высокой скор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587640" y="2781000"/>
            <a:ext cx="2243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крылья поднимаются вверх и раздвигаются в стороны во время пол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Изображение 14 in Насек11 copy"/>
          <p:cNvPicPr/>
          <p:nvPr/>
        </p:nvPicPr>
        <p:blipFill>
          <a:blip r:embed="rId1"/>
          <a:stretch/>
        </p:blipFill>
        <p:spPr>
          <a:xfrm>
            <a:off x="2916360" y="34290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7C9E-ED39-4DDF-90A6-BE8560AA29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471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сший пилотаж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 чтобы быстро и ровно лететь, стрекозы машут четырьмя крыльями. А взмахивая попеременно то передними, то задними крыльями, они могут проделывать удивительные акробатические номера, быстро меняя направлена полета, неподвижно зависая в воздухе и даже летать задом напе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2098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лагодаря сети жилок крылья очень прочны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732720" y="4724280"/>
            <a:ext cx="1954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ышцы груди заставляют крылья подниматься и опускать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Untitled-2 copy"/>
          <p:cNvPicPr/>
          <p:nvPr/>
        </p:nvPicPr>
        <p:blipFill>
          <a:blip r:embed="rId1"/>
          <a:stretch/>
        </p:blipFill>
        <p:spPr>
          <a:xfrm>
            <a:off x="2843280" y="2708280"/>
            <a:ext cx="3944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8AEF-1E17-4E91-8373-7CFA811A07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ужжальца му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ух задние крылья превращены в небольшие булавовидные придат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жжальца. Во время полета они поднимаются и опускаются, создавая противовес основным крыльям. Жужжальца служат стабилизаторами полета и ролями. Без них муха не могла бы ле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4861080" y="1557360"/>
            <a:ext cx="38750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32B1-FC0D-403D-908D-A82F3257A6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ленистоногое с шестью конечностями и телом, разделенным на три отде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у, грудь и брюшко, называется насекомым. Известно более миллиона видов насекомых, населяющих все среды обита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26920" y="1671480"/>
            <a:ext cx="79218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A169-4DFA-4FF6-A620-314B73764D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атомия насекомы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груди насекомого имеются три пары конечностей и две пары крыльев (насекомы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ые беспозвоночные, которые умеют летать). В брюшке расположено сердце, пищеварительные и половые органы. На голове находятся глаза и усики, а также ро­товой аппарат, который может иметь разную форму в зависимости 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о, чем насекомое питается. Губчатый или трубчатый ротовой аппарат приспособлен для всасывания жидкой пищи, а крепкие че­люсти нужны, чтобы крошить добыч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B902-0909-4E96-A145-CE47F35A48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ротового аппа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95280" y="2133720"/>
            <a:ext cx="83534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3E42-108F-433E-B381-43ED198510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ь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сеница выползает из своей старой шкур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превратиться во взрослую особь, молодое насекомое вынуждено линять - сбрасывать свой твердый наружный скел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нескольку раз в течение жизни. Под стар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уется новый; когда насекомое готово к линьке, старый покров лопается, и насекомое выбирается наружу. У некоторых личинок насекомых, например, у гусениц, наружные оболочки мягкие. Гусеницы тоже линяют несколько раз, пока не станут взрослыми и у них не образуется твердый наруж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, как у бабочек и мо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1767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D55B-BCB2-4CC1-9769-8DDB0876A9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ганы чув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насекомых и пауков есть усики и маленькие чувствительные волоски, которыми они различают запахи, вкус, вибрации и звуки. У большинства есть глаза, но, чтобы ориентироваться в окружающей среде, зрение для них менее важно, чем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4466-9A96-47FA-8A2E-EE7AA8AA38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ус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ки помогают насекомым ориентироваться в окружающей среде. Они чувствительны к прикосновениям и вибрациям, а также к переносимым по воздуху запахам. У некоторых усиков имеются многочисленные боковые отростки, которые увеличивают поверхность, покрытую чувствительными ячейками и волосками. У паукообразных нет усиков, но их функции выполняют волоски, покрывающие т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3280" y="3573360"/>
            <a:ext cx="1770120" cy="2519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659640" y="3573360"/>
            <a:ext cx="2327040" cy="2637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651640" y="1052640"/>
            <a:ext cx="2592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1E77-2720-4244-8E85-484BCF844B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ги и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 и пауки используют свои членистые ноги для прыганья, хождения, бега и для многих других целей. У сверчков, например, на коленях рас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ожены уши, а самцы кузнечиков «поют» песни самкам, потирая крылья задними конечностя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0563-3925-475C-B22D-7CA361603C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н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3816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ги насекомых различаются в соответствии с их использованием. У таракана длинные тонкие конечности приспособлены для бега, а медведка своими широкими мощными ногами роет землю. Водяные жуки плавают в воде, отталкиваясь своими похожими на весла ногами, окаймленными волосками, а волоски на ногах пчелы собирают пыль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516720" y="1557360"/>
            <a:ext cx="2347920" cy="3600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211640" y="1268280"/>
            <a:ext cx="22273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2:52:47Z</dcterms:created>
  <dc:creator>Temp</dc:creator>
  <dc:description/>
  <dc:language>en-US</dc:language>
  <cp:lastModifiedBy>ОЕМ</cp:lastModifiedBy>
  <dcterms:modified xsi:type="dcterms:W3CDTF">2010-01-19T03:42:38Z</dcterms:modified>
  <cp:revision>9</cp:revision>
  <dc:subject/>
  <dc:title>НАСЕКОМЫЕ</dc:title>
</cp:coreProperties>
</file>