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5.wmf" ContentType="image/x-wmf"/>
  <Override PartName="/ppt/media/image15.jpeg" ContentType="image/jpeg"/>
  <Override PartName="/ppt/media/image21.jpeg" ContentType="image/jpeg"/>
  <Override PartName="/ppt/media/image6.wmf" ContentType="image/x-wmf"/>
  <Override PartName="/ppt/media/image31.wmf" ContentType="image/x-wmf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22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4.wmf" ContentType="image/x-wmf"/>
  <Override PartName="/ppt/media/image11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14.png" ContentType="image/png"/>
  <Override PartName="/ppt/media/image16.png" ContentType="image/png"/>
  <Override PartName="/ppt/media/image18.jpeg" ContentType="image/jpeg"/>
  <Override PartName="/ppt/media/image20.png" ContentType="image/png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572-C46C-47D7-981B-F40A4EDCF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2D6-F124-4B40-A96D-A25C87D09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8F1B-A29F-47DB-BFC9-4B1E9E5F5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30D9-DD7A-4D2B-AD93-A2EAB7EEA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E5A4-1ED2-4088-87BA-077A3D2F5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3D01-4F60-49A0-AA44-E9119A29D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F86-FF25-4521-B59A-21F09E325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5E04-153E-4CF0-BE79-DC2384399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FFE3-77AA-4970-9F1F-FC66FFA44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8542-8071-467B-9580-B43AE02AF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4BB-16F5-460F-9B4A-08D9BF245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DC8B-AFED-46FF-992E-37ED5D692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1D3C-3542-4FFD-BE18-0B6C66E05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2662-5C7A-4A7C-8E4E-B1ACDDE00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94EC-DA1A-4E68-9A80-1F164EEC7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F060-70AB-4D94-BF65-C21BC9808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08F-3BF3-4337-8392-56E610214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046-6493-4CFB-ABEA-4861363FA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B699-AD7D-482C-A8E0-08DA1BA7F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3081-807B-43B4-B76E-A3DD82994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194F-ACF4-4F21-ABE2-2474B47DF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CA98-9370-46BD-9FD0-5879EF5F3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3A9A-8D40-48B3-9C0D-A51C67E75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E2DC-F7C0-449F-815C-623511146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F2AA-3F02-44E3-8849-DC107E212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D340-733E-43ED-A469-68EB12D37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9C9-8774-4EFD-84EA-1DB45C5D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517-F24C-4005-BBDE-9A874FE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4D4-09AC-4CFE-9D2B-B32FFC12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372-2271-4E45-8E4E-F2137F66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2DE-7FBD-4301-BA21-5561AF0A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A76-AAD1-4470-B736-19395956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B18-5BBF-472F-B8EB-8272FCB4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F8B-FA78-4ADC-90E7-F854934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FCA-DF62-4FB7-B614-60A269B1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9B6-54AE-43E8-975E-A534DC62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D06-4A23-4EE2-BCEB-9F813054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F42-0164-4F07-A579-738D3A24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8C81-5203-494A-B0AC-558D3DBC4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50A2-8FFF-41E2-B771-3B17586E4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cccc"/>
                </a:solidFill>
                <a:uFillTx/>
                <a:latin typeface="Century Gothic"/>
              </a:rPr>
              <a:t>СУ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48769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утках есть утро, день, вечер,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ки это 24 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часть суток длится примерно одинаково - по 6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Mj03368630000[1]"/>
          <p:cNvPicPr/>
          <p:nvPr/>
        </p:nvPicPr>
        <p:blipFill>
          <a:blip r:embed="rId1"/>
          <a:stretch/>
        </p:blipFill>
        <p:spPr>
          <a:xfrm>
            <a:off x="6858000" y="1341360"/>
            <a:ext cx="160488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85345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7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43CD-FE43-4A16-9BF3-F31251C9F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солнце находится в зените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высоко- высоко в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sunny_sun"/>
          <p:cNvPicPr/>
          <p:nvPr/>
        </p:nvPicPr>
        <p:blipFill>
          <a:blip r:embed="rId1"/>
          <a:stretch/>
        </p:blipFill>
        <p:spPr>
          <a:xfrm>
            <a:off x="1981080" y="326880"/>
            <a:ext cx="556272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594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8DB8-F1AA-43C6-A281-946FB154A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у мамы очень много 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usy_mom_1"/>
          <p:cNvPicPr/>
          <p:nvPr/>
        </p:nvPicPr>
        <p:blipFill>
          <a:blip r:embed="rId1"/>
          <a:stretch/>
        </p:blipFill>
        <p:spPr>
          <a:xfrm>
            <a:off x="2666880" y="533520"/>
            <a:ext cx="4454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87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1D43-50A0-42CE-92AD-958FF2080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ети днем гуляют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building_a_snowman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396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4"/>
          <p:cNvPicPr/>
          <p:nvPr/>
        </p:nvPicPr>
        <p:blipFill>
          <a:blip r:embed="rId2"/>
          <a:stretch/>
        </p:blipFill>
        <p:spPr>
          <a:xfrm>
            <a:off x="0" y="1295280"/>
            <a:ext cx="4419720" cy="38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9" name="Text Box 13"/>
          <p:cNvSpPr/>
          <p:nvPr/>
        </p:nvSpPr>
        <p:spPr>
          <a:xfrm>
            <a:off x="990720" y="5410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791320" y="5334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3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325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253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918D-DBE3-4A98-8F83-1586AF900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дают обычно с 2 до 3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MCj04132620000[1]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460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85345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419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BBD2-16A3-48F6-BC8F-73C78EB91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сле обеда, маленькие дети ложатся спать, чтобы набраться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DSC04114"/>
          <p:cNvPicPr/>
          <p:nvPr/>
        </p:nvPicPr>
        <p:blipFill>
          <a:blip r:embed="rId1"/>
          <a:stretch/>
        </p:blipFill>
        <p:spPr>
          <a:xfrm>
            <a:off x="2438280" y="380880"/>
            <a:ext cx="4186440" cy="514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585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D096-B4DF-4B33-A9C4-32CFD00ED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87656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ВЕЧ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981080" y="579132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ья часть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 начинается в 17 часов и заканчивается в 2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030905 082"/>
          <p:cNvPicPr/>
          <p:nvPr/>
        </p:nvPicPr>
        <p:blipFill>
          <a:blip r:embed="rId1"/>
          <a:stretch/>
        </p:blipFill>
        <p:spPr>
          <a:xfrm>
            <a:off x="1447920" y="304920"/>
            <a:ext cx="6953040" cy="463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842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6C25-DDA4-48E9-95CA-60E6E6AD7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папа приходит с работы, вся семья в с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apyhome"/>
          <p:cNvPicPr/>
          <p:nvPr/>
        </p:nvPicPr>
        <p:blipFill>
          <a:blip r:embed="rId1">
            <a:grayscl/>
          </a:blip>
          <a:stretch/>
        </p:blipFill>
        <p:spPr>
          <a:xfrm>
            <a:off x="2666880" y="228600"/>
            <a:ext cx="425160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87631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62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31DF-F0DA-40E9-A30F-8D6A0B4D70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ают примерно в 7 часов ве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DSC04565"/>
          <p:cNvPicPr/>
          <p:nvPr/>
        </p:nvPicPr>
        <p:blipFill>
          <a:blip r:embed="rId1"/>
          <a:stretch/>
        </p:blipFill>
        <p:spPr>
          <a:xfrm>
            <a:off x="1981080" y="304920"/>
            <a:ext cx="541044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345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C302-5BEA-43BB-8BDF-A244D7247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це приближается к горизонту- это время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SC04045"/>
          <p:cNvPicPr/>
          <p:nvPr/>
        </p:nvPicPr>
        <p:blipFill>
          <a:blip r:embed="rId1"/>
          <a:stretch/>
        </p:blipFill>
        <p:spPr>
          <a:xfrm>
            <a:off x="914400" y="2239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6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EA2E-6C2B-42E3-A7E1-1A8343D73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сном все обязательно куп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MCj00889360000[1]"/>
          <p:cNvPicPr/>
          <p:nvPr/>
        </p:nvPicPr>
        <p:blipFill>
          <a:blip r:embed="rId1"/>
          <a:stretch/>
        </p:blipFill>
        <p:spPr>
          <a:xfrm>
            <a:off x="2590920" y="304920"/>
            <a:ext cx="4417920" cy="495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868680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333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724280"/>
            <a:ext cx="7848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У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вая часть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ачинается в 5 часов и заканчивается в 11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1571730000[1]"/>
          <p:cNvPicPr/>
          <p:nvPr/>
        </p:nvPicPr>
        <p:blipFill>
          <a:blip r:embed="rId1"/>
          <a:stretch/>
        </p:blipFill>
        <p:spPr>
          <a:xfrm>
            <a:off x="1676520" y="152280"/>
            <a:ext cx="6400800" cy="451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59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7B79-1FDE-4EBD-826C-101A6B2C0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5627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ы любишь куп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MMj0283628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1981080" cy="196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MCj03573850000[1]"/>
          <p:cNvPicPr/>
          <p:nvPr/>
        </p:nvPicPr>
        <p:blipFill>
          <a:blip r:embed="rId2"/>
          <a:stretch/>
        </p:blipFill>
        <p:spPr>
          <a:xfrm>
            <a:off x="5791320" y="358128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SC00115"/>
          <p:cNvPicPr/>
          <p:nvPr/>
        </p:nvPicPr>
        <p:blipFill>
          <a:blip r:embed="rId3"/>
          <a:stretch/>
        </p:blipFill>
        <p:spPr>
          <a:xfrm>
            <a:off x="304920" y="1066680"/>
            <a:ext cx="5257800" cy="394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Picture 12" descr=""/>
          <p:cNvPicPr/>
          <p:nvPr/>
        </p:nvPicPr>
        <p:blipFill>
          <a:blip r:embed="rId4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39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95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8AE2-AF21-47EB-BCC9-283D754BB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, перед сном дети любят читать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kartinki"/>
          <p:cNvPicPr/>
          <p:nvPr/>
        </p:nvPicPr>
        <p:blipFill>
          <a:blip r:embed="rId1"/>
          <a:stretch/>
        </p:blipFill>
        <p:spPr>
          <a:xfrm>
            <a:off x="4724280" y="2438280"/>
            <a:ext cx="415296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0" name="Picture 9" descr="noviygod-garmoniya 071"/>
          <p:cNvPicPr/>
          <p:nvPr/>
        </p:nvPicPr>
        <p:blipFill>
          <a:blip r:embed="rId2"/>
          <a:stretch/>
        </p:blipFill>
        <p:spPr>
          <a:xfrm>
            <a:off x="457200" y="457200"/>
            <a:ext cx="395604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46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690"/>
                            </p:stCondLst>
                            <p:childTnLst>
                              <p:par>
                                <p:cTn id="1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036A-ABD3-4D9D-8CD7-DC660DD74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60958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 начинается в 23 часа и продолжается до 5 часов у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lun"/>
          <p:cNvPicPr/>
          <p:nvPr/>
        </p:nvPicPr>
        <p:blipFill>
          <a:blip r:embed="rId1"/>
          <a:stretch/>
        </p:blipFill>
        <p:spPr>
          <a:xfrm>
            <a:off x="1447920" y="228600"/>
            <a:ext cx="6400800" cy="506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966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4DFA-CD6E-4549-8047-CE395BBB1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5867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солнышко спит, а на небе светят Луна и 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MPj01789760000[1]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5637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MCj03189040000[1]"/>
          <p:cNvPicPr/>
          <p:nvPr/>
        </p:nvPicPr>
        <p:blipFill>
          <a:blip r:embed="rId2"/>
          <a:stretch/>
        </p:blipFill>
        <p:spPr>
          <a:xfrm>
            <a:off x="3581280" y="533520"/>
            <a:ext cx="15192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562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4549-180A-4CB5-A920-A2390099E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зажигают фонари. От огней на улице становится светло, как д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MG_2404"/>
          <p:cNvPicPr/>
          <p:nvPr/>
        </p:nvPicPr>
        <p:blipFill>
          <a:blip r:embed="rId1"/>
          <a:stretch/>
        </p:blipFill>
        <p:spPr>
          <a:xfrm>
            <a:off x="304920" y="1447920"/>
            <a:ext cx="5257800" cy="35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Picture 17" descr="IMG_2382"/>
          <p:cNvPicPr/>
          <p:nvPr/>
        </p:nvPicPr>
        <p:blipFill>
          <a:blip r:embed="rId2"/>
          <a:stretch/>
        </p:blipFill>
        <p:spPr>
          <a:xfrm>
            <a:off x="5791320" y="685800"/>
            <a:ext cx="3166920" cy="475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6" name="Picture 18" descr=""/>
          <p:cNvPicPr/>
          <p:nvPr/>
        </p:nvPicPr>
        <p:blipFill>
          <a:blip r:embed="rId3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84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BB3-BE32-43C8-92E9-3466697E1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все люди ложатся 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sleepy"/>
          <p:cNvPicPr/>
          <p:nvPr/>
        </p:nvPicPr>
        <p:blipFill>
          <a:blip r:embed="rId1"/>
          <a:stretch/>
        </p:blipFill>
        <p:spPr>
          <a:xfrm>
            <a:off x="2362320" y="533520"/>
            <a:ext cx="4800600" cy="472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326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2EA2-D013-4A8C-ACB7-45F1C55FD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люди любят встреч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В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вые солнечны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j00904430000[1]"/>
          <p:cNvPicPr/>
          <p:nvPr/>
        </p:nvPicPr>
        <p:blipFill>
          <a:blip r:embed="rId1"/>
          <a:stretch/>
        </p:blipFill>
        <p:spPr>
          <a:xfrm>
            <a:off x="1295280" y="457200"/>
            <a:ext cx="7239240" cy="5226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66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3607-81CE-4F32-A4F4-0A875872F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ышко поднимается над землей, это время называетс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лнце вс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утроъ"/>
          <p:cNvPicPr/>
          <p:nvPr/>
        </p:nvPicPr>
        <p:blipFill>
          <a:blip r:embed="rId1"/>
          <a:stretch/>
        </p:blipFill>
        <p:spPr>
          <a:xfrm>
            <a:off x="1752480" y="228600"/>
            <a:ext cx="5867640" cy="519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14" descr=""/>
          <p:cNvPicPr/>
          <p:nvPr/>
        </p:nvPicPr>
        <p:blipFill>
          <a:blip r:embed="rId2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84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E093-E4AC-45B6-94C8-4BC1EF9C7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1956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 просыпаются люди.            Доброе утро, Малыш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MCPE06995_0000[1]"/>
          <p:cNvPicPr/>
          <p:nvPr/>
        </p:nvPicPr>
        <p:blipFill>
          <a:blip r:embed="rId1"/>
          <a:stretch/>
        </p:blipFill>
        <p:spPr>
          <a:xfrm>
            <a:off x="1295280" y="990720"/>
            <a:ext cx="4267440" cy="384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hild_with_Mother_3"/>
          <p:cNvPicPr/>
          <p:nvPr/>
        </p:nvPicPr>
        <p:blipFill>
          <a:blip r:embed="rId2"/>
          <a:stretch/>
        </p:blipFill>
        <p:spPr>
          <a:xfrm>
            <a:off x="6851520" y="3581280"/>
            <a:ext cx="16718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49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C24-01C6-4226-A61D-0CD15147E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ы чистишь зубы по ут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oothbrush"/>
          <p:cNvPicPr/>
          <p:nvPr/>
        </p:nvPicPr>
        <p:blipFill>
          <a:blip r:embed="rId1"/>
          <a:stretch/>
        </p:blipFill>
        <p:spPr>
          <a:xfrm>
            <a:off x="1447920" y="1371600"/>
            <a:ext cx="634824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8610480" y="701028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89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73BC-7C08-4B9E-AEA4-1F184FEC5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все завтракают. Взрослые идут на работу, а дети в садик или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utout_cookies"/>
          <p:cNvPicPr/>
          <p:nvPr/>
        </p:nvPicPr>
        <p:blipFill>
          <a:blip r:embed="rId1"/>
          <a:stretch/>
        </p:blipFill>
        <p:spPr>
          <a:xfrm>
            <a:off x="1523880" y="228600"/>
            <a:ext cx="6705720" cy="514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02B6-7854-4128-85A4-4F4CFA21A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ы еще совсем маленький, мама остается с тобой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mom_toddler"/>
          <p:cNvPicPr/>
          <p:nvPr/>
        </p:nvPicPr>
        <p:blipFill>
          <a:blip r:embed="rId1"/>
          <a:stretch/>
        </p:blipFill>
        <p:spPr>
          <a:xfrm>
            <a:off x="2971800" y="1066680"/>
            <a:ext cx="3414600" cy="359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63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5549-AE08-4528-8455-EFFE2FFDC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4800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27477286"/>
          <p:cNvPicPr/>
          <p:nvPr/>
        </p:nvPicPr>
        <p:blipFill>
          <a:blip r:embed="rId1"/>
          <a:stretch/>
        </p:blipFill>
        <p:spPr>
          <a:xfrm>
            <a:off x="1523880" y="228600"/>
            <a:ext cx="6365880" cy="477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2057400" y="60199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торая часть суток – самая основная. Продолжительность дня с 11  до 17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44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3:57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