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13F-EF83-4F85-A40D-24EA4A19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FFC-4F78-4956-BFF1-68F46CCD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1CF-6D29-4092-98C5-AE4DCE30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C3D-147A-4EC8-92B5-22C2F140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5A2-BD9D-4137-8774-D7A81226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87F-BA0E-47B8-A247-88404EB9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433-2F5E-49FF-BC69-D803A2D0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9EF-9131-4DFD-81E6-25427BD5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B11-27F0-440E-AFD8-481CB96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3FE-D508-418F-84D7-E513940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2B7-4E58-43A5-AE0B-6C7FC86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BCC-A149-4B56-87F9-574FB8C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551-3A0A-4F30-BD38-1C9037E84B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11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4.xm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4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8.xml"/><Relationship Id="rId7" Type="http://schemas.openxmlformats.org/officeDocument/2006/relationships/image" Target="../media/image16.jpeg"/><Relationship Id="rId8" Type="http://schemas.openxmlformats.org/officeDocument/2006/relationships/slide" Target="slide8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9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328680" y="969840"/>
            <a:ext cx="824868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1633680" y="3260880"/>
            <a:ext cx="6016320" cy="75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иппопотам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4714920"/>
            <a:ext cx="193824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белка"/>
          <p:cNvPicPr/>
          <p:nvPr/>
        </p:nvPicPr>
        <p:blipFill>
          <a:blip r:embed="rId5"/>
          <a:stretch/>
        </p:blipFill>
        <p:spPr>
          <a:xfrm>
            <a:off x="3214800" y="4286160"/>
            <a:ext cx="1296720" cy="140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НОСОРОГ"/>
          <p:cNvPicPr/>
          <p:nvPr/>
        </p:nvPicPr>
        <p:blipFill>
          <a:blip r:embed="rId6"/>
          <a:stretch/>
        </p:blipFill>
        <p:spPr>
          <a:xfrm>
            <a:off x="6715080" y="428616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ла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4572000"/>
            <a:ext cx="176868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рокодил"/>
          <p:cNvPicPr/>
          <p:nvPr/>
        </p:nvPicPr>
        <p:blipFill>
          <a:blip r:embed="rId4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слон"/>
          <p:cNvPicPr/>
          <p:nvPr/>
        </p:nvPicPr>
        <p:blipFill>
          <a:blip r:embed="rId5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лень"/>
          <p:cNvPicPr/>
          <p:nvPr/>
        </p:nvPicPr>
        <p:blipFill>
          <a:blip r:embed="rId6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 flipV="1">
            <a:off x="3214440" y="3714480"/>
            <a:ext cx="31438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иппопотам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лев"/>
          <p:cNvPicPr/>
          <p:nvPr/>
        </p:nvPicPr>
        <p:blipFill>
          <a:blip r:embed="rId6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бабуин"/>
          <p:cNvPicPr/>
          <p:nvPr/>
        </p:nvPicPr>
        <p:blipFill>
          <a:blip r:embed="rId7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65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V="1">
            <a:off x="2999160" y="2142720"/>
            <a:ext cx="328716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1" descr=""/>
          <p:cNvPicPr/>
          <p:nvPr/>
        </p:nvPicPr>
        <p:blipFill>
          <a:blip r:embed="rId1"/>
          <a:stretch/>
        </p:blipFill>
        <p:spPr>
          <a:xfrm>
            <a:off x="2457360" y="1554120"/>
            <a:ext cx="45230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733480" y="52149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порядку, начиная с первого животного, нужно найти его силуэт во втором столбце, и кликнуть по нему левой кнопкой мы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" name="TextBox 12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ама"/>
          <p:cNvPicPr/>
          <p:nvPr/>
        </p:nvPicPr>
        <p:blipFill>
          <a:blip r:embed="rId4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белка"/>
          <p:cNvPicPr/>
          <p:nvPr/>
        </p:nvPicPr>
        <p:blipFill>
          <a:blip r:embed="rId5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носорог"/>
          <p:cNvPicPr/>
          <p:nvPr/>
        </p:nvPicPr>
        <p:blipFill>
          <a:blip r:embed="rId6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 flipV="1">
            <a:off x="2999160" y="1642320"/>
            <a:ext cx="364428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3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46:15Z</dcterms:created>
  <dc:creator>ОЕМ</dc:creator>
  <dc:description/>
  <dc:language>en-US</dc:language>
  <cp:lastModifiedBy>ОЕМ</cp:lastModifiedBy>
  <dcterms:modified xsi:type="dcterms:W3CDTF">2010-01-20T06:21:59Z</dcterms:modified>
  <cp:revision>13</cp:revision>
  <dc:subject/>
  <dc:title>Слайд 1</dc:title>
</cp:coreProperties>
</file>