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237C-83D8-4EC1-B412-25C130CB4D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9C8-F7A0-47F9-836E-CEE37A3F1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E5CC-74F9-486E-8E31-F1864827E7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A084-3B73-44C4-8487-CD94D6507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6367-E866-494F-A403-08B440C8C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094-798F-4FFF-BA43-9F0743A76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A38-B612-4C9A-B25C-2931A6857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6218-A894-4BB0-A865-2B7F9BAD0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71D-1C72-42FD-B10A-03435072E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812-0820-4F43-B0C3-1A5D1B746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913-D430-4A21-9E5A-E2E951759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B8F-5360-4AC3-8CA5-C355A996D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6A8F-CF0E-4E86-ADBF-AFCAEE5AF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FED1-CC8B-4245-A3F5-E536AF397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1AE-14F8-4519-91EA-576096530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C95-8FF4-4498-BB72-78833C11D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BC01-520F-4847-B849-1F849B15F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E7C-5700-414D-9D31-16C79E585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9F3-48C6-49EA-B35F-B1943C6E5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0EB-D4B5-4208-9CF1-9CBDDED50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748E-B9D2-4895-950E-FB54E91C3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2F97-7566-4101-A557-2279F7E8C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C2C1-FD25-410A-99A1-969CE5C3A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425-2019-40EC-867A-499963E82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433-1794-4625-86C2-FBA5474DA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B2F-DF99-46CF-AFD8-43C632F47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8371-30E9-49A8-A7AE-1D9B0F290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602-79F8-4DEF-94C1-9D87EB63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842-6CC0-46A6-8DBC-D0F9DBE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CB9-5EE8-4184-9C6D-7B51FFB2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40C-A5D2-4339-9C65-7B832EF4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998-5C8B-4F02-AF5F-6DB936E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D51-2170-47D2-94D5-66CBEEE9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37C-6FE1-46DA-AEE7-A8A35EBD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ED1-7190-462A-B833-456C768D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5CC-DC34-45A5-B6B6-75005C53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7C8-B0C4-4D7C-A9FA-E11A267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4F5-DB8C-4FFD-929E-91B406A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BDA-ACD2-44C7-82EF-7292132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CCF-03C6-486C-B1C8-2F2A378FE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cc"/>
                </a:solidFill>
                <a:uFillTx/>
                <a:latin typeface="Arial"/>
              </a:rPr>
              <a:t>МОЙ Д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G_7356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65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альчики играют в 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_7434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5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 люблю играть в песочн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MG_7301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89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еру с собой ведерко, совочек, формочки, машинки для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IMG_7296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33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5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озиться в песке любят даже м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_7430"/>
          <p:cNvPicPr/>
          <p:nvPr/>
        </p:nvPicPr>
        <p:blipFill>
          <a:blip r:embed="rId1"/>
          <a:stretch/>
        </p:blipFill>
        <p:spPr>
          <a:xfrm>
            <a:off x="1523880" y="1461960"/>
            <a:ext cx="6705720" cy="528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хочешь быть сильным, нужно подтягиваться на тур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7431"/>
          <p:cNvPicPr/>
          <p:nvPr/>
        </p:nvPicPr>
        <p:blipFill>
          <a:blip r:embed="rId1"/>
          <a:stretch/>
        </p:blipFill>
        <p:spPr>
          <a:xfrm>
            <a:off x="1676520" y="1447920"/>
            <a:ext cx="5987880" cy="52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5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лестница, если залезть высоко, то можно увидеть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G_7408"/>
          <p:cNvPicPr/>
          <p:nvPr/>
        </p:nvPicPr>
        <p:blipFill>
          <a:blip r:embed="rId1"/>
          <a:stretch/>
        </p:blipFill>
        <p:spPr>
          <a:xfrm>
            <a:off x="2666880" y="1295280"/>
            <a:ext cx="386244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7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ожно увидеть голубей и вороб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7372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525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рослые выгуливают со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IMG_7429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49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5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ы гуляют сами п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G_7386"/>
          <p:cNvPicPr/>
          <p:nvPr/>
        </p:nvPicPr>
        <p:blipFill>
          <a:blip r:embed="rId1"/>
          <a:stretch/>
        </p:blipFill>
        <p:spPr>
          <a:xfrm>
            <a:off x="1295280" y="1371600"/>
            <a:ext cx="7162920" cy="53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ядом с домом есть магазин, где мы покупаем 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_7383"/>
          <p:cNvPicPr/>
          <p:nvPr/>
        </p:nvPicPr>
        <p:blipFill>
          <a:blip r:embed="rId1"/>
          <a:stretch/>
        </p:blipFill>
        <p:spPr>
          <a:xfrm>
            <a:off x="1770120" y="1600200"/>
            <a:ext cx="6383160" cy="515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14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й дом, здесь я жи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_7436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4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сор потом выбрасываем в специальные 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7370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5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о дворе есть фонтанчик, где плавают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MG_7240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25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4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растут разны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IMG_7381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50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902664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ы - ромашки  и  одув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G_7252"/>
          <p:cNvPicPr/>
          <p:nvPr/>
        </p:nvPicPr>
        <p:blipFill>
          <a:blip r:embed="rId1"/>
          <a:stretch/>
        </p:blipFill>
        <p:spPr>
          <a:xfrm>
            <a:off x="228600" y="1981080"/>
            <a:ext cx="4952880" cy="417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Picture 8" descr="MCj01228530000[1]"/>
          <p:cNvPicPr/>
          <p:nvPr/>
        </p:nvPicPr>
        <p:blipFill>
          <a:blip r:embed="rId2"/>
          <a:stretch/>
        </p:blipFill>
        <p:spPr>
          <a:xfrm>
            <a:off x="5178600" y="1752480"/>
            <a:ext cx="39654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3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растение -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7388"/>
          <p:cNvPicPr/>
          <p:nvPr/>
        </p:nvPicPr>
        <p:blipFill>
          <a:blip r:embed="rId1"/>
          <a:stretch/>
        </p:blipFill>
        <p:spPr>
          <a:xfrm>
            <a:off x="1523880" y="1371600"/>
            <a:ext cx="6340680" cy="534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9144000" y="6740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юблю свой дв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IMG_7356"/>
          <p:cNvPicPr/>
          <p:nvPr/>
        </p:nvPicPr>
        <p:blipFill>
          <a:blip r:embed="rId1"/>
          <a:stretch/>
        </p:blipFill>
        <p:spPr>
          <a:xfrm>
            <a:off x="304920" y="1415880"/>
            <a:ext cx="853416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4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мои соседи, они тоже живут в этом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7374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35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я детская площ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7390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15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 всего я люблю кач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7359"/>
          <p:cNvPicPr/>
          <p:nvPr/>
        </p:nvPicPr>
        <p:blipFill>
          <a:blip r:embed="rId1"/>
          <a:stretch/>
        </p:blipFill>
        <p:spPr>
          <a:xfrm>
            <a:off x="1828800" y="1371600"/>
            <a:ext cx="5630760" cy="524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902664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ли бываю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G_7392"/>
          <p:cNvPicPr/>
          <p:nvPr/>
        </p:nvPicPr>
        <p:blipFill>
          <a:blip r:embed="rId1"/>
          <a:stretch/>
        </p:blipFill>
        <p:spPr>
          <a:xfrm>
            <a:off x="1219320" y="1371600"/>
            <a:ext cx="688320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ы любишь кач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G_7399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539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высокая г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_740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е здорово скатываться вн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_7405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527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7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