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573-6109-4422-A9F4-E2512EB2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AC7-A38D-4642-A152-013FE990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3A0-8BD9-49D3-9A28-8A8B3233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84E-CB9A-44E5-91ED-EA2F0465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165-50FF-4D02-95BD-EF6E96A3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292-24FC-4F30-83C5-4FC4BAE0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AB4-D76D-4F55-A62E-9CCD945C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19E-5B2E-409B-A874-E188F57F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4E2-44A0-414E-A047-18E7D5B3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785-8AB0-4998-A8F3-FAFF4812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55B-C944-4283-ACCD-F8EAE6E9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A1D3-3CB7-4BA4-A858-348319E7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08C7-5BCB-437C-91EC-5A4F7AF071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5643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О КОСМОС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643040" y="142920"/>
            <a:ext cx="57150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521460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й огромной, 18-метровой кегле создаются перегрузки, которые космонавт испытывает во время полета. Сама она вращается по кругу, голова ее тоже вращается, внутри головы вращается кабина, а внутри кабины вращается кресло с космонав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643040" y="642960"/>
            <a:ext cx="605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3840" y="9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проводятся тренировки под водой, станцию вместе с платформой, подготавливаемыми космонавтами и водолазами опускают под воду, в гидробассей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286160" y="285840"/>
            <a:ext cx="411336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50560" y="5373360"/>
            <a:ext cx="59756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работают в гидробассе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20760" y="1143000"/>
            <a:ext cx="4489200" cy="357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000760" y="1143000"/>
            <a:ext cx="35226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71432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более 30 лет все космонавты готовясь к полету, к невесомости, тренируются в, так называемой, "летающей лаборатории". Это основной тренажер для отработки навыков работы в отсутствии притяжения к Зем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4929120" y="7142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живут космонавты в рак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нет воздуха, чтобы дышать, там нет воды, тем более там нет еды. Всё это загружается в космический корабль на земле и затем расходуется в полёте. В космосе ничего нет, кроме пустоты и солнечного света. Именно свет питает космический корабль через солнечные батар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1305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13840" y="1000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рабле, все предметы, в том числе животные, находятся в состоянии невесомости. На земле все предметы обладают весом, они притягиваются к земной поверхности. В космосе этого нет. Внутри космического корабля все предметы закреплены на специальных держател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аче бы они все л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Рабочий стол\Новая папка (3)\m13.jpg"/>
          <p:cNvPicPr/>
          <p:nvPr/>
        </p:nvPicPr>
        <p:blipFill>
          <a:blip r:embed="rId1"/>
          <a:stretch/>
        </p:blipFill>
        <p:spPr>
          <a:xfrm>
            <a:off x="4572000" y="357120"/>
            <a:ext cx="40370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429080" y="428760"/>
            <a:ext cx="4500720" cy="6000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56760" y="178596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ежда космонавта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фанд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осмонавты     надевают при запуске и спуске ракеты, когда выходят в открытый космо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57120" y="0"/>
            <a:ext cx="1219176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68240" y="357120"/>
            <a:ext cx="7589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571400" y="5571720"/>
            <a:ext cx="69721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запуске и спуске  ракеты космонавты ложатся в специальное «Лож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5008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2560" y="100008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с давних времен люди стали думать над вопросами: «Что такое космос? Если жизнь на других планетах кроме планеты Земл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гда ученые и конструкторы создали первый космический корабль «Восток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мический корабль – это сложная техническая система. И прежде чем посадить в него человека технику надо прове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3733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едят космонав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535788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ят космонавты продукты питания, которые хранятся в консервированном виде. Перед использованием консервы и тюбики разогревают, а пакеты с первым и вторым блюдами, разводят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214880" y="1500120"/>
            <a:ext cx="3838680" cy="221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28760" y="450072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они пробыли  всего один день и  удачно приземлились на Зем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2286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840" y="485784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России космосом интересовались так же и американцы. Они так же использовали животных для испытания новой ракетной техники. Первой в Америке, на ракете «Рэд-Стоун», в космос полетела обезья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71840" y="100008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480" y="4357440"/>
            <a:ext cx="86439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"Восток«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в мире космический корабль с человеком на борту ворвался в простор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лен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2071800" y="428760"/>
            <a:ext cx="530856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космонавт  Юрий Гагарин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3786480" cy="55548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85840" y="15717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смическом корабле Восток-1 старший лейтенант Юрий Алексеевич Гагарин один раз облетел вокруг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готовятся космонавты к полет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320" y="5857560"/>
            <a:ext cx="8072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тренировок космонавтов используют тренажер – центрифугу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953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storm</cp:lastModifiedBy>
  <dcterms:modified xsi:type="dcterms:W3CDTF">2010-01-19T13:14:01Z</dcterms:modified>
  <cp:revision>74</cp:revision>
  <dc:subject/>
  <dc:title>Слайд 1</dc:title>
</cp:coreProperties>
</file>