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CCC-9F86-46C1-BB66-56196B91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24A-2297-4025-AB84-C8FEA9A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36A-7D76-494D-98C1-A0D32D0D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B94-4096-49E3-9210-C1BE192F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9D0D-1483-425F-A5E6-3FDAE14D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255-E9FC-4AB9-A742-5ACBAE7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5C2C-851A-41E2-9F55-753D2DA2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2584-4635-4C2A-B56F-DDA37CB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599-731F-4177-99B1-1C12457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7CAA-AC23-429D-980B-01325EC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9A2D-7166-4236-809E-7BF671BD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B8A-E704-4F4F-9586-BCE78DB1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699-50EA-47D3-BD96-9EEFF4A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DA60-659C-4D6B-BABC-2F27C6E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F129-77A5-4456-B037-3520440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888-9A83-4969-A75B-39668C5F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3EE-B31C-4847-99BB-FD15EBF6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862-8374-40FB-B1D1-CF074458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C14-617D-4DC2-AEC1-08B296CC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3A-6B97-419E-AE1B-E23B9370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794-1204-4648-9698-BA4E3F2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C55-1B2F-486B-A278-F6BD6D1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296-3B0C-478C-AF5E-A5A06E6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00C-55B1-4D5F-A428-5D8F89FD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3EB-B36C-4AB9-8644-D35014D58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179-1E64-4270-9509-84FF2510F0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П Р О Ф Е С С И И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0451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Книгу перевороши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мотай себе на ус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се работы хорош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ыбир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вкус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В.В.Маяк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«Кем быть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6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 О К Т О Р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4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8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2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6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С М Е Н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1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5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Х У Д О Ж Н И 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3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7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1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5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9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Ш В Е Я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6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60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4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8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Engineer</cp:lastModifiedBy>
  <dcterms:modified xsi:type="dcterms:W3CDTF">2006-04-06T05:30:05Z</dcterms:modified>
  <cp:revision>31</cp:revision>
  <dc:subject/>
  <dc:title>Х У Д О Ж Н И К</dc:title>
</cp:coreProperties>
</file>