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15.wmf" ContentType="image/x-wmf"/>
  <Override PartName="/ppt/media/image7.png" ContentType="image/png"/>
  <Override PartName="/ppt/media/image6.wmf" ContentType="image/x-wmf"/>
  <Override PartName="/ppt/media/image31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10.jpeg" ContentType="image/jpeg"/>
  <Override PartName="/ppt/media/image13.wmf" ContentType="image/x-wmf"/>
  <Override PartName="/ppt/media/image30.wmf" ContentType="image/x-wmf"/>
  <Override PartName="/ppt/media/image3.png" ContentType="image/png"/>
  <Override PartName="/ppt/media/image33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2.png" ContentType="image/png"/>
  <Override PartName="/ppt/media/image1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26A2-21CF-41E9-9194-0D6DD39488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BC9E-5755-4F7D-95C0-AD86BAE6B5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64A4-78AD-48CE-9FA1-EC652663B2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59E0-6498-4DC9-ADDA-0CCC43462C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C087-2729-444E-8DA5-310FAA7AC2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E21E-3870-4A4D-B2E3-508A1E4C78D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0179-5997-4F0E-8505-B255F5FB62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56C2-D0F0-43FA-9B6C-CBEDE87EB4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8759-DE6F-4401-A95F-AAFB5FF9776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E275-FBC4-4BA6-9E53-6C9135F044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B882-A9BC-41A3-8472-EB9326469C4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5986-60F0-43BA-A91A-D45ED07A16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3905-DD11-4242-A575-0FA083054F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7971-9D28-4CB1-AE8D-49D17A8F756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713E-6990-4F45-9C08-22E1227D20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CBAA-8026-4AEF-911F-CCD6096E8D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277E-5A71-431D-839F-A521921D68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7A2E-7259-4FED-B4C6-D4283991F1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BA1F-5874-48F4-A775-DDB01CA79D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3B8A-5F95-41A6-8C7D-514FC5965B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5E86-BA08-4380-81CC-3C2E911D1F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A5F9-709B-4295-8007-7388FD2076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2815-4F07-4BC9-A93E-51B0C02131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BA16-7F6B-4DB5-8238-B730485558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3B1C-5637-43F2-886F-A31A9E4839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6824-2164-42A8-A5E2-8C130F2F14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2F10-0369-42D7-94DB-FD1DA7FE107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D6BB-E723-4129-B8DC-0783EB9CF4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E5D3-44C1-41EE-8FD7-FA6F6E44A89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4CE2-F347-453D-BFD2-60289BB34B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8CC8-A8DD-47F2-AD59-B7EF294E99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CB9F-88CC-409D-B845-4BB87AF16F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4359-4A97-463C-B39A-6576950FA8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F12B-CC97-4BA8-8ABC-B7FCE3FEE5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85E-DD8E-47C5-B30C-2A3F9D6F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7336-CD77-4EBB-BC3B-08C8B505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3908-765D-4947-9649-28A445A1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89A-3948-49D2-AC8A-EF59D823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934F-AD9E-4DEF-8E75-EB69D1EB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1EC-1326-40AA-B3D8-2F281FFB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4A2-8BF2-4B55-86FB-DB8009CB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9E9-B5A1-4909-9452-5DE3DDE8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AD1D-1D8C-4BBA-A7B6-F2A9A8D5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77D-81C5-4087-9740-0A045642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E027-3B8C-4D4A-A566-0135B1DB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DCB4-04F0-4CE7-BF1F-14ACCEED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FDFD-45D1-4D9C-90FD-756653A5AF9B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Arial Black"/>
              </a:rPr>
              <a:t>ПРЕДМЕТЫ В ДОМЕ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5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УТЮГ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868680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SHMBSA-02103"/>
          <p:cNvPicPr/>
          <p:nvPr/>
        </p:nvPicPr>
        <p:blipFill>
          <a:blip r:embed="rId2"/>
          <a:stretch/>
        </p:blipFill>
        <p:spPr>
          <a:xfrm>
            <a:off x="2438280" y="1523880"/>
            <a:ext cx="4672080" cy="46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77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ГЛАДИЛЬНАЯ ДОС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000803_1073_7399_vnvv"/>
          <p:cNvPicPr/>
          <p:nvPr/>
        </p:nvPicPr>
        <p:blipFill>
          <a:blip r:embed="rId2"/>
          <a:stretch/>
        </p:blipFill>
        <p:spPr>
          <a:xfrm>
            <a:off x="1523880" y="1981080"/>
            <a:ext cx="6249960" cy="398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644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ВЕ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5" descr="000803_1067_5151_vnvv"/>
          <p:cNvPicPr/>
          <p:nvPr/>
        </p:nvPicPr>
        <p:blipFill>
          <a:blip r:embed="rId1"/>
          <a:stretch/>
        </p:blipFill>
        <p:spPr>
          <a:xfrm>
            <a:off x="2209680" y="1523880"/>
            <a:ext cx="5257800" cy="501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776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ШКАТУЛ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000803_1052_7923_vuvv"/>
          <p:cNvPicPr/>
          <p:nvPr/>
        </p:nvPicPr>
        <p:blipFill>
          <a:blip r:embed="rId2"/>
          <a:stretch/>
        </p:blipFill>
        <p:spPr>
          <a:xfrm>
            <a:off x="2057400" y="1676520"/>
            <a:ext cx="5129280" cy="421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196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ОНТ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5" descr="hhca007j"/>
          <p:cNvPicPr/>
          <p:nvPr/>
        </p:nvPicPr>
        <p:blipFill>
          <a:blip r:embed="rId1"/>
          <a:srcRect l="13769" t="7678" r="0" b="0"/>
          <a:stretch/>
        </p:blipFill>
        <p:spPr>
          <a:xfrm>
            <a:off x="1600200" y="1219320"/>
            <a:ext cx="4794120" cy="5113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35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ОДЕЯЛО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6" descr="000803_1053_0383_vuvv"/>
          <p:cNvPicPr/>
          <p:nvPr/>
        </p:nvPicPr>
        <p:blipFill>
          <a:blip r:embed="rId1"/>
          <a:stretch/>
        </p:blipFill>
        <p:spPr>
          <a:xfrm>
            <a:off x="1371600" y="1523880"/>
            <a:ext cx="6221520" cy="4680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6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ЕНТИЛЯТО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5" descr="SHMSWA-021694"/>
          <p:cNvPicPr/>
          <p:nvPr/>
        </p:nvPicPr>
        <p:blipFill>
          <a:blip r:embed="rId1"/>
          <a:stretch/>
        </p:blipFill>
        <p:spPr>
          <a:xfrm>
            <a:off x="2895480" y="1523880"/>
            <a:ext cx="4570560" cy="5027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ВЕТИЛЬН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6" descr="liberty_lamp"/>
          <p:cNvPicPr/>
          <p:nvPr/>
        </p:nvPicPr>
        <p:blipFill>
          <a:blip r:embed="rId1"/>
          <a:stretch/>
        </p:blipFill>
        <p:spPr>
          <a:xfrm>
            <a:off x="3124080" y="1676520"/>
            <a:ext cx="3232440" cy="4486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29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НИЖНАЯ ПОЛ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5" descr="000803_1052_7902_vuvv"/>
          <p:cNvPicPr/>
          <p:nvPr/>
        </p:nvPicPr>
        <p:blipFill>
          <a:blip r:embed="rId1"/>
          <a:stretch/>
        </p:blipFill>
        <p:spPr>
          <a:xfrm>
            <a:off x="635040" y="2286000"/>
            <a:ext cx="8508960" cy="3679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62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АЗ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6" descr="000803_1067_5154_vnvv"/>
          <p:cNvPicPr/>
          <p:nvPr/>
        </p:nvPicPr>
        <p:blipFill>
          <a:blip r:embed="rId1"/>
          <a:stretch/>
        </p:blipFill>
        <p:spPr>
          <a:xfrm>
            <a:off x="2514600" y="1905120"/>
            <a:ext cx="4572000" cy="435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822960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757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ЛЮЧИ  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" name="Picture 7" descr="keyring"/>
          <p:cNvPicPr/>
          <p:nvPr/>
        </p:nvPicPr>
        <p:blipFill>
          <a:blip r:embed="rId1"/>
          <a:stretch/>
        </p:blipFill>
        <p:spPr>
          <a:xfrm>
            <a:off x="2438280" y="22860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7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ЕРКАЛО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Picture 6" descr="SHMSWA-021605"/>
          <p:cNvPicPr/>
          <p:nvPr/>
        </p:nvPicPr>
        <p:blipFill>
          <a:blip r:embed="rId1"/>
          <a:srcRect l="0" t="0" r="0" b="44170"/>
          <a:stretch/>
        </p:blipFill>
        <p:spPr>
          <a:xfrm>
            <a:off x="2971800" y="1523880"/>
            <a:ext cx="3813120" cy="5334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687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ОДСВЕЧН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Picture 5" descr="000803_1052_1470_vuvv"/>
          <p:cNvPicPr/>
          <p:nvPr/>
        </p:nvPicPr>
        <p:blipFill>
          <a:blip r:embed="rId1"/>
          <a:stretch/>
        </p:blipFill>
        <p:spPr>
          <a:xfrm>
            <a:off x="2971800" y="1523880"/>
            <a:ext cx="3424320" cy="5105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176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АРТИН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83059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2"/>
          <p:cNvSpPr/>
          <p:nvPr/>
        </p:nvSpPr>
        <p:spPr>
          <a:xfrm>
            <a:off x="2209680" y="1295280"/>
            <a:ext cx="4572000" cy="5181840"/>
          </a:xfrm>
          <a:prstGeom prst="bevel">
            <a:avLst>
              <a:gd name="adj" fmla="val 713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13" descr="hbsobta-07350"/>
          <p:cNvPicPr/>
          <p:nvPr/>
        </p:nvPicPr>
        <p:blipFill>
          <a:blip r:embed="rId2"/>
          <a:stretch/>
        </p:blipFill>
        <p:spPr>
          <a:xfrm>
            <a:off x="2514600" y="1600200"/>
            <a:ext cx="3948120" cy="45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05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ЕН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6" descr="000803_1067_6209_vnvv"/>
          <p:cNvPicPr/>
          <p:nvPr/>
        </p:nvPicPr>
        <p:blipFill>
          <a:blip r:embed="rId1"/>
          <a:stretch/>
        </p:blipFill>
        <p:spPr>
          <a:xfrm>
            <a:off x="3200400" y="1905120"/>
            <a:ext cx="3048120" cy="4495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896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ОВО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5" descr="hhbo030j"/>
          <p:cNvPicPr/>
          <p:nvPr/>
        </p:nvPicPr>
        <p:blipFill>
          <a:blip r:embed="rId1"/>
          <a:stretch/>
        </p:blipFill>
        <p:spPr>
          <a:xfrm>
            <a:off x="2133720" y="1843200"/>
            <a:ext cx="4736880" cy="422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43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ЕШАЛ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7" descr="hhsi049j"/>
          <p:cNvPicPr/>
          <p:nvPr/>
        </p:nvPicPr>
        <p:blipFill>
          <a:blip r:embed="rId1"/>
          <a:stretch/>
        </p:blipFill>
        <p:spPr>
          <a:xfrm>
            <a:off x="2362320" y="1981080"/>
            <a:ext cx="4925880" cy="3281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97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ФЕН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Picture 5" descr="000803_1079_7287_vuvv"/>
          <p:cNvPicPr/>
          <p:nvPr/>
        </p:nvPicPr>
        <p:blipFill>
          <a:blip r:embed="rId1"/>
          <a:stretch/>
        </p:blipFill>
        <p:spPr>
          <a:xfrm>
            <a:off x="1828800" y="1600200"/>
            <a:ext cx="5918040" cy="4594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537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РАСЧЕС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5" descr="000803_1054_6236_vnvv"/>
          <p:cNvPicPr/>
          <p:nvPr/>
        </p:nvPicPr>
        <p:blipFill>
          <a:blip r:embed="rId1"/>
          <a:stretch/>
        </p:blipFill>
        <p:spPr>
          <a:xfrm>
            <a:off x="3505320" y="1905120"/>
            <a:ext cx="2128680" cy="457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845820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204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МНАТНОЕ РАСТЕНИЕ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5" descr="geranium"/>
          <p:cNvPicPr/>
          <p:nvPr/>
        </p:nvPicPr>
        <p:blipFill>
          <a:blip r:embed="rId1"/>
          <a:stretch/>
        </p:blipFill>
        <p:spPr>
          <a:xfrm>
            <a:off x="2286000" y="1371600"/>
            <a:ext cx="4525920" cy="5029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8763120" y="-8380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2305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ЛАМПОЧ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Picture 5" descr="SHMIDA-031599"/>
          <p:cNvPicPr/>
          <p:nvPr/>
        </p:nvPicPr>
        <p:blipFill>
          <a:blip r:embed="rId1"/>
          <a:stretch/>
        </p:blipFill>
        <p:spPr>
          <a:xfrm>
            <a:off x="2438280" y="1905120"/>
            <a:ext cx="4260960" cy="4016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8534520" y="-8380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587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АМО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Picture 5" descr="lock"/>
          <p:cNvPicPr/>
          <p:nvPr/>
        </p:nvPicPr>
        <p:blipFill>
          <a:blip r:embed="rId1"/>
          <a:stretch/>
        </p:blipFill>
        <p:spPr>
          <a:xfrm>
            <a:off x="2514600" y="1828800"/>
            <a:ext cx="4394160" cy="4394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4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АЛЬКУЛЯТОР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Picture 9" descr="010409_0714_1353_vuvv"/>
          <p:cNvPicPr/>
          <p:nvPr/>
        </p:nvPicPr>
        <p:blipFill>
          <a:blip r:embed="rId1"/>
          <a:stretch/>
        </p:blipFill>
        <p:spPr>
          <a:xfrm>
            <a:off x="2438280" y="1905120"/>
            <a:ext cx="4572000" cy="3956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345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587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НОЖНИЦ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Picture 6" descr="m2211"/>
          <p:cNvPicPr/>
          <p:nvPr/>
        </p:nvPicPr>
        <p:blipFill>
          <a:blip r:embed="rId1"/>
          <a:stretch/>
        </p:blipFill>
        <p:spPr>
          <a:xfrm>
            <a:off x="2133720" y="2057400"/>
            <a:ext cx="5257800" cy="3938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2"/>
          <a:stretch/>
        </p:blipFill>
        <p:spPr>
          <a:xfrm>
            <a:off x="868680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2045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УШИЛКА ДЛЯ БЕЛЬЯ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Picture 7" descr="SHMSWA-021591"/>
          <p:cNvPicPr/>
          <p:nvPr/>
        </p:nvPicPr>
        <p:blipFill>
          <a:blip r:embed="rId1"/>
          <a:stretch/>
        </p:blipFill>
        <p:spPr>
          <a:xfrm>
            <a:off x="2133720" y="2057400"/>
            <a:ext cx="5027400" cy="3703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84582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2794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ЧАС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Picture 5" descr="RF4521752"/>
          <p:cNvPicPr/>
          <p:nvPr/>
        </p:nvPicPr>
        <p:blipFill>
          <a:blip r:embed="rId1"/>
          <a:stretch/>
        </p:blipFill>
        <p:spPr>
          <a:xfrm>
            <a:off x="1828800" y="1676520"/>
            <a:ext cx="5562720" cy="4778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6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ТЕЛЕВИЗО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000803_1057_5941_vnvv"/>
          <p:cNvPicPr/>
          <p:nvPr/>
        </p:nvPicPr>
        <p:blipFill>
          <a:blip r:embed="rId2"/>
          <a:stretch/>
        </p:blipFill>
        <p:spPr>
          <a:xfrm>
            <a:off x="2057400" y="1828800"/>
            <a:ext cx="5029200" cy="44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6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ЫЛЕСОС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5" descr="vacuum"/>
          <p:cNvPicPr/>
          <p:nvPr/>
        </p:nvPicPr>
        <p:blipFill>
          <a:blip r:embed="rId1"/>
          <a:stretch/>
        </p:blipFill>
        <p:spPr>
          <a:xfrm>
            <a:off x="2971800" y="1295280"/>
            <a:ext cx="3429000" cy="5172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98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ТЕЛЕФОН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Picture 5" descr="phone_1"/>
          <p:cNvPicPr/>
          <p:nvPr/>
        </p:nvPicPr>
        <p:blipFill>
          <a:blip r:embed="rId1"/>
          <a:stretch/>
        </p:blipFill>
        <p:spPr>
          <a:xfrm>
            <a:off x="2362320" y="2133720"/>
            <a:ext cx="4572000" cy="3860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2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7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ЛОНКИ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9" name="Picture 5" descr="000803_1057_5881_vnvv"/>
          <p:cNvPicPr/>
          <p:nvPr/>
        </p:nvPicPr>
        <p:blipFill>
          <a:blip r:embed="rId1"/>
          <a:stretch/>
        </p:blipFill>
        <p:spPr>
          <a:xfrm>
            <a:off x="2362320" y="1676520"/>
            <a:ext cx="5181480" cy="481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727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БУДИЛЬН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2" name="Picture 5" descr="0250041"/>
          <p:cNvPicPr/>
          <p:nvPr/>
        </p:nvPicPr>
        <p:blipFill>
          <a:blip r:embed="rId1"/>
          <a:stretch/>
        </p:blipFill>
        <p:spPr>
          <a:xfrm>
            <a:off x="2971800" y="1905120"/>
            <a:ext cx="3560760" cy="4343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85345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16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4:46:2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