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15.wmf" ContentType="image/x-wmf"/>
  <Override PartName="/ppt/media/image7.png" ContentType="image/png"/>
  <Override PartName="/ppt/media/image6.wmf" ContentType="image/x-wmf"/>
  <Override PartName="/ppt/media/image31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10.jpeg" ContentType="image/jpeg"/>
  <Override PartName="/ppt/media/image13.wmf" ContentType="image/x-wmf"/>
  <Override PartName="/ppt/media/image30.wmf" ContentType="image/x-wmf"/>
  <Override PartName="/ppt/media/image3.png" ContentType="image/png"/>
  <Override PartName="/ppt/media/image33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2.png" ContentType="image/png"/>
  <Override PartName="/ppt/media/image1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18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09AA-F9CC-4B1A-90BD-67BCB2FE78E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B713-073E-4005-A110-44FC48EB26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F822-C3CE-4CF5-A25F-EAE7932F78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93B2-7BDB-4CE4-9E87-BE4C8C39BE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7F23-99B1-4DB6-B3FC-88503700A4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F1F0-A2B6-4414-B6A5-CC54DD0734A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3A87-6549-43CE-99C1-70B5659480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0F42-8E41-4085-9536-41DC3614C77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8575-EC72-48B1-9A6F-45EFF159B1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BE4D-B750-4C4B-BBFD-AF8CE1DD2BD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8F3A-0EE2-44EB-ABD3-89C692D3E3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FB08-06C0-4B2C-9676-9AC782677E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61F8-EE03-44C3-8D0D-01D280A73AC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1BA2-F062-4644-BFE2-960594BBF6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F81C-5774-4A65-8365-431684FC4E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F067-8D2D-4CD8-9A5A-7BBD47EE0C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3F1C-9A07-4D9C-99DF-E70576B5670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7980-F335-492B-B130-82C3A2F55B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B442-A2EE-423C-999F-D75A929210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7462-F8B7-4B77-884F-4513DCD24A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5654-E3C9-4233-A4F4-FDBEAF3FA0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2BA0-5D01-4C50-A49D-C4B21D1646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D765-DDA3-42C9-8756-4E210C1417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CC36-01AF-4408-BF16-09DD210B606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6786-998F-4048-9A19-DFC0D0EE9F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A71C-4B3E-448F-8270-D29AD15C37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721C-DBE1-4B07-89CC-56E01191E7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86B0-D7FA-4CCF-884A-922B2CEA28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A47E-AEBD-4F21-A2B6-B9F2B2761A4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A0FE-1F76-40B7-9D75-213EE42590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79FC-D301-4A5F-AA37-C0F51CE8EC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5D9E-3CFC-4C7B-A946-F9BADD38AFF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4A28-9B27-418D-828D-721EA4E25A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2A71-4471-4C94-9F7F-6DF308119A8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C66-A49B-409C-AD47-BC51FA82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E56E-D0CE-44BD-BC90-3B30E88E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7F3-FAA7-44DF-AE28-B5FEFFC0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7C21-72F1-47F7-B70A-344A87BC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7A5-C11F-4DEC-8727-483A70C0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BE5-C2A9-46FF-BD2D-D49F837C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6256-463A-42B3-81F1-2E82025F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A4E6-CC3F-4131-8510-FB16E7F7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DC4-1025-4D15-B650-C9826693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DCA-F616-465F-BE01-54D45768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C2F-B843-460B-AF57-8FD3399F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56C7-35A2-4B2A-A961-527B6C6F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E7C5-0DDA-4BFF-87F1-DF1700448D75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Arial Black"/>
              </a:rPr>
              <a:t>ПРЕДМЕТЫ В ДОМЕ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5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УТЮГ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868680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SHMBSA-02103"/>
          <p:cNvPicPr/>
          <p:nvPr/>
        </p:nvPicPr>
        <p:blipFill>
          <a:blip r:embed="rId2"/>
          <a:stretch/>
        </p:blipFill>
        <p:spPr>
          <a:xfrm>
            <a:off x="2438280" y="1523880"/>
            <a:ext cx="4672080" cy="46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77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ГЛАДИЛЬНАЯ ДОС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000803_1073_7399_vnvv"/>
          <p:cNvPicPr/>
          <p:nvPr/>
        </p:nvPicPr>
        <p:blipFill>
          <a:blip r:embed="rId2"/>
          <a:stretch/>
        </p:blipFill>
        <p:spPr>
          <a:xfrm>
            <a:off x="1523880" y="1981080"/>
            <a:ext cx="6249960" cy="398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644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ВЕ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5" descr="000803_1067_5151_vnvv"/>
          <p:cNvPicPr/>
          <p:nvPr/>
        </p:nvPicPr>
        <p:blipFill>
          <a:blip r:embed="rId1"/>
          <a:stretch/>
        </p:blipFill>
        <p:spPr>
          <a:xfrm>
            <a:off x="2209680" y="1523880"/>
            <a:ext cx="5257800" cy="501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776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ШКАТУЛ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000803_1052_7923_vuvv"/>
          <p:cNvPicPr/>
          <p:nvPr/>
        </p:nvPicPr>
        <p:blipFill>
          <a:blip r:embed="rId2"/>
          <a:stretch/>
        </p:blipFill>
        <p:spPr>
          <a:xfrm>
            <a:off x="2057400" y="1676520"/>
            <a:ext cx="5129280" cy="421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196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ОНТ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Picture 5" descr="hhca007j"/>
          <p:cNvPicPr/>
          <p:nvPr/>
        </p:nvPicPr>
        <p:blipFill>
          <a:blip r:embed="rId1"/>
          <a:srcRect l="13769" t="7678" r="0" b="0"/>
          <a:stretch/>
        </p:blipFill>
        <p:spPr>
          <a:xfrm>
            <a:off x="1600200" y="1219320"/>
            <a:ext cx="4794120" cy="5113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35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ОДЕЯЛО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6" descr="000803_1053_0383_vuvv"/>
          <p:cNvPicPr/>
          <p:nvPr/>
        </p:nvPicPr>
        <p:blipFill>
          <a:blip r:embed="rId1"/>
          <a:stretch/>
        </p:blipFill>
        <p:spPr>
          <a:xfrm>
            <a:off x="1371600" y="1523880"/>
            <a:ext cx="6221520" cy="4680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2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6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ЕНТИЛЯТО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5" descr="SHMSWA-021694"/>
          <p:cNvPicPr/>
          <p:nvPr/>
        </p:nvPicPr>
        <p:blipFill>
          <a:blip r:embed="rId1"/>
          <a:stretch/>
        </p:blipFill>
        <p:spPr>
          <a:xfrm>
            <a:off x="2895480" y="1523880"/>
            <a:ext cx="4570560" cy="5027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ВЕТИЛЬН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6" descr="liberty_lamp"/>
          <p:cNvPicPr/>
          <p:nvPr/>
        </p:nvPicPr>
        <p:blipFill>
          <a:blip r:embed="rId1"/>
          <a:stretch/>
        </p:blipFill>
        <p:spPr>
          <a:xfrm>
            <a:off x="3124080" y="1676520"/>
            <a:ext cx="3232440" cy="4486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29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НИЖНАЯ ПОЛ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5" descr="000803_1052_7902_vuvv"/>
          <p:cNvPicPr/>
          <p:nvPr/>
        </p:nvPicPr>
        <p:blipFill>
          <a:blip r:embed="rId1"/>
          <a:stretch/>
        </p:blipFill>
        <p:spPr>
          <a:xfrm>
            <a:off x="635040" y="2286000"/>
            <a:ext cx="8508960" cy="3679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62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АЗ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6" descr="000803_1067_5154_vnvv"/>
          <p:cNvPicPr/>
          <p:nvPr/>
        </p:nvPicPr>
        <p:blipFill>
          <a:blip r:embed="rId1"/>
          <a:stretch/>
        </p:blipFill>
        <p:spPr>
          <a:xfrm>
            <a:off x="2514600" y="1905120"/>
            <a:ext cx="4572000" cy="435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822960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757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ЛЮЧИ  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" name="Picture 7" descr="keyring"/>
          <p:cNvPicPr/>
          <p:nvPr/>
        </p:nvPicPr>
        <p:blipFill>
          <a:blip r:embed="rId1"/>
          <a:stretch/>
        </p:blipFill>
        <p:spPr>
          <a:xfrm>
            <a:off x="2438280" y="22860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7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ЕРКАЛО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Picture 6" descr="SHMSWA-021605"/>
          <p:cNvPicPr/>
          <p:nvPr/>
        </p:nvPicPr>
        <p:blipFill>
          <a:blip r:embed="rId1"/>
          <a:srcRect l="0" t="0" r="0" b="44170"/>
          <a:stretch/>
        </p:blipFill>
        <p:spPr>
          <a:xfrm>
            <a:off x="2971800" y="1523880"/>
            <a:ext cx="3813120" cy="5334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687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ОДСВЕЧН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Picture 5" descr="000803_1052_1470_vuvv"/>
          <p:cNvPicPr/>
          <p:nvPr/>
        </p:nvPicPr>
        <p:blipFill>
          <a:blip r:embed="rId1"/>
          <a:stretch/>
        </p:blipFill>
        <p:spPr>
          <a:xfrm>
            <a:off x="2971800" y="1523880"/>
            <a:ext cx="3424320" cy="5105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176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АРТИН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83059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2"/>
          <p:cNvSpPr/>
          <p:nvPr/>
        </p:nvSpPr>
        <p:spPr>
          <a:xfrm>
            <a:off x="2209680" y="1295280"/>
            <a:ext cx="4572000" cy="5181840"/>
          </a:xfrm>
          <a:prstGeom prst="bevel">
            <a:avLst>
              <a:gd name="adj" fmla="val 713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13" descr="hbsobta-07350"/>
          <p:cNvPicPr/>
          <p:nvPr/>
        </p:nvPicPr>
        <p:blipFill>
          <a:blip r:embed="rId2"/>
          <a:stretch/>
        </p:blipFill>
        <p:spPr>
          <a:xfrm>
            <a:off x="2514600" y="1600200"/>
            <a:ext cx="3948120" cy="45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05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ЕН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6" descr="000803_1067_6209_vnvv"/>
          <p:cNvPicPr/>
          <p:nvPr/>
        </p:nvPicPr>
        <p:blipFill>
          <a:blip r:embed="rId1"/>
          <a:stretch/>
        </p:blipFill>
        <p:spPr>
          <a:xfrm>
            <a:off x="3200400" y="1905120"/>
            <a:ext cx="3048120" cy="4495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896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ОВО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5" descr="hhbo030j"/>
          <p:cNvPicPr/>
          <p:nvPr/>
        </p:nvPicPr>
        <p:blipFill>
          <a:blip r:embed="rId1"/>
          <a:stretch/>
        </p:blipFill>
        <p:spPr>
          <a:xfrm>
            <a:off x="2133720" y="1843200"/>
            <a:ext cx="4736880" cy="422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43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ЕШАЛ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Picture 7" descr="hhsi049j"/>
          <p:cNvPicPr/>
          <p:nvPr/>
        </p:nvPicPr>
        <p:blipFill>
          <a:blip r:embed="rId1"/>
          <a:stretch/>
        </p:blipFill>
        <p:spPr>
          <a:xfrm>
            <a:off x="2362320" y="1981080"/>
            <a:ext cx="4925880" cy="3281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86868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97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ФЕН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Picture 5" descr="000803_1079_7287_vuvv"/>
          <p:cNvPicPr/>
          <p:nvPr/>
        </p:nvPicPr>
        <p:blipFill>
          <a:blip r:embed="rId1"/>
          <a:stretch/>
        </p:blipFill>
        <p:spPr>
          <a:xfrm>
            <a:off x="1828800" y="1600200"/>
            <a:ext cx="5918040" cy="4594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537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РАСЧЕС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5" descr="000803_1054_6236_vnvv"/>
          <p:cNvPicPr/>
          <p:nvPr/>
        </p:nvPicPr>
        <p:blipFill>
          <a:blip r:embed="rId1"/>
          <a:stretch/>
        </p:blipFill>
        <p:spPr>
          <a:xfrm>
            <a:off x="3505320" y="1905120"/>
            <a:ext cx="2128680" cy="457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845820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204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МНАТНОЕ РАСТЕНИЕ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5" descr="geranium"/>
          <p:cNvPicPr/>
          <p:nvPr/>
        </p:nvPicPr>
        <p:blipFill>
          <a:blip r:embed="rId1"/>
          <a:stretch/>
        </p:blipFill>
        <p:spPr>
          <a:xfrm>
            <a:off x="2286000" y="1371600"/>
            <a:ext cx="4525920" cy="5029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8763120" y="-8380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2305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ЛАМПОЧ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Picture 5" descr="SHMIDA-031599"/>
          <p:cNvPicPr/>
          <p:nvPr/>
        </p:nvPicPr>
        <p:blipFill>
          <a:blip r:embed="rId1"/>
          <a:stretch/>
        </p:blipFill>
        <p:spPr>
          <a:xfrm>
            <a:off x="2438280" y="1905120"/>
            <a:ext cx="4260960" cy="4016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8534520" y="-8380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587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АМО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" name="Picture 5" descr="lock"/>
          <p:cNvPicPr/>
          <p:nvPr/>
        </p:nvPicPr>
        <p:blipFill>
          <a:blip r:embed="rId1"/>
          <a:stretch/>
        </p:blipFill>
        <p:spPr>
          <a:xfrm>
            <a:off x="2514600" y="1828800"/>
            <a:ext cx="4394160" cy="4394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4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АЛЬКУЛЯТОР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Picture 9" descr="010409_0714_1353_vuvv"/>
          <p:cNvPicPr/>
          <p:nvPr/>
        </p:nvPicPr>
        <p:blipFill>
          <a:blip r:embed="rId1"/>
          <a:stretch/>
        </p:blipFill>
        <p:spPr>
          <a:xfrm>
            <a:off x="2438280" y="1905120"/>
            <a:ext cx="4572000" cy="3956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345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587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НОЖНИЦ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Picture 6" descr="m2211"/>
          <p:cNvPicPr/>
          <p:nvPr/>
        </p:nvPicPr>
        <p:blipFill>
          <a:blip r:embed="rId1"/>
          <a:stretch/>
        </p:blipFill>
        <p:spPr>
          <a:xfrm>
            <a:off x="2133720" y="2057400"/>
            <a:ext cx="5257800" cy="3938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2"/>
          <a:stretch/>
        </p:blipFill>
        <p:spPr>
          <a:xfrm>
            <a:off x="868680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2045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УШИЛКА ДЛЯ БЕЛЬЯ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Picture 7" descr="SHMSWA-021591"/>
          <p:cNvPicPr/>
          <p:nvPr/>
        </p:nvPicPr>
        <p:blipFill>
          <a:blip r:embed="rId1"/>
          <a:stretch/>
        </p:blipFill>
        <p:spPr>
          <a:xfrm>
            <a:off x="2133720" y="2057400"/>
            <a:ext cx="5027400" cy="3703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84582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2794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ЧАС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Picture 5" descr="RF4521752"/>
          <p:cNvPicPr/>
          <p:nvPr/>
        </p:nvPicPr>
        <p:blipFill>
          <a:blip r:embed="rId1"/>
          <a:stretch/>
        </p:blipFill>
        <p:spPr>
          <a:xfrm>
            <a:off x="1828800" y="1676520"/>
            <a:ext cx="5562720" cy="4778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6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ТЕЛЕВИЗО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000803_1057_5941_vnvv"/>
          <p:cNvPicPr/>
          <p:nvPr/>
        </p:nvPicPr>
        <p:blipFill>
          <a:blip r:embed="rId2"/>
          <a:stretch/>
        </p:blipFill>
        <p:spPr>
          <a:xfrm>
            <a:off x="2057400" y="1828800"/>
            <a:ext cx="5029200" cy="44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6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ЫЛЕСОС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5" descr="vacuum"/>
          <p:cNvPicPr/>
          <p:nvPr/>
        </p:nvPicPr>
        <p:blipFill>
          <a:blip r:embed="rId1"/>
          <a:stretch/>
        </p:blipFill>
        <p:spPr>
          <a:xfrm>
            <a:off x="2971800" y="1295280"/>
            <a:ext cx="3429000" cy="5172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986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ТЕЛЕФОН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Picture 5" descr="phone_1"/>
          <p:cNvPicPr/>
          <p:nvPr/>
        </p:nvPicPr>
        <p:blipFill>
          <a:blip r:embed="rId1"/>
          <a:stretch/>
        </p:blipFill>
        <p:spPr>
          <a:xfrm>
            <a:off x="2362320" y="2133720"/>
            <a:ext cx="4572000" cy="3860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2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7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ЛОНКИ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9" name="Picture 5" descr="000803_1057_5881_vnvv"/>
          <p:cNvPicPr/>
          <p:nvPr/>
        </p:nvPicPr>
        <p:blipFill>
          <a:blip r:embed="rId1"/>
          <a:stretch/>
        </p:blipFill>
        <p:spPr>
          <a:xfrm>
            <a:off x="2362320" y="1676520"/>
            <a:ext cx="5181480" cy="481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727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БУДИЛЬН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2" name="Picture 5" descr="0250041"/>
          <p:cNvPicPr/>
          <p:nvPr/>
        </p:nvPicPr>
        <p:blipFill>
          <a:blip r:embed="rId1"/>
          <a:stretch/>
        </p:blipFill>
        <p:spPr>
          <a:xfrm>
            <a:off x="2971800" y="1905120"/>
            <a:ext cx="3560760" cy="4343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85345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916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4:46:2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