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32-F9B9-457E-8B4B-03C53937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CEF-6474-479E-B8F4-59B9BC40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010-B3A0-4BE4-9A49-7A6EFB10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842-830E-4232-A987-AB963FCF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015-2EC9-402E-B445-E06A4D6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EE5-7DAB-4E0D-804C-D818A259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451-F477-4A7E-8F5B-9C047E1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71D-8A86-4DF3-84A1-5D268E7B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4D7-DFA6-4FFB-BDC0-4B1DD92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266-8953-4E43-8228-499FE18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1E1-DF82-47AA-84D9-39E85CA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ADB-4DE1-4D86-9AD8-177A483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AB68-A7DE-4CAE-9DC0-F5087F82F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0" y="0"/>
            <a:ext cx="2195640" cy="2133720"/>
            <a:chOff x="0" y="0"/>
            <a:chExt cx="2195640" cy="2133720"/>
          </a:xfrm>
        </p:grpSpPr>
        <p:pic>
          <p:nvPicPr>
            <p:cNvPr id="45" name="Picture 12" descr="FLOWER2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956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13"/>
            <p:cNvSpPr txBox="1"/>
            <p:nvPr/>
          </p:nvSpPr>
          <p:spPr>
            <a:xfrm>
              <a:off x="772560" y="1149840"/>
              <a:ext cx="6786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WordArt 14"/>
            <p:cNvSpPr txBox="1"/>
            <p:nvPr/>
          </p:nvSpPr>
          <p:spPr>
            <a:xfrm>
              <a:off x="769680" y="723600"/>
              <a:ext cx="68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0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803_1071_4814_vnvv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storm</cp:lastModifiedBy>
  <dcterms:modified xsi:type="dcterms:W3CDTF">2010-04-03T04:42:11Z</dcterms:modified>
  <cp:revision>9</cp:revision>
  <dc:subject/>
  <dc:title>ЗАГАДКИ  ПРО ТРАНСПОРТ</dc:title>
</cp:coreProperties>
</file>