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3.wmf" ContentType="image/x-wmf"/>
  <Override PartName="/ppt/media/image22.wmf" ContentType="image/x-wmf"/>
  <Override PartName="/ppt/media/image21.jpeg" ContentType="image/jpeg"/>
  <Override PartName="/ppt/media/image2.wmf" ContentType="image/x-wmf"/>
  <Override PartName="/ppt/media/image32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12.png" ContentType="image/png"/>
  <Override PartName="/ppt/media/image37.wmf" ContentType="image/x-wmf"/>
  <Override PartName="/ppt/media/image7.wmf" ContentType="image/x-wmf"/>
  <Override PartName="/ppt/media/image35.wmf" ContentType="image/x-wmf"/>
  <Override PartName="/ppt/media/image36.wmf" ContentType="image/x-wmf"/>
  <Override PartName="/ppt/media/image40.wmf" ContentType="image/x-wmf"/>
  <Override PartName="/ppt/media/image41.wmf" ContentType="image/x-wmf"/>
  <Override PartName="/ppt/media/image30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39.wmf" ContentType="image/x-wmf"/>
  <Override PartName="/ppt/media/image9.wmf" ContentType="image/x-wmf"/>
  <Override PartName="/ppt/media/image13.wmf" ContentType="image/x-wmf"/>
  <Override PartName="/ppt/media/applause.wav" ContentType="audio/x-wav"/>
  <Override PartName="/ppt/media/image5.png" ContentType="image/png"/>
  <Override PartName="/ppt/media/image38.wmf" ContentType="image/x-wmf"/>
  <Override PartName="/ppt/media/image8.wmf" ContentType="image/x-wmf"/>
  <Override PartName="/ppt/media/image11.png" ContentType="image/png"/>
  <Override PartName="/ppt/media/image29.wmf" ContentType="image/x-wmf"/>
  <Override PartName="/ppt/media/image10.wmf" ContentType="image/x-wmf"/>
  <Override PartName="/ppt/media/image47.wmf" ContentType="image/x-wmf"/>
  <Override PartName="/ppt/media/image6.png" ContentType="image/png"/>
  <Override PartName="/ppt/media/image14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3700F-6D7B-408D-AF09-D78394F5E16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42984-CF07-4424-B010-76F589A7B5F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43669-F5A0-4DBE-A0B0-1B7437CD7D1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22E16-879B-4906-9394-291933CA6E3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27996-84E2-47D9-B6D1-E0B9FDEA9B8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5CD81-F96C-43A4-825D-03EB8B33A0A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CE283-B955-4DDA-B84F-CB2860FEE53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826C9-3872-446C-90CC-BE5A638226F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0AD60-5451-4697-B449-15F38720A10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AF927-DC79-4892-88A4-85C0C06A34F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80999-A51F-4A42-BA0F-30EB8C78BC3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2D276-0888-46FB-AB2D-73B4DA93151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221EE-F50F-4FCA-926F-C8CA67EE8CD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B277B-0B11-4BD3-829F-38C78EA3D8D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809D3-392E-4AD3-9ED3-27292D35C60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54200-7CD9-4780-BAE3-E191D52D138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2B30A-4851-4A96-B36E-212ED725F53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F8804-7C03-442A-9C38-843C34CABEC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9C0F6-3019-4793-90CD-CE50A1DC17B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A4E16-8AF8-4A5B-9C0A-84C9E9F51D6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29662-E117-4797-933D-2C0CC7DFA36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85BF4-55E3-4A36-ADA0-4AB7EE8A3A3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DB057-FDFB-4FD1-ABD7-D9150C6622E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3ED4A-2A63-4CD2-9A11-D67E8294AB6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CD5B9-8F57-4B4A-A698-BEE2B95010D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4D566-E5D1-4352-8F9B-468FD33EAB5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492E7-261D-4751-B954-3F2E927F5E3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AAF6A-E746-452A-969F-D5CF6FD6A1E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769FB-A587-4373-A34E-459302E8FA0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23A4-2792-4158-B6C5-81C369BC8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E0C1-82D9-4DF5-B2EB-6D6EBB08F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5CCF-3A81-4674-9FC3-0D7938EED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5149-7A85-4248-92D2-97DD17DF9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567D-00A4-4CB5-8AF7-4B62E3833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C0DB-F82F-4470-9A93-9165C1500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70E0-73B3-48DF-8F49-0C686E025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C92E-941C-4A2B-A69B-76C4B722B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C209-FBB5-4369-BBAF-607CC7D9D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FAE1-54A6-4D58-B662-B82B3E36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F426-446B-41DC-A40B-7C4055C5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9FF7-7FBE-4191-90CE-DC2F58AE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03CA0-1D16-4FC9-96D5-80647B87052C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6" Type="http://schemas.microsoft.com/office/2007/relationships/media" Target="file:///tmp/home/.config/libreoffice/4/user/gallery/&#1047;&#1072;&#1087;&#1080;&#1089;&#1072;&#1085;&#1085;&#1099;&#1081;%20&#1079;&#1074;&#1091;&#1082;" TargetMode="External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1.jpeg"/><Relationship Id="rId3" Type="http://schemas.openxmlformats.org/officeDocument/2006/relationships/image" Target="../media/image23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2.wmf"/><Relationship Id="rId3" Type="http://schemas.openxmlformats.org/officeDocument/2006/relationships/image" Target="../media/image6.png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4.wmf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fffff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cc6600"/>
                </a:solidFill>
                <a:uFillTx/>
                <a:latin typeface="Arial Black"/>
              </a:rPr>
              <a:t>СПОРТ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9" name="Picture 6" descr="000803_1077_3437_vnvv"/>
          <p:cNvPicPr/>
          <p:nvPr/>
        </p:nvPicPr>
        <p:blipFill>
          <a:blip r:embed="rId1"/>
          <a:stretch/>
        </p:blipFill>
        <p:spPr>
          <a:xfrm>
            <a:off x="0" y="0"/>
            <a:ext cx="3048120" cy="2847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000803_1055_5842_vnvv"/>
          <p:cNvPicPr/>
          <p:nvPr/>
        </p:nvPicPr>
        <p:blipFill>
          <a:blip r:embed="rId2"/>
          <a:stretch/>
        </p:blipFill>
        <p:spPr>
          <a:xfrm>
            <a:off x="380880" y="4011480"/>
            <a:ext cx="1738440" cy="2846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000803_1077_3807_vnvv"/>
          <p:cNvPicPr/>
          <p:nvPr/>
        </p:nvPicPr>
        <p:blipFill>
          <a:blip r:embed="rId3"/>
          <a:stretch/>
        </p:blipFill>
        <p:spPr>
          <a:xfrm>
            <a:off x="6248520" y="228600"/>
            <a:ext cx="2695320" cy="3733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000803_1079_3621_vuvv"/>
          <p:cNvPicPr/>
          <p:nvPr/>
        </p:nvPicPr>
        <p:blipFill>
          <a:blip r:embed="rId4"/>
          <a:stretch/>
        </p:blipFill>
        <p:spPr>
          <a:xfrm>
            <a:off x="6172200" y="4191120"/>
            <a:ext cx="2666880" cy="24429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" action="ppaction://media"/>
          </p:cNvPr>
          <p:cNvPicPr/>
          <p:nvPr>
            <a:vide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902664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07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Бейсболисты должны уметь далеко кидать мяч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Picture 5" descr="000803_1077_8476_vnvv"/>
          <p:cNvPicPr/>
          <p:nvPr/>
        </p:nvPicPr>
        <p:blipFill>
          <a:blip r:embed="rId1"/>
          <a:srcRect l="12042" t="0" r="0" b="0"/>
          <a:stretch/>
        </p:blipFill>
        <p:spPr>
          <a:xfrm>
            <a:off x="3581280" y="2133720"/>
            <a:ext cx="5562720" cy="3251160"/>
          </a:xfrm>
          <a:prstGeom prst="rect">
            <a:avLst/>
          </a:prstGeom>
          <a:ln w="0">
            <a:noFill/>
          </a:ln>
        </p:spPr>
      </p:pic>
      <p:sp>
        <p:nvSpPr>
          <p:cNvPr id="88" name="Oval 6"/>
          <p:cNvSpPr/>
          <p:nvPr/>
        </p:nvSpPr>
        <p:spPr>
          <a:xfrm>
            <a:off x="3505320" y="2971800"/>
            <a:ext cx="304560" cy="3049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Picture 7" descr=""/>
          <p:cNvPicPr/>
          <p:nvPr/>
        </p:nvPicPr>
        <p:blipFill>
          <a:blip r:embed="rId3"/>
          <a:stretch/>
        </p:blipFill>
        <p:spPr>
          <a:xfrm>
            <a:off x="9026640" y="-6858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3882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2" presetSubtype="1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" dur="2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ff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И далеко отбивать мяч битой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Picture 6" descr="000803_1077_5174_vnvv"/>
          <p:cNvPicPr/>
          <p:nvPr/>
        </p:nvPicPr>
        <p:blipFill>
          <a:blip r:embed="rId1"/>
          <a:srcRect l="0" t="0" r="9555" b="0"/>
          <a:stretch/>
        </p:blipFill>
        <p:spPr>
          <a:xfrm>
            <a:off x="914400" y="1828800"/>
            <a:ext cx="3124080" cy="4695840"/>
          </a:xfrm>
          <a:prstGeom prst="rect">
            <a:avLst/>
          </a:prstGeom>
          <a:ln w="0">
            <a:noFill/>
          </a:ln>
        </p:spPr>
      </p:pic>
      <p:sp>
        <p:nvSpPr>
          <p:cNvPr id="92" name="Oval 7"/>
          <p:cNvSpPr/>
          <p:nvPr/>
        </p:nvSpPr>
        <p:spPr>
          <a:xfrm>
            <a:off x="3429000" y="1828800"/>
            <a:ext cx="304920" cy="3049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Picture 8" descr="000803_1055_5919_vnvv"/>
          <p:cNvPicPr/>
          <p:nvPr/>
        </p:nvPicPr>
        <p:blipFill>
          <a:blip r:embed="rId3"/>
          <a:stretch/>
        </p:blipFill>
        <p:spPr>
          <a:xfrm flipH="1">
            <a:off x="4495320" y="4417920"/>
            <a:ext cx="4496040" cy="2268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"/>
          <p:cNvPicPr/>
          <p:nvPr/>
        </p:nvPicPr>
        <p:blipFill>
          <a:blip r:embed="rId4"/>
          <a:stretch/>
        </p:blipFill>
        <p:spPr>
          <a:xfrm>
            <a:off x="902664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3423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2" presetSubtype="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" dur="2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2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ФУТБОЛ – когда люди бегают по специальному полю, пиная мяч ногами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6" name="Picture 4" descr="000803_1055_5843_vnvv"/>
          <p:cNvPicPr/>
          <p:nvPr/>
        </p:nvPicPr>
        <p:blipFill>
          <a:blip r:embed="rId1"/>
          <a:stretch/>
        </p:blipFill>
        <p:spPr>
          <a:xfrm>
            <a:off x="5715000" y="1295280"/>
            <a:ext cx="3249720" cy="3276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000803_1055_6007_vnvv"/>
          <p:cNvPicPr/>
          <p:nvPr/>
        </p:nvPicPr>
        <p:blipFill>
          <a:blip r:embed="rId2"/>
          <a:stretch/>
        </p:blipFill>
        <p:spPr>
          <a:xfrm>
            <a:off x="304920" y="3124080"/>
            <a:ext cx="3581280" cy="3463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"/>
          <p:cNvPicPr/>
          <p:nvPr/>
        </p:nvPicPr>
        <p:blipFill>
          <a:blip r:embed="rId3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6446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Футболисты стараются попасть мячом в ворота соперника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0" name="Picture 7" descr="000803_1077_3831_vnvv"/>
          <p:cNvPicPr/>
          <p:nvPr/>
        </p:nvPicPr>
        <p:blipFill>
          <a:blip r:embed="rId1"/>
          <a:srcRect l="0" t="0" r="0" b="2556"/>
          <a:stretch/>
        </p:blipFill>
        <p:spPr>
          <a:xfrm flipH="1">
            <a:off x="4495680" y="2362320"/>
            <a:ext cx="4267440" cy="3504960"/>
          </a:xfrm>
          <a:prstGeom prst="rect">
            <a:avLst/>
          </a:prstGeom>
          <a:ln w="0">
            <a:noFill/>
          </a:ln>
        </p:spPr>
      </p:pic>
      <p:sp>
        <p:nvSpPr>
          <p:cNvPr id="101" name="Oval 9"/>
          <p:cNvSpPr/>
          <p:nvPr/>
        </p:nvSpPr>
        <p:spPr>
          <a:xfrm>
            <a:off x="6705720" y="5105520"/>
            <a:ext cx="91440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Oval 10"/>
          <p:cNvSpPr/>
          <p:nvPr/>
        </p:nvSpPr>
        <p:spPr>
          <a:xfrm>
            <a:off x="6553080" y="5105520"/>
            <a:ext cx="838440" cy="8380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ffffff"/>
              </a:gs>
              <a:gs pos="100000">
                <a:srgbClr val="0000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AutoShape 11"/>
          <p:cNvSpPr/>
          <p:nvPr/>
        </p:nvSpPr>
        <p:spPr>
          <a:xfrm rot="5400000">
            <a:off x="-1866600" y="3314520"/>
            <a:ext cx="5181480" cy="144792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4" name="Picture 12" descr=""/>
          <p:cNvPicPr/>
          <p:nvPr/>
        </p:nvPicPr>
        <p:blipFill>
          <a:blip r:embed="rId3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5538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35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 4.44444E-006 L -0.7125 -0.10556 E">
                                      <p:cBhvr>
                                        <p:cTn id="90" dur="1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Если мяч забит в ворота – это называется – гол!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6" name="Picture 5" descr="000803_1077_3830_vnvv"/>
          <p:cNvPicPr/>
          <p:nvPr/>
        </p:nvPicPr>
        <p:blipFill>
          <a:blip r:embed="rId1"/>
          <a:stretch/>
        </p:blipFill>
        <p:spPr>
          <a:xfrm>
            <a:off x="1447920" y="1523880"/>
            <a:ext cx="5638680" cy="5100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2"/>
          <a:stretch/>
        </p:blipFill>
        <p:spPr>
          <a:xfrm>
            <a:off x="914400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5747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БИЛЬЯРД – надо кием забивать шары в лунки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Picture 6" descr="000803_1077_3931_vnvv"/>
          <p:cNvPicPr/>
          <p:nvPr/>
        </p:nvPicPr>
        <p:blipFill>
          <a:blip r:embed="rId1"/>
          <a:stretch/>
        </p:blipFill>
        <p:spPr>
          <a:xfrm>
            <a:off x="1295280" y="1981080"/>
            <a:ext cx="7010640" cy="3949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"/>
          <p:cNvPicPr/>
          <p:nvPr/>
        </p:nvPicPr>
        <p:blipFill>
          <a:blip r:embed="rId2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5488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Главное в этой игре – правильно рассчитать силу удара кия и траекторию полета шара в лунку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2" name="Picture 5" descr="000803_1077_3520_vnvv"/>
          <p:cNvPicPr/>
          <p:nvPr/>
        </p:nvPicPr>
        <p:blipFill>
          <a:blip r:embed="rId1"/>
          <a:stretch/>
        </p:blipFill>
        <p:spPr>
          <a:xfrm>
            <a:off x="457200" y="1523880"/>
            <a:ext cx="3513240" cy="2212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000803_1055_5955_vnvv"/>
          <p:cNvPicPr/>
          <p:nvPr/>
        </p:nvPicPr>
        <p:blipFill>
          <a:blip r:embed="rId2"/>
          <a:stretch/>
        </p:blipFill>
        <p:spPr>
          <a:xfrm>
            <a:off x="4191120" y="2209680"/>
            <a:ext cx="4671720" cy="43322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"/>
          <p:cNvPicPr/>
          <p:nvPr/>
        </p:nvPicPr>
        <p:blipFill>
          <a:blip r:embed="rId3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838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ФИГУРНОЕ КАТАНИЕ – когда люди красиво танцуют на льду в коньках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6" name="Picture 6" descr="000803_1077_3436_vnvv"/>
          <p:cNvPicPr/>
          <p:nvPr/>
        </p:nvPicPr>
        <p:blipFill>
          <a:blip r:embed="rId1"/>
          <a:stretch/>
        </p:blipFill>
        <p:spPr>
          <a:xfrm flipH="1">
            <a:off x="2437920" y="1415880"/>
            <a:ext cx="4621320" cy="54421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"/>
          <p:cNvPicPr/>
          <p:nvPr/>
        </p:nvPicPr>
        <p:blipFill>
          <a:blip r:embed="rId2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5708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Побеждает тот фигурист, кто красиво станцует и сделает меньше всех ошибок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Picture 5" descr="000803_1077_3446_vnvv"/>
          <p:cNvPicPr/>
          <p:nvPr/>
        </p:nvPicPr>
        <p:blipFill>
          <a:blip r:embed="rId1"/>
          <a:stretch/>
        </p:blipFill>
        <p:spPr>
          <a:xfrm>
            <a:off x="304920" y="2819520"/>
            <a:ext cx="3908160" cy="4038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000803_1077_3438_vnvv"/>
          <p:cNvPicPr/>
          <p:nvPr/>
        </p:nvPicPr>
        <p:blipFill>
          <a:blip r:embed="rId2"/>
          <a:stretch/>
        </p:blipFill>
        <p:spPr>
          <a:xfrm>
            <a:off x="5105520" y="1447920"/>
            <a:ext cx="3733560" cy="31636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"/>
          <p:cNvPicPr/>
          <p:nvPr/>
        </p:nvPicPr>
        <p:blipFill>
          <a:blip r:embed="rId3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6785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7498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Катание на РОЛИКАХ. Роллеры показывают сложные трюки, катаясь на роликах.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Picture 4" descr="000803_1055_5931_vnvv"/>
          <p:cNvPicPr/>
          <p:nvPr/>
        </p:nvPicPr>
        <p:blipFill>
          <a:blip r:embed="rId1"/>
          <a:stretch/>
        </p:blipFill>
        <p:spPr>
          <a:xfrm>
            <a:off x="6629400" y="2819520"/>
            <a:ext cx="2247840" cy="3887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000803_1077_9221_vnvv"/>
          <p:cNvPicPr/>
          <p:nvPr/>
        </p:nvPicPr>
        <p:blipFill>
          <a:blip r:embed="rId2"/>
          <a:stretch/>
        </p:blipFill>
        <p:spPr>
          <a:xfrm>
            <a:off x="1676520" y="1523880"/>
            <a:ext cx="3390840" cy="5086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"/>
          <p:cNvPicPr/>
          <p:nvPr/>
        </p:nvPicPr>
        <p:blipFill>
          <a:blip r:embed="rId3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7184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Многие люди занимаются спортом, но для некоторых спорт это призвание, профессия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8534520" y="-533520"/>
            <a:ext cx="233280" cy="233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000803_1069_5279_vnvv"/>
          <p:cNvPicPr/>
          <p:nvPr/>
        </p:nvPicPr>
        <p:blipFill>
          <a:blip r:embed="rId2"/>
          <a:stretch/>
        </p:blipFill>
        <p:spPr>
          <a:xfrm>
            <a:off x="609480" y="1676520"/>
            <a:ext cx="2789280" cy="4476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000803_1055_6420_vnvv"/>
          <p:cNvPicPr/>
          <p:nvPr/>
        </p:nvPicPr>
        <p:blipFill>
          <a:blip r:embed="rId3"/>
          <a:stretch/>
        </p:blipFill>
        <p:spPr>
          <a:xfrm rot="2053200">
            <a:off x="5181120" y="1371600"/>
            <a:ext cx="3175200" cy="468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8222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7498"/>
            </a:gs>
            <a:gs pos="50000">
              <a:srgbClr val="ffffff"/>
            </a:gs>
            <a:gs pos="100000">
              <a:srgbClr val="a8749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Главное, сильно не упасть и не покалечится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Picture 4" descr="000803_1077_9222_vnvv"/>
          <p:cNvPicPr/>
          <p:nvPr/>
        </p:nvPicPr>
        <p:blipFill>
          <a:blip r:embed="rId1"/>
          <a:stretch/>
        </p:blipFill>
        <p:spPr>
          <a:xfrm>
            <a:off x="1981080" y="1371600"/>
            <a:ext cx="4699080" cy="51372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"/>
          <p:cNvPicPr/>
          <p:nvPr/>
        </p:nvPicPr>
        <p:blipFill>
          <a:blip r:embed="rId2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4321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ddac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Теннис. Два человека – теннисиста, кидают ракетками мячик друг другу, через стол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0" name="Picture 6" descr="000803_1077_3526_vnvv"/>
          <p:cNvPicPr/>
          <p:nvPr/>
        </p:nvPicPr>
        <p:blipFill>
          <a:blip r:embed="rId1"/>
          <a:stretch/>
        </p:blipFill>
        <p:spPr>
          <a:xfrm>
            <a:off x="38160" y="1828800"/>
            <a:ext cx="2776320" cy="3724200"/>
          </a:xfrm>
          <a:prstGeom prst="rect">
            <a:avLst/>
          </a:prstGeom>
          <a:ln w="0">
            <a:noFill/>
          </a:ln>
        </p:spPr>
      </p:pic>
      <p:sp>
        <p:nvSpPr>
          <p:cNvPr id="131" name="Oval 10"/>
          <p:cNvSpPr/>
          <p:nvPr/>
        </p:nvSpPr>
        <p:spPr>
          <a:xfrm>
            <a:off x="2362320" y="1828800"/>
            <a:ext cx="533160" cy="609480"/>
          </a:xfrm>
          <a:prstGeom prst="ellipse">
            <a:avLst/>
          </a:prstGeom>
          <a:solidFill>
            <a:srgbClr val="99dd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Rectangle 12"/>
          <p:cNvSpPr/>
          <p:nvPr/>
        </p:nvSpPr>
        <p:spPr>
          <a:xfrm rot="16200000">
            <a:off x="2209680" y="2362320"/>
            <a:ext cx="5105520" cy="3124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Picture 13" descr="000803_1069_7550_vuvv"/>
          <p:cNvPicPr/>
          <p:nvPr/>
        </p:nvPicPr>
        <p:blipFill>
          <a:blip r:embed="rId2"/>
          <a:stretch/>
        </p:blipFill>
        <p:spPr>
          <a:xfrm>
            <a:off x="6400800" y="3960720"/>
            <a:ext cx="2743200" cy="2897280"/>
          </a:xfrm>
          <a:prstGeom prst="rect">
            <a:avLst/>
          </a:prstGeom>
          <a:ln w="0">
            <a:noFill/>
          </a:ln>
        </p:spPr>
      </p:pic>
      <p:sp>
        <p:nvSpPr>
          <p:cNvPr id="134" name="Oval 14"/>
          <p:cNvSpPr/>
          <p:nvPr/>
        </p:nvSpPr>
        <p:spPr>
          <a:xfrm>
            <a:off x="6934320" y="4267080"/>
            <a:ext cx="533160" cy="609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Oval 15"/>
          <p:cNvSpPr/>
          <p:nvPr/>
        </p:nvSpPr>
        <p:spPr>
          <a:xfrm>
            <a:off x="2438280" y="2057400"/>
            <a:ext cx="381240" cy="3808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Rectangle 16"/>
          <p:cNvSpPr/>
          <p:nvPr/>
        </p:nvSpPr>
        <p:spPr>
          <a:xfrm>
            <a:off x="4724280" y="1371600"/>
            <a:ext cx="76320" cy="5105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Picture 17" descr=""/>
          <p:cNvPicPr/>
          <p:nvPr/>
        </p:nvPicPr>
        <p:blipFill>
          <a:blip r:embed="rId3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7583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9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 -0.00278 C 0.01319 -0.01759 0.02986 -0.025 0.04566 -0.03472 C 0.05469 -0.04051 0.06267 -0.04838 0.0724 -0.05232 C 0.07882 -0.06111 0.09288 -0.06204 0.1026 -0.06505 C 0.11476 -0.06482 0.12674 -0.06482 0.13889 -0.06366 C 0.14514 -0.0632 0.15295 -0.05834 0.15938 -0.05718 C 0.16563 -0.0544 0.16927 -0.05347 0.17622 -0.05232 C 0.19271 -0.0419 0.17031 -0.05556 0.18594 -0.04769 C 0.19201 -0.04445 0.19688 -0.0375 0.20278 -0.03472 C 0.21354 -0.02963 0.22517 -0.02547 0.23681 -0.02361 C 0.24531 -0.01644 0.25486 -0.01111 0.26441 -0.00579 C 0.27031 0.00139 0.27222 0.00926 0.28021 0.0118 C 0.28472 0.0243 0.29514 0.03472 0.30191 0.04537 C 0.30347 0.04722 0.30399 0.05 0.30556 0.05185 C 0.30851 0.05532 0.31528 0.06134 0.31528 0.06157 C 0.31823 0.06759 0.32257 0.07014 0.32604 0.07569 C 0.32899 0.08055 0.33403 0.0912 0.33576 0.09491 C 0.33785 0.0993 0.34427 0.1037 0.3467 0.10625 C 0.35278 0.11203 0.35608 0.11666 0.36111 0.12384 C 0.36406 0.13403 0.37153 0.1412 0.37917 0.14444 C 0.38125 0.14722 0.38316 0.14977 0.38524 0.15254 C 0.38646 0.15393 0.38889 0.15741 0.38889 0.15764 C 0.39271 0.16782 0.40156 0.17546 0.40694 0.18449 C 0.40903 0.1875 0.41024 0.19097 0.41198 0.19421 C 0.41285 0.19583 0.41441 0.19884 0.41441 0.19907 C 0.4151 0.20231 0.41753 0.20486 0.41806 0.20856 C 0.4191 0.21574 0.41788 0.22361 0.4191 0.23102 C 0.42014 0.2368 0.42517 0.24699 0.42517 0.24722 C 0.42813 0.26435 0.43142 0.28125 0.43507 0.29838 C 0.43542 0.33055 0.4375 0.3625 0.4375 0.39444 E">
                                      <p:cBhvr>
                                        <p:cTn id="140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0.4375 0.39455 C 0.43073 0.35824 0.43021 0.32054 0.42483 0.284 C 0.42205 0.2655 0.41806 0.26134 0.41355 0.2426 C 0.40539 0.20838 0.39879 0.17415 0.39237 0.13946 C 0.39098 0.13159 0.38542 0.12743 0.38247 0.12073 C 0.375 0.10407 0.36875 0.0865 0.36146 0.07008 C 0.35487 0.05551 0.34497 0.04441 0.33612 0.03261 C 0.32987 0.02429 0.32275 0.01411 0.31771 0.0044 C 0.31615 0.00139 0.31546 -0.00254 0.31355 -0.00508 C 0.30434 -0.01734 0.28039 -0.03422 0.26841 -0.03885 C 0.22674 -0.05481 0.15903 -0.05273 0.1191 -0.05365 C 0.06059 -0.05041 0.06129 -0.05365 0.02049 -0.03492 C 0.01216 -0.02382 0.00278 -0.01272 -0.00902 -0.00878 C -0.01336 -0.00277 -0.01701 0.00162 -0.02309 0.0044 C -0.025 0.00625 -0.02708 0.00787 -0.02882 0.00995 C -0.03177 0.01342 -0.03715 0.02128 -0.03715 0.02128 C -0.03958 0.03122 -0.03767 0.02521 -0.04427 0.03816 C -0.04513 0.04001 -0.04704 0.04371 -0.04704 0.04371 C -0.04826 0.05042 -0.04982 0.05574 -0.04982 0.06268 E">
                                      <p:cBhvr>
                                        <p:cTn id="142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dd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Побеждает тот теннисист, который отобьет больше мячей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Picture 4" descr="000803_1077_5720_vnvv"/>
          <p:cNvPicPr/>
          <p:nvPr/>
        </p:nvPicPr>
        <p:blipFill>
          <a:blip r:embed="rId1"/>
          <a:stretch/>
        </p:blipFill>
        <p:spPr>
          <a:xfrm>
            <a:off x="1828800" y="1447920"/>
            <a:ext cx="5562720" cy="5246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"/>
          <p:cNvPicPr/>
          <p:nvPr/>
        </p:nvPicPr>
        <p:blipFill>
          <a:blip r:embed="rId2"/>
          <a:stretch/>
        </p:blipFill>
        <p:spPr>
          <a:xfrm>
            <a:off x="87631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8" dur="5109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БОКС. Противники бьют друг друга на ринге в боксерских перчатках.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2" name="Picture 5" descr="000803_1076_8656_vnvv"/>
          <p:cNvPicPr/>
          <p:nvPr/>
        </p:nvPicPr>
        <p:blipFill>
          <a:blip r:embed="rId1"/>
          <a:stretch/>
        </p:blipFill>
        <p:spPr>
          <a:xfrm>
            <a:off x="4876920" y="1905120"/>
            <a:ext cx="2681280" cy="41814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000803_1078_0707_vnvv"/>
          <p:cNvPicPr/>
          <p:nvPr/>
        </p:nvPicPr>
        <p:blipFill>
          <a:blip r:embed="rId2"/>
          <a:stretch/>
        </p:blipFill>
        <p:spPr>
          <a:xfrm flipH="1">
            <a:off x="1523880" y="1828800"/>
            <a:ext cx="3192480" cy="4079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"/>
          <p:cNvPicPr/>
          <p:nvPr/>
        </p:nvPicPr>
        <p:blipFill>
          <a:blip r:embed="rId3"/>
          <a:stretch/>
        </p:blipFill>
        <p:spPr>
          <a:xfrm>
            <a:off x="868680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4" dur="5638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Побеждает сильнейший!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6" name="Picture 5" descr="000803_1077_3521_vnvv"/>
          <p:cNvPicPr/>
          <p:nvPr/>
        </p:nvPicPr>
        <p:blipFill>
          <a:blip r:embed="rId1"/>
          <a:stretch/>
        </p:blipFill>
        <p:spPr>
          <a:xfrm>
            <a:off x="533520" y="1447920"/>
            <a:ext cx="3657600" cy="2936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000803_1078_0206_vnvv"/>
          <p:cNvPicPr/>
          <p:nvPr/>
        </p:nvPicPr>
        <p:blipFill>
          <a:blip r:embed="rId2"/>
          <a:stretch/>
        </p:blipFill>
        <p:spPr>
          <a:xfrm>
            <a:off x="4925880" y="2438280"/>
            <a:ext cx="4218120" cy="42325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"/>
          <p:cNvPicPr/>
          <p:nvPr/>
        </p:nvPicPr>
        <p:blipFill>
          <a:blip r:embed="rId3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" dur="3173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ГОЛЬФ. Цель игры – клюшкой для гольфа забить мячик в лунку.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Picture 5" descr="000803_1077_3814_vnvv"/>
          <p:cNvPicPr/>
          <p:nvPr/>
        </p:nvPicPr>
        <p:blipFill>
          <a:blip r:embed="rId1"/>
          <a:stretch/>
        </p:blipFill>
        <p:spPr>
          <a:xfrm>
            <a:off x="228600" y="1447920"/>
            <a:ext cx="5029200" cy="4163760"/>
          </a:xfrm>
          <a:prstGeom prst="rect">
            <a:avLst/>
          </a:prstGeom>
          <a:ln w="0">
            <a:noFill/>
          </a:ln>
        </p:spPr>
      </p:pic>
      <p:sp>
        <p:nvSpPr>
          <p:cNvPr id="151" name="Oval 6"/>
          <p:cNvSpPr/>
          <p:nvPr/>
        </p:nvSpPr>
        <p:spPr>
          <a:xfrm>
            <a:off x="8229600" y="6172200"/>
            <a:ext cx="685800" cy="22860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2" name="Picture 7" descr=""/>
          <p:cNvPicPr/>
          <p:nvPr/>
        </p:nvPicPr>
        <p:blipFill>
          <a:blip r:embed="rId2"/>
          <a:stretch/>
        </p:blipFill>
        <p:spPr>
          <a:xfrm>
            <a:off x="8686800" y="-762120"/>
            <a:ext cx="233280" cy="233640"/>
          </a:xfrm>
          <a:prstGeom prst="rect">
            <a:avLst/>
          </a:prstGeom>
          <a:ln w="0">
            <a:noFill/>
          </a:ln>
        </p:spPr>
      </p:pic>
      <p:sp>
        <p:nvSpPr>
          <p:cNvPr id="153" name="Oval 8"/>
          <p:cNvSpPr/>
          <p:nvPr/>
        </p:nvSpPr>
        <p:spPr>
          <a:xfrm>
            <a:off x="2971800" y="44956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6" dur="5937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7" nodeType="withEffect" fill="hold" presetClass="path" presetID="49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33333E-006 -7.86309E-007 L 0.575 0.24422 E">
                                      <p:cBhvr>
                                        <p:cTn id="168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50000">
              <a:srgbClr val="ffffff"/>
            </a:gs>
            <a:gs pos="100000">
              <a:srgbClr val="ff505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После состязаний, самые лучшие спортсмены занимают первое, второе или третье места. В честь победителя звучит гимн его страны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Picture 6" descr="000803_1055_6324_vnvv"/>
          <p:cNvPicPr/>
          <p:nvPr/>
        </p:nvPicPr>
        <p:blipFill>
          <a:blip r:embed="rId1"/>
          <a:stretch/>
        </p:blipFill>
        <p:spPr>
          <a:xfrm>
            <a:off x="3276720" y="1066680"/>
            <a:ext cx="2549520" cy="402768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7"/>
          <p:cNvSpPr/>
          <p:nvPr/>
        </p:nvSpPr>
        <p:spPr>
          <a:xfrm>
            <a:off x="3657600" y="5105520"/>
            <a:ext cx="1371600" cy="15238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5029200" y="5562720"/>
            <a:ext cx="1371600" cy="10666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2209680" y="5715000"/>
            <a:ext cx="1447920" cy="9144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Picture 10" descr="000803_1055_5842_vnvv"/>
          <p:cNvPicPr/>
          <p:nvPr/>
        </p:nvPicPr>
        <p:blipFill>
          <a:blip r:embed="rId2"/>
          <a:stretch/>
        </p:blipFill>
        <p:spPr>
          <a:xfrm>
            <a:off x="5181480" y="3200400"/>
            <a:ext cx="1413000" cy="23130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11"/>
          <p:cNvSpPr/>
          <p:nvPr/>
        </p:nvSpPr>
        <p:spPr>
          <a:xfrm>
            <a:off x="3886200" y="541008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5050"/>
                </a:solidFill>
                <a:latin typeface="Arial Black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Text Box 12"/>
          <p:cNvSpPr/>
          <p:nvPr/>
        </p:nvSpPr>
        <p:spPr>
          <a:xfrm>
            <a:off x="5257800" y="579132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5050"/>
                </a:solidFill>
                <a:latin typeface="Arial Black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Text Box 13"/>
          <p:cNvSpPr/>
          <p:nvPr/>
        </p:nvSpPr>
        <p:spPr>
          <a:xfrm>
            <a:off x="2514600" y="579132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5050"/>
                </a:solidFill>
                <a:latin typeface="Arial Black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Picture 14" descr=""/>
          <p:cNvPicPr/>
          <p:nvPr/>
        </p:nvPicPr>
        <p:blipFill>
          <a:blip r:embed="rId3"/>
          <a:stretch/>
        </p:blipFill>
        <p:spPr>
          <a:xfrm>
            <a:off x="9026640" y="-3808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" dur="10796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5" nodeType="withEffect" fill="hold" presetClass="emph" presetID="35">
                                  <p:stCondLst>
                                    <p:cond delay="4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35">
                                  <p:stCondLst>
                                    <p:cond delay="4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50000">
              <a:srgbClr val="ffffff"/>
            </a:gs>
            <a:gs pos="100000">
              <a:srgbClr val="ff505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Выигравшие состязание спортсмены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награждаются медалью или кубком.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Picture 5" descr="000803_1055_6316_vnvv"/>
          <p:cNvPicPr/>
          <p:nvPr/>
        </p:nvPicPr>
        <p:blipFill>
          <a:blip r:embed="rId1"/>
          <a:stretch/>
        </p:blipFill>
        <p:spPr>
          <a:xfrm>
            <a:off x="1600200" y="1600200"/>
            <a:ext cx="2443320" cy="4678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000803_1077_9956_vnvv"/>
          <p:cNvPicPr/>
          <p:nvPr/>
        </p:nvPicPr>
        <p:blipFill>
          <a:blip r:embed="rId2"/>
          <a:stretch/>
        </p:blipFill>
        <p:spPr>
          <a:xfrm>
            <a:off x="5029200" y="1676520"/>
            <a:ext cx="3659040" cy="4295520"/>
          </a:xfrm>
          <a:prstGeom prst="rect">
            <a:avLst/>
          </a:prstGeom>
          <a:ln w="0">
            <a:noFill/>
          </a:ln>
        </p:spPr>
      </p:pic>
      <p:sp>
        <p:nvSpPr>
          <p:cNvPr id="167" name="Oval 7"/>
          <p:cNvSpPr/>
          <p:nvPr/>
        </p:nvSpPr>
        <p:spPr>
          <a:xfrm>
            <a:off x="6477120" y="3733920"/>
            <a:ext cx="380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8" name="Picture 8" descr=""/>
          <p:cNvPicPr/>
          <p:nvPr/>
        </p:nvPicPr>
        <p:blipFill>
          <a:blip r:embed="rId3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4" dur="6147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5" nodeType="withEffect" fill="hold" presetClass="emph" presetID="35" repeatCount="3000">
                                  <p:stCondLst>
                                    <p:cond delay="3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fffff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Arial Black"/>
              </a:rPr>
              <a:t>КОНЕЦ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0" name="Picture 6" descr=""/>
          <p:cNvPicPr/>
          <p:nvPr/>
        </p:nvPicPr>
        <p:blipFill>
          <a:blip r:embed="rId1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2" dur="1747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000803_1055_5841_vnvv"/>
          <p:cNvPicPr/>
          <p:nvPr/>
        </p:nvPicPr>
        <p:blipFill>
          <a:blip r:embed="rId1"/>
          <a:stretch/>
        </p:blipFill>
        <p:spPr>
          <a:xfrm>
            <a:off x="5410080" y="2286000"/>
            <a:ext cx="3083040" cy="3124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000803_1055_5849_vnvv"/>
          <p:cNvPicPr/>
          <p:nvPr/>
        </p:nvPicPr>
        <p:blipFill>
          <a:blip r:embed="rId2"/>
          <a:stretch/>
        </p:blipFill>
        <p:spPr>
          <a:xfrm flipH="1">
            <a:off x="1066320" y="2133720"/>
            <a:ext cx="2768760" cy="31906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7"/>
          <p:cNvSpPr/>
          <p:nvPr/>
        </p:nvSpPr>
        <p:spPr>
          <a:xfrm>
            <a:off x="4724280" y="0"/>
            <a:ext cx="152640" cy="685800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582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ХОККЕЙ – игра на льду в коньках. Хоккеисты клюшками отбивают шайбу у противника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2" name="Picture 10" descr=""/>
          <p:cNvPicPr/>
          <p:nvPr/>
        </p:nvPicPr>
        <p:blipFill>
          <a:blip r:embed="rId3"/>
          <a:stretch/>
        </p:blipFill>
        <p:spPr>
          <a:xfrm>
            <a:off x="902664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7683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ХОККЕИСТ должен забить шайбу в ворота противника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4" name="Picture 5" descr="000803_1055_5849_vnvv"/>
          <p:cNvPicPr/>
          <p:nvPr/>
        </p:nvPicPr>
        <p:blipFill>
          <a:blip r:embed="rId1"/>
          <a:stretch/>
        </p:blipFill>
        <p:spPr>
          <a:xfrm>
            <a:off x="4648320" y="1981080"/>
            <a:ext cx="3678120" cy="395316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7"/>
          <p:cNvSpPr/>
          <p:nvPr/>
        </p:nvSpPr>
        <p:spPr>
          <a:xfrm>
            <a:off x="3581280" y="5257800"/>
            <a:ext cx="685800" cy="380880"/>
          </a:xfrm>
          <a:prstGeom prst="can">
            <a:avLst>
              <a:gd name="adj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AutoShape 9"/>
          <p:cNvSpPr/>
          <p:nvPr/>
        </p:nvSpPr>
        <p:spPr>
          <a:xfrm rot="5400000">
            <a:off x="-1714680" y="2781360"/>
            <a:ext cx="5181840" cy="175248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7" name="Picture 12" descr=""/>
          <p:cNvPicPr/>
          <p:nvPr/>
        </p:nvPicPr>
        <p:blipFill>
          <a:blip r:embed="rId3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4869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35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-4.44444E-006 L -0.30417 0.00556 E">
                                      <p:cBhvr>
                                        <p:cTn id="26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Штангисты поднимают тяжелую штангу, они должны не только оторвать штангу от пола…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9" name="Picture 3" descr="000803_1077_3649_vnvv"/>
          <p:cNvPicPr/>
          <p:nvPr/>
        </p:nvPicPr>
        <p:blipFill>
          <a:blip r:embed="rId1"/>
          <a:stretch/>
        </p:blipFill>
        <p:spPr>
          <a:xfrm>
            <a:off x="6019920" y="1295280"/>
            <a:ext cx="2923920" cy="3014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000803_1077_5912_vnvv"/>
          <p:cNvPicPr/>
          <p:nvPr/>
        </p:nvPicPr>
        <p:blipFill>
          <a:blip r:embed="rId2"/>
          <a:stretch/>
        </p:blipFill>
        <p:spPr>
          <a:xfrm>
            <a:off x="3048120" y="2057400"/>
            <a:ext cx="2401920" cy="3355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000803_1079_3621_vuvv"/>
          <p:cNvPicPr/>
          <p:nvPr/>
        </p:nvPicPr>
        <p:blipFill>
          <a:blip r:embed="rId3"/>
          <a:stretch/>
        </p:blipFill>
        <p:spPr>
          <a:xfrm>
            <a:off x="0" y="4135320"/>
            <a:ext cx="2971800" cy="2722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"/>
          <p:cNvPicPr/>
          <p:nvPr/>
        </p:nvPicPr>
        <p:blipFill>
          <a:blip r:embed="rId4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6945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Но и поднять ее высоко вверх и подержать несколько секунд. Победит тот, кто поднимет самую тяжелую штангу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4" name="Picture 3" descr="000803_1077_5716_vnvv"/>
          <p:cNvPicPr/>
          <p:nvPr/>
        </p:nvPicPr>
        <p:blipFill>
          <a:blip r:embed="rId1"/>
          <a:stretch/>
        </p:blipFill>
        <p:spPr>
          <a:xfrm>
            <a:off x="4343400" y="3200400"/>
            <a:ext cx="4546440" cy="307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000803_1077_5914_vnvv"/>
          <p:cNvPicPr/>
          <p:nvPr/>
        </p:nvPicPr>
        <p:blipFill>
          <a:blip r:embed="rId2"/>
          <a:stretch/>
        </p:blipFill>
        <p:spPr>
          <a:xfrm>
            <a:off x="914400" y="1219320"/>
            <a:ext cx="3368520" cy="5327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"/>
          <p:cNvPicPr/>
          <p:nvPr/>
        </p:nvPicPr>
        <p:blipFill>
          <a:blip r:embed="rId3"/>
          <a:stretch/>
        </p:blipFill>
        <p:spPr>
          <a:xfrm>
            <a:off x="8610480" y="-457200"/>
            <a:ext cx="23364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8920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БАСКЕТБОЛ – люди кидают мяч друг другу руками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8" name="Picture 5" descr="000803_1077_3821_vnvv"/>
          <p:cNvPicPr/>
          <p:nvPr/>
        </p:nvPicPr>
        <p:blipFill>
          <a:blip r:embed="rId1"/>
          <a:stretch/>
        </p:blipFill>
        <p:spPr>
          <a:xfrm>
            <a:off x="1523880" y="2209680"/>
            <a:ext cx="3678480" cy="3867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"/>
          <p:cNvPicPr/>
          <p:nvPr/>
        </p:nvPicPr>
        <p:blipFill>
          <a:blip r:embed="rId2"/>
          <a:stretch/>
        </p:blipFill>
        <p:spPr>
          <a:xfrm>
            <a:off x="8910720" y="-3808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4879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БАСКЕТБОЛИСТ должен закинуть мяч в корзину соперника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1" name="Picture 5" descr="000803_1069_5353_vnvv"/>
          <p:cNvPicPr/>
          <p:nvPr/>
        </p:nvPicPr>
        <p:blipFill>
          <a:blip r:embed="rId1"/>
          <a:stretch/>
        </p:blipFill>
        <p:spPr>
          <a:xfrm>
            <a:off x="2590920" y="1600200"/>
            <a:ext cx="4238640" cy="4473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"/>
          <p:cNvPicPr/>
          <p:nvPr/>
        </p:nvPicPr>
        <p:blipFill>
          <a:blip r:embed="rId2"/>
          <a:stretch/>
        </p:blipFill>
        <p:spPr>
          <a:xfrm>
            <a:off x="902664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4999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ffff"/>
            </a:gs>
            <a:gs pos="100000">
              <a:srgbClr val="ffff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БЕЙСБОЛ – американская игра с битой и мячиком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4" name="Picture 5" descr="000803_1055_5912_vnvv"/>
          <p:cNvPicPr/>
          <p:nvPr/>
        </p:nvPicPr>
        <p:blipFill>
          <a:blip r:embed="rId1"/>
          <a:stretch/>
        </p:blipFill>
        <p:spPr>
          <a:xfrm>
            <a:off x="3124080" y="1295280"/>
            <a:ext cx="2729160" cy="4816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"/>
          <p:cNvPicPr/>
          <p:nvPr/>
        </p:nvPicPr>
        <p:blipFill>
          <a:blip r:embed="rId2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5678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ЕМ</cp:lastModifiedBy>
  <dcterms:modified xsi:type="dcterms:W3CDTF">2010-01-19T05:23:14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