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AD-5629-4D16-AF45-EDC540C6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167-3969-426F-AE1E-E815EAB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858-5918-49AC-9914-0DE36E52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C77-A2EB-4335-828A-6D017C88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D33-2B9C-44D5-A270-D47A72D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2EF-301E-4AB3-8A75-6339E46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47F-11E8-416E-AADD-34D36C9A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EE4-EE9F-4F4D-AE21-F25C4D45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679-C3B9-4552-97C5-4AE7C0B6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460-97AA-45BA-9989-2AAFB8D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CE0-92BF-48DF-924B-82C202F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D439-3FB7-464F-B3E5-3A98574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69C3-407F-4392-8554-C8A43A082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0DE-2E7E-4044-96CE-EEB73BF5E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35640" y="4946040"/>
            <a:ext cx="30240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5000760" y="3714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titled-2 copy"/>
          <p:cNvPicPr/>
          <p:nvPr/>
        </p:nvPicPr>
        <p:blipFill>
          <a:blip r:embed="rId2"/>
          <a:stretch/>
        </p:blipFill>
        <p:spPr>
          <a:xfrm rot="9371400">
            <a:off x="544320" y="445680"/>
            <a:ext cx="2676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941F-5869-4622-9508-D253B16AE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66B8-00DE-4E7F-9AB4-C577E5A54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790-FF61-452D-BCE1-6D4CCDE3E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A27-8DB8-4966-9C80-F61B09906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E9A-E836-4802-8B76-2B6BD451E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9050-0C31-4D97-ACBC-49D9ABAB1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17B8-1641-40B2-85B9-635024B47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2482-3E77-474B-88D0-3B730F4E62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B05-ADCC-442C-A79D-A0763A392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E458-C30D-41AD-B42D-814529F13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CE6-421C-48C9-A27A-2D5ECF10F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49BA-BA97-4F75-ABBD-077CF610B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5FA0-D706-415E-9022-D9FB3D914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F2E3-A7F5-45AC-A208-E68271781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ОЕМ</cp:lastModifiedBy>
  <dcterms:modified xsi:type="dcterms:W3CDTF">2010-01-19T03:42:38Z</dcterms:modified>
  <cp:revision>9</cp:revision>
  <dc:subject/>
  <dc:title>НАСЕКОМЫЕ</dc:title>
</cp:coreProperties>
</file>