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AFC2-D9EF-45F3-AE32-4AFF0070B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8F33-13DF-4764-8C94-52E0C619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613C-A6CE-468E-AC60-F349B39DD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BDD6-CF70-4E6D-8AC5-AB91026E7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A37B3-10D9-4971-BB63-4DF85D974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0C284-4170-437C-9D45-BBB8039E7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C4C35-E64A-45AF-B488-FF60B816B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1BFE2-5E8E-4121-A0CC-46CA9EC2D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5902D-6691-4BAF-A6BA-6F1A3793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404A1-7630-41B6-A7F0-9D39895A9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672A9-370D-4C59-A0D7-ACCEE75F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175D-F8F3-4BF9-A2FF-B617C9096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949CA-6E88-4B14-BC6F-802BB612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2F947-9A01-4B87-A3A2-EA3E861C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6BE15-10E8-4648-823C-9DAD5BF3E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19A22-BB6B-4E55-8FC6-8513A932D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9BD3F-F4B7-4627-BDD0-A40E0DF1D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001F-38CC-451C-BCC8-4F0402857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7066-690D-4D06-BD03-75C4B6682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CBAA-49FD-4581-BC0C-8B97573E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68CA-5BD7-4FEC-9EBF-A2E1DAF4E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6610-FB96-4C7D-BADB-CF84853D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B375-F75E-407F-A43D-A2D17A85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1DC8-82AC-46CE-8A90-2F927616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90A97-821B-4977-A88F-68AA23D13D8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EEAE6-4DDD-4052-ACF6-4FF327C9D5F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0" i="1" lang="en-US" sz="7200" spc="-1" strike="noStrike">
                <a:solidFill>
                  <a:srgbClr val="ff3300"/>
                </a:solidFill>
                <a:latin typeface="Monotype Corsiva"/>
              </a:rPr>
              <a:t>П Р О Ф Е С С И И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619280" y="2421000"/>
            <a:ext cx="604512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076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Книгу переворошив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076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намотай себе на ус –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076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все работы хороши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076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выбира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076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            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на вкус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076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107640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В.В.Маяковск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07640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«Кем быть?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2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40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8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400"/>
                            </p:stCondLst>
                            <p:childTnLst>
                              <p:par>
                                <p:cTn id="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720"/>
                            </p:stCondLst>
                            <p:childTnLst>
                              <p:par>
                                <p:cTn id="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320"/>
                            </p:stCondLst>
                            <p:childTnLst>
                              <p:par>
                                <p:cTn id="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76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214200"/>
            <a:ext cx="86198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Monotype Corsiva"/>
              </a:rPr>
              <a:t>Д О К Т О Р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995640" y="1952640"/>
          <a:ext cx="1062000" cy="21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1952640"/>
                    <a:ext cx="1062000" cy="21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3" name=""/>
          <p:cNvGrpSpPr/>
          <p:nvPr/>
        </p:nvGrpSpPr>
        <p:grpSpPr>
          <a:xfrm>
            <a:off x="179280" y="2282760"/>
            <a:ext cx="3456000" cy="1260720"/>
            <a:chOff x="179280" y="2282760"/>
            <a:chExt cx="3456000" cy="1260720"/>
          </a:xfrm>
        </p:grpSpPr>
        <p:graphicFrame>
          <p:nvGraphicFramePr>
            <p:cNvPr id="104" name=""/>
            <p:cNvGraphicFramePr/>
            <p:nvPr/>
          </p:nvGraphicFramePr>
          <p:xfrm>
            <a:off x="179280" y="2282760"/>
            <a:ext cx="2664000" cy="1260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79280" y="2282760"/>
                      <a:ext cx="2664000" cy="126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6" name=""/>
            <p:cNvSpPr/>
            <p:nvPr/>
          </p:nvSpPr>
          <p:spPr>
            <a:xfrm>
              <a:off x="3059280" y="2924280"/>
              <a:ext cx="57600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5579640" y="2263680"/>
            <a:ext cx="2808720" cy="1309680"/>
            <a:chOff x="5579640" y="2263680"/>
            <a:chExt cx="2808720" cy="1309680"/>
          </a:xfrm>
        </p:grpSpPr>
        <p:graphicFrame>
          <p:nvGraphicFramePr>
            <p:cNvPr id="108" name=""/>
            <p:cNvGraphicFramePr/>
            <p:nvPr/>
          </p:nvGraphicFramePr>
          <p:xfrm>
            <a:off x="6323040" y="2263680"/>
            <a:ext cx="2065320" cy="1309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23040" y="2263680"/>
                      <a:ext cx="2065320" cy="130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0" name=""/>
            <p:cNvSpPr/>
            <p:nvPr/>
          </p:nvSpPr>
          <p:spPr>
            <a:xfrm flipH="1">
              <a:off x="5579640" y="2924280"/>
              <a:ext cx="576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4932000" y="4221000"/>
            <a:ext cx="2664360" cy="2232360"/>
            <a:chOff x="4932000" y="4221000"/>
            <a:chExt cx="2664360" cy="2232360"/>
          </a:xfrm>
        </p:grpSpPr>
        <p:graphicFrame>
          <p:nvGraphicFramePr>
            <p:cNvPr id="112" name=""/>
            <p:cNvGraphicFramePr/>
            <p:nvPr/>
          </p:nvGraphicFramePr>
          <p:xfrm>
            <a:off x="5614920" y="4471920"/>
            <a:ext cx="1981440" cy="1981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614920" y="4471920"/>
                      <a:ext cx="1981440" cy="1981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4" name=""/>
            <p:cNvSpPr/>
            <p:nvPr/>
          </p:nvSpPr>
          <p:spPr>
            <a:xfrm flipH="1" flipV="1">
              <a:off x="4932000" y="4221000"/>
              <a:ext cx="358920" cy="503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547640" y="4221000"/>
            <a:ext cx="2592720" cy="1944720"/>
            <a:chOff x="1547640" y="4221000"/>
            <a:chExt cx="2592720" cy="1944720"/>
          </a:xfrm>
        </p:grpSpPr>
        <p:graphicFrame>
          <p:nvGraphicFramePr>
            <p:cNvPr id="116" name=""/>
            <p:cNvGraphicFramePr/>
            <p:nvPr/>
          </p:nvGraphicFramePr>
          <p:xfrm>
            <a:off x="1547640" y="4430880"/>
            <a:ext cx="2019600" cy="17348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1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547640" y="4430880"/>
                      <a:ext cx="2019600" cy="1734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8" name=""/>
            <p:cNvSpPr/>
            <p:nvPr/>
          </p:nvSpPr>
          <p:spPr>
            <a:xfrm flipV="1">
              <a:off x="3708360" y="4221000"/>
              <a:ext cx="432000" cy="503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560" y="214200"/>
            <a:ext cx="86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Monotype Corsiva"/>
              </a:rPr>
              <a:t>С П О Р Т С М Е Н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971640" y="2671920"/>
            <a:ext cx="2592360" cy="1981080"/>
            <a:chOff x="971640" y="2671920"/>
            <a:chExt cx="2592360" cy="1981080"/>
          </a:xfrm>
        </p:grpSpPr>
        <p:graphicFrame>
          <p:nvGraphicFramePr>
            <p:cNvPr id="121" name=""/>
            <p:cNvGraphicFramePr/>
            <p:nvPr/>
          </p:nvGraphicFramePr>
          <p:xfrm>
            <a:off x="971640" y="2671920"/>
            <a:ext cx="1749600" cy="1981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71640" y="2671920"/>
                      <a:ext cx="1749600" cy="19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3" name=""/>
            <p:cNvSpPr/>
            <p:nvPr/>
          </p:nvSpPr>
          <p:spPr>
            <a:xfrm>
              <a:off x="2914920" y="3795840"/>
              <a:ext cx="64908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364000" y="2671920"/>
            <a:ext cx="2880000" cy="1981080"/>
            <a:chOff x="5364000" y="2671920"/>
            <a:chExt cx="2880000" cy="1981080"/>
          </a:xfrm>
        </p:grpSpPr>
        <p:graphicFrame>
          <p:nvGraphicFramePr>
            <p:cNvPr id="125" name=""/>
            <p:cNvGraphicFramePr/>
            <p:nvPr/>
          </p:nvGraphicFramePr>
          <p:xfrm>
            <a:off x="6222960" y="2671920"/>
            <a:ext cx="2021040" cy="1981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222960" y="2671920"/>
                      <a:ext cx="2021040" cy="19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7" name=""/>
            <p:cNvSpPr/>
            <p:nvPr/>
          </p:nvSpPr>
          <p:spPr>
            <a:xfrm flipH="1">
              <a:off x="5364000" y="3795840"/>
              <a:ext cx="64944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3986280" y="2021040"/>
            <a:ext cx="1162080" cy="327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214200"/>
            <a:ext cx="86198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3300"/>
                </a:solidFill>
                <a:latin typeface="Monotype Corsiva"/>
              </a:rPr>
              <a:t>Х У Д О Ж Н И К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564000" y="1700280"/>
          <a:ext cx="1828800" cy="220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1700280"/>
                    <a:ext cx="1828800" cy="22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2" name=""/>
          <p:cNvGrpSpPr/>
          <p:nvPr/>
        </p:nvGrpSpPr>
        <p:grpSpPr>
          <a:xfrm>
            <a:off x="5724000" y="2022480"/>
            <a:ext cx="2450160" cy="1982880"/>
            <a:chOff x="5724000" y="2022480"/>
            <a:chExt cx="2450160" cy="1982880"/>
          </a:xfrm>
        </p:grpSpPr>
        <p:graphicFrame>
          <p:nvGraphicFramePr>
            <p:cNvPr id="133" name=""/>
            <p:cNvGraphicFramePr/>
            <p:nvPr/>
          </p:nvGraphicFramePr>
          <p:xfrm>
            <a:off x="6588000" y="2022480"/>
            <a:ext cx="1586160" cy="1982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588000" y="2022480"/>
                      <a:ext cx="1586160" cy="198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5" name=""/>
            <p:cNvSpPr/>
            <p:nvPr/>
          </p:nvSpPr>
          <p:spPr>
            <a:xfrm flipH="1">
              <a:off x="5724000" y="2924280"/>
              <a:ext cx="576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68360" y="2276640"/>
            <a:ext cx="2808360" cy="1438200"/>
            <a:chOff x="468360" y="2276640"/>
            <a:chExt cx="2808360" cy="1438200"/>
          </a:xfrm>
        </p:grpSpPr>
        <p:graphicFrame>
          <p:nvGraphicFramePr>
            <p:cNvPr id="137" name=""/>
            <p:cNvGraphicFramePr/>
            <p:nvPr/>
          </p:nvGraphicFramePr>
          <p:xfrm>
            <a:off x="468360" y="2276640"/>
            <a:ext cx="2095560" cy="1438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68360" y="2276640"/>
                      <a:ext cx="2095560" cy="143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9" name=""/>
            <p:cNvSpPr/>
            <p:nvPr/>
          </p:nvSpPr>
          <p:spPr>
            <a:xfrm>
              <a:off x="2700360" y="2924280"/>
              <a:ext cx="576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258920" y="4005000"/>
            <a:ext cx="2376360" cy="2268720"/>
            <a:chOff x="1258920" y="4005000"/>
            <a:chExt cx="2376360" cy="2268720"/>
          </a:xfrm>
        </p:grpSpPr>
        <p:graphicFrame>
          <p:nvGraphicFramePr>
            <p:cNvPr id="141" name=""/>
            <p:cNvGraphicFramePr/>
            <p:nvPr/>
          </p:nvGraphicFramePr>
          <p:xfrm>
            <a:off x="1258920" y="4292640"/>
            <a:ext cx="1333440" cy="1981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258920" y="4292640"/>
                      <a:ext cx="1333440" cy="19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3" name=""/>
            <p:cNvSpPr/>
            <p:nvPr/>
          </p:nvSpPr>
          <p:spPr>
            <a:xfrm flipV="1">
              <a:off x="2916360" y="4005000"/>
              <a:ext cx="718920" cy="4316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851280" y="4076640"/>
            <a:ext cx="1401840" cy="2486160"/>
            <a:chOff x="3851280" y="4076640"/>
            <a:chExt cx="1401840" cy="2486160"/>
          </a:xfrm>
        </p:grpSpPr>
        <p:graphicFrame>
          <p:nvGraphicFramePr>
            <p:cNvPr id="145" name=""/>
            <p:cNvGraphicFramePr/>
            <p:nvPr/>
          </p:nvGraphicFramePr>
          <p:xfrm>
            <a:off x="3851280" y="4581360"/>
            <a:ext cx="1401840" cy="19814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4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851280" y="4581360"/>
                      <a:ext cx="1401840" cy="1981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7" name=""/>
            <p:cNvSpPr/>
            <p:nvPr/>
          </p:nvSpPr>
          <p:spPr>
            <a:xfrm flipV="1">
              <a:off x="4500720" y="4076640"/>
              <a:ext cx="0" cy="4320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364000" y="3933360"/>
            <a:ext cx="2689560" cy="1857960"/>
            <a:chOff x="5364000" y="3933360"/>
            <a:chExt cx="2689560" cy="1857960"/>
          </a:xfrm>
        </p:grpSpPr>
        <p:graphicFrame>
          <p:nvGraphicFramePr>
            <p:cNvPr id="149" name=""/>
            <p:cNvGraphicFramePr/>
            <p:nvPr/>
          </p:nvGraphicFramePr>
          <p:xfrm>
            <a:off x="6443640" y="4724280"/>
            <a:ext cx="1609920" cy="10670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443640" y="4724280"/>
                      <a:ext cx="1609920" cy="106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1" name=""/>
            <p:cNvSpPr/>
            <p:nvPr/>
          </p:nvSpPr>
          <p:spPr>
            <a:xfrm flipH="1" flipV="1">
              <a:off x="5364000" y="3933360"/>
              <a:ext cx="936720" cy="6476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600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214200"/>
            <a:ext cx="86198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3300"/>
                </a:solidFill>
                <a:latin typeface="Monotype Corsiva"/>
              </a:rPr>
              <a:t>Ш В Е Я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3564000" y="1917720"/>
          <a:ext cx="2303280" cy="23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1917720"/>
                    <a:ext cx="2303280" cy="23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5" name=""/>
          <p:cNvGrpSpPr/>
          <p:nvPr/>
        </p:nvGrpSpPr>
        <p:grpSpPr>
          <a:xfrm>
            <a:off x="324000" y="2525760"/>
            <a:ext cx="3024000" cy="1118880"/>
            <a:chOff x="324000" y="2525760"/>
            <a:chExt cx="3024000" cy="1118880"/>
          </a:xfrm>
        </p:grpSpPr>
        <p:graphicFrame>
          <p:nvGraphicFramePr>
            <p:cNvPr id="156" name=""/>
            <p:cNvGraphicFramePr/>
            <p:nvPr/>
          </p:nvGraphicFramePr>
          <p:xfrm>
            <a:off x="324000" y="2525760"/>
            <a:ext cx="2376360" cy="1118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24000" y="2525760"/>
                      <a:ext cx="2376360" cy="11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8" name=""/>
            <p:cNvSpPr/>
            <p:nvPr/>
          </p:nvSpPr>
          <p:spPr>
            <a:xfrm>
              <a:off x="2843280" y="2997000"/>
              <a:ext cx="50472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6083280" y="2011320"/>
            <a:ext cx="2506680" cy="1704960"/>
            <a:chOff x="6083280" y="2011320"/>
            <a:chExt cx="2506680" cy="1704960"/>
          </a:xfrm>
        </p:grpSpPr>
        <p:graphicFrame>
          <p:nvGraphicFramePr>
            <p:cNvPr id="160" name=""/>
            <p:cNvGraphicFramePr/>
            <p:nvPr/>
          </p:nvGraphicFramePr>
          <p:xfrm>
            <a:off x="6732720" y="2011320"/>
            <a:ext cx="1857240" cy="1704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6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732720" y="2011320"/>
                      <a:ext cx="1857240" cy="170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2" name=""/>
            <p:cNvSpPr/>
            <p:nvPr/>
          </p:nvSpPr>
          <p:spPr>
            <a:xfrm flipH="1">
              <a:off x="6083280" y="3019320"/>
              <a:ext cx="50472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1547640" y="4438440"/>
            <a:ext cx="2017800" cy="1657440"/>
            <a:chOff x="1547640" y="4438440"/>
            <a:chExt cx="2017800" cy="1657440"/>
          </a:xfrm>
        </p:grpSpPr>
        <p:graphicFrame>
          <p:nvGraphicFramePr>
            <p:cNvPr id="164" name=""/>
            <p:cNvGraphicFramePr/>
            <p:nvPr/>
          </p:nvGraphicFramePr>
          <p:xfrm>
            <a:off x="1547640" y="4724280"/>
            <a:ext cx="2017800" cy="13716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6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547640" y="4724280"/>
                      <a:ext cx="2017800" cy="13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6" name=""/>
            <p:cNvSpPr/>
            <p:nvPr/>
          </p:nvSpPr>
          <p:spPr>
            <a:xfrm flipV="1">
              <a:off x="2916360" y="4438440"/>
              <a:ext cx="431640" cy="4302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5651640" y="4436640"/>
            <a:ext cx="2015640" cy="1699200"/>
            <a:chOff x="5651640" y="4436640"/>
            <a:chExt cx="2015640" cy="1699200"/>
          </a:xfrm>
        </p:grpSpPr>
        <p:graphicFrame>
          <p:nvGraphicFramePr>
            <p:cNvPr id="168" name=""/>
            <p:cNvGraphicFramePr/>
            <p:nvPr/>
          </p:nvGraphicFramePr>
          <p:xfrm>
            <a:off x="6211800" y="4508640"/>
            <a:ext cx="1455480" cy="16272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6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211800" y="4508640"/>
                      <a:ext cx="1455480" cy="162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0" name=""/>
            <p:cNvSpPr/>
            <p:nvPr/>
          </p:nvSpPr>
          <p:spPr>
            <a:xfrm flipH="1" flipV="1">
              <a:off x="5651640" y="4436640"/>
              <a:ext cx="522000" cy="4748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6T04:37:36Z</dcterms:created>
  <dc:creator>Engineer</dc:creator>
  <dc:description/>
  <dc:language>en-US</dc:language>
  <cp:lastModifiedBy>Engineer</cp:lastModifiedBy>
  <dcterms:modified xsi:type="dcterms:W3CDTF">2006-04-06T05:30:05Z</dcterms:modified>
  <cp:revision>31</cp:revision>
  <dc:subject/>
  <dc:title>Х У Д О Ж Н И К</dc:title>
</cp:coreProperties>
</file>