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F4C-40D9-4CD0-A1B0-CD9151C0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D71-4301-42E8-8FAD-A21618F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080-76E8-48E7-A923-A08628DE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418-D893-446E-9600-8F128BA5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431-A234-4268-BD59-437D7067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E26-5971-4F52-905D-962CFA44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92A-EC94-480B-A04C-D697D8B6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D8F-47C4-4E4B-A88A-D470A70C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ED2-46FC-400D-9274-416499AE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310-3073-4D45-9FE9-DB328E4F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D31-86EA-462A-A598-A6C1B3FA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24DD-0699-4F2D-B900-43648794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369-D05C-4A7F-A7F8-39365BB39F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0DA-EB1E-4921-AFBB-E32CF38C0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435640" y="4946040"/>
            <a:ext cx="30240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5000760" y="371484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titled-2 copy"/>
          <p:cNvPicPr/>
          <p:nvPr/>
        </p:nvPicPr>
        <p:blipFill>
          <a:blip r:embed="rId2"/>
          <a:stretch/>
        </p:blipFill>
        <p:spPr>
          <a:xfrm rot="9371400">
            <a:off x="544320" y="445680"/>
            <a:ext cx="26762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6ACB-D4C1-456D-9865-D6F47C652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D4FB-AB85-4642-A62A-D38EF3414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E81-7E8D-4DE2-B6B9-766A78E828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5C9-48F0-4A92-A3D7-15812E9E50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1763-2E94-4766-999D-05ED5022F6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3E0B-DBA0-4831-B89D-A246DC0940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EBF2-7AFD-4CBA-9283-43B8C72C19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F52D-8ABB-4584-B606-03C8E65E6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48BE-B0B3-4E7E-9026-EC7A4E06C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5A7-9D5A-4528-8A53-B06C13224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F9BB-F801-4FB2-AC8D-9AD07A322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77CE-F884-4537-8653-95611413B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D29-9E9E-4E6F-86F5-8292DF62DA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0D4A-4468-43B3-A411-B63230B58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ОЕМ</cp:lastModifiedBy>
  <dcterms:modified xsi:type="dcterms:W3CDTF">2010-01-19T03:42:38Z</dcterms:modified>
  <cp:revision>9</cp:revision>
  <dc:subject/>
  <dc:title>НАСЕКОМЫЕ</dc:title>
</cp:coreProperties>
</file>