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BFA-C89D-4AF7-947D-CE59EE76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D25-981B-45A3-8AA0-F1DB43E9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F37-45D7-48CB-92F9-32C25C12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D8A-9423-4CA4-82DD-E1105916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2D5F-8F89-4446-8894-E80695AA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36D5-E380-4B38-8BB2-6BBB5BD4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DB6A-3267-40E0-9562-EBB8646D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3746-453E-4BF2-8684-AD7FF34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DEAC-08FA-4393-8C0D-3403BACD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ED80-102A-4981-9525-748C382F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F2BF-D78E-43F9-9EE0-6B1D78F1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70F-A7AE-47AF-A011-453002C4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B262-31A3-49E4-B012-80CB587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B25F-FCD0-4C77-86AC-5A12E30E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88C2-5CD6-433B-A304-B689147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50C0-0269-48CD-AD5A-54B3ED92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61E9-BD7E-4652-ADCD-BFE845C7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CDB-FF84-4561-8B0F-8018900B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936-9275-4D61-8096-FCD08744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A8A-A5D5-45F9-B96A-0F0E6FFF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CB6F-F63E-4918-A57A-51BB8DE7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2D1-F192-454E-AE3B-593E3026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9BB-5B9D-47D3-9128-5F1509D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9AB-7FF5-4AAF-A7A5-1FC2F190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BCF7-FC85-4916-AD1B-3FC3D2D26D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EF6-2880-45E6-9A30-68768188EC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П Р О Ф Е С С И И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0451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Книгу переворошив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мотай себе на ус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се работы хорош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выбира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на вкус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07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В.В.Маяк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0764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«Кем быть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2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4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72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32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76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Д О К Т О Р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95640" y="1952640"/>
          <a:ext cx="1062000" cy="21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952640"/>
                    <a:ext cx="106200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179280" y="2282760"/>
            <a:ext cx="3456000" cy="1260720"/>
            <a:chOff x="179280" y="2282760"/>
            <a:chExt cx="3456000" cy="1260720"/>
          </a:xfrm>
        </p:grpSpPr>
        <p:graphicFrame>
          <p:nvGraphicFramePr>
            <p:cNvPr id="104" name=""/>
            <p:cNvGraphicFramePr/>
            <p:nvPr/>
          </p:nvGraphicFramePr>
          <p:xfrm>
            <a:off x="179280" y="2282760"/>
            <a:ext cx="2664000" cy="126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9280" y="2282760"/>
                      <a:ext cx="2664000" cy="126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3059280" y="2924280"/>
              <a:ext cx="57600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79640" y="2263680"/>
            <a:ext cx="2808720" cy="1309680"/>
            <a:chOff x="5579640" y="2263680"/>
            <a:chExt cx="2808720" cy="1309680"/>
          </a:xfrm>
        </p:grpSpPr>
        <p:graphicFrame>
          <p:nvGraphicFramePr>
            <p:cNvPr id="108" name=""/>
            <p:cNvGraphicFramePr/>
            <p:nvPr/>
          </p:nvGraphicFramePr>
          <p:xfrm>
            <a:off x="6323040" y="2263680"/>
            <a:ext cx="2065320" cy="13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3040" y="2263680"/>
                      <a:ext cx="2065320" cy="13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 flipH="1">
              <a:off x="557964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932000" y="4221000"/>
            <a:ext cx="2664360" cy="2232360"/>
            <a:chOff x="4932000" y="4221000"/>
            <a:chExt cx="2664360" cy="2232360"/>
          </a:xfrm>
        </p:grpSpPr>
        <p:graphicFrame>
          <p:nvGraphicFramePr>
            <p:cNvPr id="112" name=""/>
            <p:cNvGraphicFramePr/>
            <p:nvPr/>
          </p:nvGraphicFramePr>
          <p:xfrm>
            <a:off x="5614920" y="4471920"/>
            <a:ext cx="1981440" cy="1981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14920" y="4471920"/>
                      <a:ext cx="19814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 flipH="1" flipV="1">
              <a:off x="4932000" y="4221000"/>
              <a:ext cx="35892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547640" y="4221000"/>
            <a:ext cx="2592720" cy="1944720"/>
            <a:chOff x="1547640" y="4221000"/>
            <a:chExt cx="2592720" cy="1944720"/>
          </a:xfrm>
        </p:grpSpPr>
        <p:graphicFrame>
          <p:nvGraphicFramePr>
            <p:cNvPr id="116" name=""/>
            <p:cNvGraphicFramePr/>
            <p:nvPr/>
          </p:nvGraphicFramePr>
          <p:xfrm>
            <a:off x="1547640" y="4430880"/>
            <a:ext cx="2019600" cy="1734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47640" y="4430880"/>
                      <a:ext cx="2019600" cy="173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 flipV="1">
              <a:off x="3708360" y="4221000"/>
              <a:ext cx="432000" cy="503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Monotype Corsiva"/>
              </a:rPr>
              <a:t>С П О Р Т С М Е Н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71640" y="2671920"/>
            <a:ext cx="2592360" cy="1981080"/>
            <a:chOff x="971640" y="2671920"/>
            <a:chExt cx="2592360" cy="1981080"/>
          </a:xfrm>
        </p:grpSpPr>
        <p:graphicFrame>
          <p:nvGraphicFramePr>
            <p:cNvPr id="121" name=""/>
            <p:cNvGraphicFramePr/>
            <p:nvPr/>
          </p:nvGraphicFramePr>
          <p:xfrm>
            <a:off x="971640" y="2671920"/>
            <a:ext cx="174960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71640" y="2671920"/>
                      <a:ext cx="17496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" name=""/>
            <p:cNvSpPr/>
            <p:nvPr/>
          </p:nvSpPr>
          <p:spPr>
            <a:xfrm>
              <a:off x="2914920" y="3795840"/>
              <a:ext cx="64908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364000" y="2671920"/>
            <a:ext cx="2880000" cy="1981080"/>
            <a:chOff x="5364000" y="2671920"/>
            <a:chExt cx="2880000" cy="1981080"/>
          </a:xfrm>
        </p:grpSpPr>
        <p:graphicFrame>
          <p:nvGraphicFramePr>
            <p:cNvPr id="125" name=""/>
            <p:cNvGraphicFramePr/>
            <p:nvPr/>
          </p:nvGraphicFramePr>
          <p:xfrm>
            <a:off x="6222960" y="2671920"/>
            <a:ext cx="202104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2960" y="2671920"/>
                      <a:ext cx="20210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 flipH="1">
              <a:off x="5364000" y="3795840"/>
              <a:ext cx="6494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86280" y="2021040"/>
            <a:ext cx="116208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Х У Д О Ж Н И К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64000" y="1700280"/>
          <a:ext cx="182880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700280"/>
                    <a:ext cx="18288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5724000" y="2022480"/>
            <a:ext cx="2450160" cy="1982880"/>
            <a:chOff x="5724000" y="2022480"/>
            <a:chExt cx="2450160" cy="1982880"/>
          </a:xfrm>
        </p:grpSpPr>
        <p:graphicFrame>
          <p:nvGraphicFramePr>
            <p:cNvPr id="133" name=""/>
            <p:cNvGraphicFramePr/>
            <p:nvPr/>
          </p:nvGraphicFramePr>
          <p:xfrm>
            <a:off x="6588000" y="2022480"/>
            <a:ext cx="1586160" cy="1982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88000" y="2022480"/>
                      <a:ext cx="1586160" cy="198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 flipH="1">
              <a:off x="572400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68360" y="2276640"/>
            <a:ext cx="2808360" cy="1438200"/>
            <a:chOff x="468360" y="2276640"/>
            <a:chExt cx="2808360" cy="1438200"/>
          </a:xfrm>
        </p:grpSpPr>
        <p:graphicFrame>
          <p:nvGraphicFramePr>
            <p:cNvPr id="137" name=""/>
            <p:cNvGraphicFramePr/>
            <p:nvPr/>
          </p:nvGraphicFramePr>
          <p:xfrm>
            <a:off x="468360" y="2276640"/>
            <a:ext cx="2095560" cy="14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8360" y="2276640"/>
                      <a:ext cx="209556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2700360" y="2924280"/>
              <a:ext cx="57636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920" y="4005000"/>
            <a:ext cx="2376360" cy="2268720"/>
            <a:chOff x="1258920" y="4005000"/>
            <a:chExt cx="2376360" cy="2268720"/>
          </a:xfrm>
        </p:grpSpPr>
        <p:graphicFrame>
          <p:nvGraphicFramePr>
            <p:cNvPr id="141" name=""/>
            <p:cNvGraphicFramePr/>
            <p:nvPr/>
          </p:nvGraphicFramePr>
          <p:xfrm>
            <a:off x="1258920" y="4292640"/>
            <a:ext cx="13334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258920" y="4292640"/>
                      <a:ext cx="13334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V="1">
              <a:off x="2916360" y="4005000"/>
              <a:ext cx="718920" cy="431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51280" y="4076640"/>
            <a:ext cx="1401840" cy="2486160"/>
            <a:chOff x="3851280" y="4076640"/>
            <a:chExt cx="1401840" cy="2486160"/>
          </a:xfrm>
        </p:grpSpPr>
        <p:graphicFrame>
          <p:nvGraphicFramePr>
            <p:cNvPr id="145" name=""/>
            <p:cNvGraphicFramePr/>
            <p:nvPr/>
          </p:nvGraphicFramePr>
          <p:xfrm>
            <a:off x="3851280" y="4581360"/>
            <a:ext cx="1401840" cy="1981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51280" y="4581360"/>
                      <a:ext cx="14018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 flipV="1">
              <a:off x="4500720" y="4076640"/>
              <a:ext cx="0" cy="4320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64000" y="3933360"/>
            <a:ext cx="2689560" cy="1857960"/>
            <a:chOff x="5364000" y="3933360"/>
            <a:chExt cx="2689560" cy="1857960"/>
          </a:xfrm>
        </p:grpSpPr>
        <p:graphicFrame>
          <p:nvGraphicFramePr>
            <p:cNvPr id="149" name=""/>
            <p:cNvGraphicFramePr/>
            <p:nvPr/>
          </p:nvGraphicFramePr>
          <p:xfrm>
            <a:off x="6443640" y="4724280"/>
            <a:ext cx="1609920" cy="1067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43640" y="4724280"/>
                      <a:ext cx="160992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 flipH="1" flipV="1">
              <a:off x="5364000" y="3933360"/>
              <a:ext cx="936720" cy="6476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3300"/>
                </a:solidFill>
                <a:latin typeface="Monotype Corsiva"/>
              </a:rPr>
              <a:t>Ш В Е Я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64000" y="1917720"/>
          <a:ext cx="230328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917720"/>
                    <a:ext cx="230328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324000" y="2525760"/>
            <a:ext cx="3024000" cy="1118880"/>
            <a:chOff x="324000" y="2525760"/>
            <a:chExt cx="3024000" cy="1118880"/>
          </a:xfrm>
        </p:grpSpPr>
        <p:graphicFrame>
          <p:nvGraphicFramePr>
            <p:cNvPr id="156" name=""/>
            <p:cNvGraphicFramePr/>
            <p:nvPr/>
          </p:nvGraphicFramePr>
          <p:xfrm>
            <a:off x="324000" y="2525760"/>
            <a:ext cx="2376360" cy="1118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4000" y="2525760"/>
                      <a:ext cx="2376360" cy="11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"/>
            <p:cNvSpPr/>
            <p:nvPr/>
          </p:nvSpPr>
          <p:spPr>
            <a:xfrm>
              <a:off x="2843280" y="299700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083280" y="2011320"/>
            <a:ext cx="2506680" cy="1704960"/>
            <a:chOff x="6083280" y="2011320"/>
            <a:chExt cx="2506680" cy="1704960"/>
          </a:xfrm>
        </p:grpSpPr>
        <p:graphicFrame>
          <p:nvGraphicFramePr>
            <p:cNvPr id="160" name=""/>
            <p:cNvGraphicFramePr/>
            <p:nvPr/>
          </p:nvGraphicFramePr>
          <p:xfrm>
            <a:off x="6732720" y="2011320"/>
            <a:ext cx="1857240" cy="170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32720" y="2011320"/>
                      <a:ext cx="185724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 flipH="1">
              <a:off x="6083280" y="3019320"/>
              <a:ext cx="50472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47640" y="4438440"/>
            <a:ext cx="2017800" cy="1657440"/>
            <a:chOff x="1547640" y="4438440"/>
            <a:chExt cx="2017800" cy="1657440"/>
          </a:xfrm>
        </p:grpSpPr>
        <p:graphicFrame>
          <p:nvGraphicFramePr>
            <p:cNvPr id="164" name=""/>
            <p:cNvGraphicFramePr/>
            <p:nvPr/>
          </p:nvGraphicFramePr>
          <p:xfrm>
            <a:off x="1547640" y="4724280"/>
            <a:ext cx="2017800" cy="1371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47640" y="4724280"/>
                      <a:ext cx="201780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 flipV="1">
              <a:off x="2916360" y="4438440"/>
              <a:ext cx="431640" cy="4302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651640" y="4436640"/>
            <a:ext cx="2015640" cy="1699200"/>
            <a:chOff x="5651640" y="4436640"/>
            <a:chExt cx="2015640" cy="1699200"/>
          </a:xfrm>
        </p:grpSpPr>
        <p:graphicFrame>
          <p:nvGraphicFramePr>
            <p:cNvPr id="168" name=""/>
            <p:cNvGraphicFramePr/>
            <p:nvPr/>
          </p:nvGraphicFramePr>
          <p:xfrm>
            <a:off x="6211800" y="4508640"/>
            <a:ext cx="1455480" cy="1627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211800" y="4508640"/>
                      <a:ext cx="1455480" cy="162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 flipH="1" flipV="1">
              <a:off x="5651640" y="4436640"/>
              <a:ext cx="522000" cy="474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37:36Z</dcterms:created>
  <dc:creator>Engineer</dc:creator>
  <dc:description/>
  <dc:language>en-US</dc:language>
  <cp:lastModifiedBy>Engineer</cp:lastModifiedBy>
  <dcterms:modified xsi:type="dcterms:W3CDTF">2006-04-06T05:30:05Z</dcterms:modified>
  <cp:revision>31</cp:revision>
  <dc:subject/>
  <dc:title>Х У Д О Ж Н И К</dc:title>
</cp:coreProperties>
</file>