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3.wmf" ContentType="image/x-wmf"/>
  <Override PartName="/ppt/media/image25.wmf" ContentType="image/x-wmf"/>
  <Override PartName="/ppt/media/image15.jpeg" ContentType="image/jpeg"/>
  <Override PartName="/ppt/media/image21.jpeg" ContentType="image/jpeg"/>
  <Override PartName="/ppt/media/image6.wmf" ContentType="image/x-wmf"/>
  <Override PartName="/ppt/media/image31.wmf" ContentType="image/x-wmf"/>
  <Override PartName="/ppt/media/image1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22.jpeg" ContentType="image/jpeg"/>
  <Override PartName="/ppt/media/image9.png" ContentType="image/png"/>
  <Override PartName="/ppt/media/image34.png" ContentType="image/png"/>
  <Override PartName="/ppt/media/image30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4.wmf" ContentType="image/x-wmf"/>
  <Override PartName="/ppt/media/image11.jpeg" ContentType="image/jpeg"/>
  <Override PartName="/ppt/media/image1.gif" ContentType="image/gif"/>
  <Override PartName="/ppt/media/image32.jpeg" ContentType="image/jpeg"/>
  <Override PartName="/ppt/media/image24.gif" ContentType="image/gif"/>
  <Override PartName="/ppt/media/image14.png" ContentType="image/png"/>
  <Override PartName="/ppt/media/image16.png" ContentType="image/png"/>
  <Override PartName="/ppt/media/image18.jpeg" ContentType="image/jpeg"/>
  <Override PartName="/ppt/media/image20.png" ContentType="image/png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03FA-DFE1-43E7-BE2C-8F07D9046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6476-D4BC-49FB-B473-4E7299B0B8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6679-E673-4252-898F-55F6ED598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CF1F-6C7E-4611-981D-4F0EA782B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427B-555B-4D26-8818-1879138377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F7D9-18E6-47D8-9628-ACD900EAAA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D4DF-EC18-49F0-A081-6E0E8C06CC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50A7-3390-4036-B20F-068690EFFD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0A60-282A-4BF7-95E4-E47836F675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2B84-DC22-4B8D-8D0E-A096F5A69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5523-72B9-420E-AC5A-6CA62EE78C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7B4A-CF07-4A3E-B1EF-F1C35F208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AED0-6CC0-4ED1-B998-9EA230E20C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3790-A49D-4257-99C3-F58087665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08BB-A275-401B-ABCF-F11D3AF06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7B94-9EC6-4586-B417-E289F56536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8FCC-A157-4827-8873-4371E14E1B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915C-A29F-44F0-807C-2ABDDF9A8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4C9D-352F-4CFB-B6FF-C9D67DD37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0F0F-8138-44F8-9351-7BCD09A0F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140E-0A1E-4E8B-98B5-FF35AF7CB5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0E25-27B5-406F-8CF0-3CD2654DC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0F62-4FE3-44CB-BE2E-40E9B64FD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1D59-9A14-4DCF-B3FB-AE147DCA82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015D-81FC-4BCB-A663-148BB7BCCF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1E39-6ADD-4257-AE0B-2104549B9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214-CA4E-4353-B6CA-8FC8FACD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A71-6B5E-4E3A-B4C3-367B51E6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DD7-A9F0-4BB8-89A8-2CE43297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E76-28E6-475A-AA6E-A65D5D01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5AC-89BC-4CC3-9887-5A93C78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55E-609F-48CE-92E4-D8D45ED1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646-1623-4058-B444-827EEF20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A0D-A0A3-4C95-AE63-1C56F646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9C7-231F-4E01-83A6-6ED531FF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BDB-F1E7-47B5-9106-2B5010EE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994-A1BA-4DB7-B4AB-366E8A3F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CDF-3DF5-47E2-B928-656915B3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A403-2DE2-46FE-8EC4-468439E0C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3EFB-5643-4AA7-BDE1-FBE93FBDF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cccc"/>
                </a:solidFill>
                <a:uFillTx/>
                <a:latin typeface="Century Gothic"/>
              </a:rPr>
              <a:t>СУ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48769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утках есть утро, день, вечер, но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тки это 24 ча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часть суток длится примерно одинаково - по 6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MMj03368630000[1]"/>
          <p:cNvPicPr/>
          <p:nvPr/>
        </p:nvPicPr>
        <p:blipFill>
          <a:blip r:embed="rId1"/>
          <a:stretch/>
        </p:blipFill>
        <p:spPr>
          <a:xfrm>
            <a:off x="6858000" y="1341360"/>
            <a:ext cx="1604880" cy="148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85345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7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13E0-81A1-47DE-94D8-86E421D4D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ем солнце находится в зените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есть, высоко- высоко в н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sunny_sun"/>
          <p:cNvPicPr/>
          <p:nvPr/>
        </p:nvPicPr>
        <p:blipFill>
          <a:blip r:embed="rId1"/>
          <a:stretch/>
        </p:blipFill>
        <p:spPr>
          <a:xfrm>
            <a:off x="1981080" y="326880"/>
            <a:ext cx="5562720" cy="5029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0" name="Picture 7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5947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26FB-7622-4CF0-A0E2-AB8676A442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ем у мамы очень много д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busy_mom_1"/>
          <p:cNvPicPr/>
          <p:nvPr/>
        </p:nvPicPr>
        <p:blipFill>
          <a:blip r:embed="rId1"/>
          <a:stretch/>
        </p:blipFill>
        <p:spPr>
          <a:xfrm>
            <a:off x="2666880" y="533520"/>
            <a:ext cx="4454640" cy="5333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874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445A-4552-4284-836F-B4F5A2D90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5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дети днем гуляют на у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building_a_snowman"/>
          <p:cNvPicPr/>
          <p:nvPr/>
        </p:nvPicPr>
        <p:blipFill>
          <a:blip r:embed="rId1"/>
          <a:stretch/>
        </p:blipFill>
        <p:spPr>
          <a:xfrm>
            <a:off x="4572000" y="1219320"/>
            <a:ext cx="4572000" cy="3968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04"/>
          <p:cNvPicPr/>
          <p:nvPr/>
        </p:nvPicPr>
        <p:blipFill>
          <a:blip r:embed="rId2"/>
          <a:stretch/>
        </p:blipFill>
        <p:spPr>
          <a:xfrm>
            <a:off x="0" y="1295280"/>
            <a:ext cx="4419720" cy="385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9" name="Text Box 13"/>
          <p:cNvSpPr/>
          <p:nvPr/>
        </p:nvSpPr>
        <p:spPr>
          <a:xfrm>
            <a:off x="990720" y="5410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791320" y="53341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И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3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325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253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2AD5-15E3-4047-8A5B-04617BE624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дают обычно с 2 до 3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MCj04132620000[1]"/>
          <p:cNvPicPr/>
          <p:nvPr/>
        </p:nvPicPr>
        <p:blipFill>
          <a:blip r:embed="rId1"/>
          <a:stretch/>
        </p:blipFill>
        <p:spPr>
          <a:xfrm>
            <a:off x="990720" y="762120"/>
            <a:ext cx="7086600" cy="4601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85345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419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5EDA-9CA4-44E2-8E0A-FD26241B13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осле обеда, маленькие дети ложатся спать, чтобы набраться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DSC04114"/>
          <p:cNvPicPr/>
          <p:nvPr/>
        </p:nvPicPr>
        <p:blipFill>
          <a:blip r:embed="rId1"/>
          <a:stretch/>
        </p:blipFill>
        <p:spPr>
          <a:xfrm>
            <a:off x="2438280" y="380880"/>
            <a:ext cx="4186440" cy="5143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5857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9080-E683-4DD2-81F2-60B9439FFB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4876560"/>
            <a:ext cx="5029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ВЕЧ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981080" y="5791320"/>
            <a:ext cx="6172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ья часть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ер начинается в 17 часов и заканчивается в 23 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030905 082"/>
          <p:cNvPicPr/>
          <p:nvPr/>
        </p:nvPicPr>
        <p:blipFill>
          <a:blip r:embed="rId1"/>
          <a:stretch/>
        </p:blipFill>
        <p:spPr>
          <a:xfrm>
            <a:off x="1447920" y="304920"/>
            <a:ext cx="6953040" cy="4630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4" name="Picture 14" descr=""/>
          <p:cNvPicPr/>
          <p:nvPr/>
        </p:nvPicPr>
        <p:blipFill>
          <a:blip r:embed="rId2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842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1BFC-3291-44B0-BEA8-6F1BE1C25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 папа приходит с работы, вся семья в сб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hapyhome"/>
          <p:cNvPicPr/>
          <p:nvPr/>
        </p:nvPicPr>
        <p:blipFill>
          <a:blip r:embed="rId1">
            <a:grayscl/>
          </a:blip>
          <a:stretch/>
        </p:blipFill>
        <p:spPr>
          <a:xfrm>
            <a:off x="2666880" y="228600"/>
            <a:ext cx="4251600" cy="5257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8" name="Picture 9" descr=""/>
          <p:cNvPicPr/>
          <p:nvPr/>
        </p:nvPicPr>
        <p:blipFill>
          <a:blip r:embed="rId2"/>
          <a:stretch/>
        </p:blipFill>
        <p:spPr>
          <a:xfrm>
            <a:off x="87631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462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1058-9A05-4FC5-A50A-276BE8A560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инают примерно в 7 часов ве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DSC04565"/>
          <p:cNvPicPr/>
          <p:nvPr/>
        </p:nvPicPr>
        <p:blipFill>
          <a:blip r:embed="rId1"/>
          <a:stretch/>
        </p:blipFill>
        <p:spPr>
          <a:xfrm>
            <a:off x="1981080" y="304920"/>
            <a:ext cx="5410440" cy="548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2" name="Picture 10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3453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79A6-76CF-4482-8387-84B9A02EC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олнце приближается к горизонту- это время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SC04045"/>
          <p:cNvPicPr/>
          <p:nvPr/>
        </p:nvPicPr>
        <p:blipFill>
          <a:blip r:embed="rId1"/>
          <a:stretch/>
        </p:blipFill>
        <p:spPr>
          <a:xfrm>
            <a:off x="914400" y="22392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6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7BCE-4F27-4F1B-BEBE-02B7B7D691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д сном все обязательно куп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MCj00889360000[1]"/>
          <p:cNvPicPr/>
          <p:nvPr/>
        </p:nvPicPr>
        <p:blipFill>
          <a:blip r:embed="rId1"/>
          <a:stretch/>
        </p:blipFill>
        <p:spPr>
          <a:xfrm>
            <a:off x="2590920" y="304920"/>
            <a:ext cx="4417920" cy="4952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868680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333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724280"/>
            <a:ext cx="7848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УТ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4760" y="5714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вая часть су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о начинается в 5 часов и заканчивается в 11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j01571730000[1]"/>
          <p:cNvPicPr/>
          <p:nvPr/>
        </p:nvPicPr>
        <p:blipFill>
          <a:blip r:embed="rId1"/>
          <a:stretch/>
        </p:blipFill>
        <p:spPr>
          <a:xfrm>
            <a:off x="1676520" y="152280"/>
            <a:ext cx="6400800" cy="451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759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3ACC-9475-4789-A7BF-9D85E9CE74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56272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ы любишь купа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MMj02836280000[1]"/>
          <p:cNvPicPr/>
          <p:nvPr/>
        </p:nvPicPr>
        <p:blipFill>
          <a:blip r:embed="rId1"/>
          <a:stretch/>
        </p:blipFill>
        <p:spPr>
          <a:xfrm>
            <a:off x="6019920" y="380880"/>
            <a:ext cx="1981080" cy="1960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MCj03573850000[1]"/>
          <p:cNvPicPr/>
          <p:nvPr/>
        </p:nvPicPr>
        <p:blipFill>
          <a:blip r:embed="rId2"/>
          <a:stretch/>
        </p:blipFill>
        <p:spPr>
          <a:xfrm>
            <a:off x="5791320" y="358128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DSC00115"/>
          <p:cNvPicPr/>
          <p:nvPr/>
        </p:nvPicPr>
        <p:blipFill>
          <a:blip r:embed="rId3"/>
          <a:stretch/>
        </p:blipFill>
        <p:spPr>
          <a:xfrm>
            <a:off x="304920" y="1066680"/>
            <a:ext cx="5257800" cy="394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6" name="Picture 12" descr=""/>
          <p:cNvPicPr/>
          <p:nvPr/>
        </p:nvPicPr>
        <p:blipFill>
          <a:blip r:embed="rId4"/>
          <a:stretch/>
        </p:blipFill>
        <p:spPr>
          <a:xfrm>
            <a:off x="8610480" y="70866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239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395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9490-B122-4523-8BC6-1FB30E8CC8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, перед сном дети любят читать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kartinki"/>
          <p:cNvPicPr/>
          <p:nvPr/>
        </p:nvPicPr>
        <p:blipFill>
          <a:blip r:embed="rId1"/>
          <a:stretch/>
        </p:blipFill>
        <p:spPr>
          <a:xfrm>
            <a:off x="4724280" y="2438280"/>
            <a:ext cx="4152960" cy="3117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0" name="Picture 9" descr="noviygod-garmoniya 071"/>
          <p:cNvPicPr/>
          <p:nvPr/>
        </p:nvPicPr>
        <p:blipFill>
          <a:blip r:embed="rId2"/>
          <a:stretch/>
        </p:blipFill>
        <p:spPr>
          <a:xfrm>
            <a:off x="457200" y="457200"/>
            <a:ext cx="3956040" cy="4525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41" name="Picture 10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469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690"/>
                            </p:stCondLst>
                            <p:childTnLst>
                              <p:par>
                                <p:cTn id="1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3DE5-5A2B-4481-8700-6663104DA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НО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447920" y="609588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чь начинается в 23 часа и продолжается до 5 часов у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lun"/>
          <p:cNvPicPr/>
          <p:nvPr/>
        </p:nvPicPr>
        <p:blipFill>
          <a:blip r:embed="rId1"/>
          <a:stretch/>
        </p:blipFill>
        <p:spPr>
          <a:xfrm>
            <a:off x="1447920" y="228600"/>
            <a:ext cx="6400800" cy="5067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9669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81CB-5091-44D1-96CE-C305204C0A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586728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солнышко спит, а на небе светят Луна и 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MPj01789760000[1]"/>
          <p:cNvPicPr/>
          <p:nvPr/>
        </p:nvPicPr>
        <p:blipFill>
          <a:blip r:embed="rId1"/>
          <a:stretch/>
        </p:blipFill>
        <p:spPr>
          <a:xfrm>
            <a:off x="685800" y="228600"/>
            <a:ext cx="8001000" cy="5637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MCj03189040000[1]"/>
          <p:cNvPicPr/>
          <p:nvPr/>
        </p:nvPicPr>
        <p:blipFill>
          <a:blip r:embed="rId2"/>
          <a:stretch/>
        </p:blipFill>
        <p:spPr>
          <a:xfrm>
            <a:off x="3581280" y="533520"/>
            <a:ext cx="1519200" cy="1492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3"/>
          <a:stretch/>
        </p:blipFill>
        <p:spPr>
          <a:xfrm>
            <a:off x="8610480" y="68580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5628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8938-18FF-41E9-B404-FF2044155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зажигают фонари. От огней на улице становится светло, как д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IMG_2404"/>
          <p:cNvPicPr/>
          <p:nvPr/>
        </p:nvPicPr>
        <p:blipFill>
          <a:blip r:embed="rId1"/>
          <a:stretch/>
        </p:blipFill>
        <p:spPr>
          <a:xfrm>
            <a:off x="304920" y="1447920"/>
            <a:ext cx="5257800" cy="3502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5" name="Picture 17" descr="IMG_2382"/>
          <p:cNvPicPr/>
          <p:nvPr/>
        </p:nvPicPr>
        <p:blipFill>
          <a:blip r:embed="rId2"/>
          <a:stretch/>
        </p:blipFill>
        <p:spPr>
          <a:xfrm>
            <a:off x="5791320" y="685800"/>
            <a:ext cx="3166920" cy="475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6" name="Picture 18" descr=""/>
          <p:cNvPicPr/>
          <p:nvPr/>
        </p:nvPicPr>
        <p:blipFill>
          <a:blip r:embed="rId3"/>
          <a:stretch/>
        </p:blipFill>
        <p:spPr>
          <a:xfrm>
            <a:off x="868680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5847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CF6D-BE1E-46F2-BF5B-9D54A7B2E1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чью все люди ложатся с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sleepy"/>
          <p:cNvPicPr/>
          <p:nvPr/>
        </p:nvPicPr>
        <p:blipFill>
          <a:blip r:embed="rId1"/>
          <a:stretch/>
        </p:blipFill>
        <p:spPr>
          <a:xfrm>
            <a:off x="2362320" y="533520"/>
            <a:ext cx="4800600" cy="4728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326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F385-346E-46F2-97B9-8F6648C11E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люди любят встреч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В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вые солнечные лу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MCj00904430000[1]"/>
          <p:cNvPicPr/>
          <p:nvPr/>
        </p:nvPicPr>
        <p:blipFill>
          <a:blip r:embed="rId1"/>
          <a:stretch/>
        </p:blipFill>
        <p:spPr>
          <a:xfrm>
            <a:off x="1295280" y="457200"/>
            <a:ext cx="7239240" cy="5226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66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04FC-88F5-450A-809C-0793ED78F6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солнышко поднимается над землей, это время называется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лнце вс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утроъ"/>
          <p:cNvPicPr/>
          <p:nvPr/>
        </p:nvPicPr>
        <p:blipFill>
          <a:blip r:embed="rId1"/>
          <a:stretch/>
        </p:blipFill>
        <p:spPr>
          <a:xfrm>
            <a:off x="1752480" y="228600"/>
            <a:ext cx="5867640" cy="5195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4" name="Picture 14" descr=""/>
          <p:cNvPicPr/>
          <p:nvPr/>
        </p:nvPicPr>
        <p:blipFill>
          <a:blip r:embed="rId2"/>
          <a:stretch/>
        </p:blipFill>
        <p:spPr>
          <a:xfrm>
            <a:off x="8610480" y="70866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784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652C-A479-44C1-8D40-E0C6D4242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1956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м просыпаются люди.            Доброе утро, Малыш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MCPE06995_0000[1]"/>
          <p:cNvPicPr/>
          <p:nvPr/>
        </p:nvPicPr>
        <p:blipFill>
          <a:blip r:embed="rId1"/>
          <a:stretch/>
        </p:blipFill>
        <p:spPr>
          <a:xfrm>
            <a:off x="1295280" y="990720"/>
            <a:ext cx="4267440" cy="3846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hild_with_Mother_3"/>
          <p:cNvPicPr/>
          <p:nvPr/>
        </p:nvPicPr>
        <p:blipFill>
          <a:blip r:embed="rId2"/>
          <a:stretch/>
        </p:blipFill>
        <p:spPr>
          <a:xfrm>
            <a:off x="6851520" y="3581280"/>
            <a:ext cx="167184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3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49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BB89-07E3-4B87-92DA-641552C96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ы чистишь зубы по утр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oothbrush"/>
          <p:cNvPicPr/>
          <p:nvPr/>
        </p:nvPicPr>
        <p:blipFill>
          <a:blip r:embed="rId1"/>
          <a:stretch/>
        </p:blipFill>
        <p:spPr>
          <a:xfrm>
            <a:off x="1447920" y="1371600"/>
            <a:ext cx="6348240" cy="306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8610480" y="701028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894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0A97-FC5F-4F3F-B7C0-2E52EB66D5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ром все завтракают. Взрослые идут на работу, а дети в садик или шк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cutout_cookies"/>
          <p:cNvPicPr/>
          <p:nvPr/>
        </p:nvPicPr>
        <p:blipFill>
          <a:blip r:embed="rId1"/>
          <a:stretch/>
        </p:blipFill>
        <p:spPr>
          <a:xfrm>
            <a:off x="1523880" y="228600"/>
            <a:ext cx="6705720" cy="514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68680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630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77C2-B9DA-407A-8B70-E5BDDDA85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ты еще совсем маленький, мама остается с тобой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mom_toddler"/>
          <p:cNvPicPr/>
          <p:nvPr/>
        </p:nvPicPr>
        <p:blipFill>
          <a:blip r:embed="rId1"/>
          <a:stretch/>
        </p:blipFill>
        <p:spPr>
          <a:xfrm>
            <a:off x="2971800" y="1066680"/>
            <a:ext cx="3414600" cy="3592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3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463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16A5-0383-4EEF-92EF-AA2FB0907C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440" y="4800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cc"/>
                </a:solidFill>
                <a:uFillTx/>
                <a:latin typeface="Arial"/>
              </a:rPr>
              <a:t>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27477286"/>
          <p:cNvPicPr/>
          <p:nvPr/>
        </p:nvPicPr>
        <p:blipFill>
          <a:blip r:embed="rId1"/>
          <a:stretch/>
        </p:blipFill>
        <p:spPr>
          <a:xfrm>
            <a:off x="1523880" y="228600"/>
            <a:ext cx="6365880" cy="4776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2057400" y="60199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вторая часть суток – самая основная. Продолжительность дня с 11  до 17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868680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449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3:57:2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