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F8D6-B75D-45CF-8D5C-C3F5AE06F5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9E67-3EA1-4B7E-9D69-BE35BE72980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F0DC-8A1D-49DF-B571-D9450E47A4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1112-B5C4-4E67-B903-5675EB32D3F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24C1-3811-41A6-B9FF-0912C3F47F8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C442-E6BA-4713-9395-7B8113B0BE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EC74-EF67-4F4B-9D90-7AE57A07C8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9185-99BF-410D-BF47-1F37DF20CF3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9544-48B6-4313-8669-9CCACED90DF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55F3-9DCD-4880-83B2-A402B49F54F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6DFF-ED72-480E-8B0F-7146CADB628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2127-3CBE-403E-9507-4F2DF109C1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5F07-2957-49BF-AB37-BDE142B636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E1B2-4B85-443B-9DCC-80DAABD1C23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FADD-1F83-4B3D-8619-C3F010C86E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C1FE-BF9B-4BB5-AAFD-E48ED7FBD2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7629-6A79-48BF-A562-E000CC3E33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1400-806D-42EA-A6D9-4878D35DEE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F146-44F4-4622-B2BE-03EBC248958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2590-E9AA-42D0-8B2D-7F684673D1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8C49-9129-432C-8F8E-962CFCAF1A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1FC0-F08B-4AB2-8637-6AC18EE0E2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FF2E-C10A-4432-AF7C-0C21B05AC9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28D-CB13-4C21-BBFB-2F5BE653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EEFE-7764-4A4F-8628-EAE415E5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DAC7-446A-48A9-825C-68B8EB25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0C2-2B9C-4773-A5CA-E912233E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76D-01A1-47D7-B784-72A0B482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054-F223-4BBB-8C38-868FD634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FBC-B2D6-4DEE-B4FA-AC59DD74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5FDB-1962-46D1-89DB-68823DE6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973-80E1-4820-A898-95521A26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132-AD41-49C1-8051-FD14835F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5807-A02A-4090-8A06-01850AB0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9BB-EDEA-4B05-9858-8FB08A93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B6C6-0775-439B-90DC-A65351C4AF27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99"/>
                </a:solidFill>
                <a:latin typeface="Baskerville Old Face"/>
              </a:rPr>
              <a:t>ОДЕЖДА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902664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ИЖАМ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Picture 6" descr="000803_1052_5426_vnvv"/>
          <p:cNvPicPr/>
          <p:nvPr/>
        </p:nvPicPr>
        <p:blipFill>
          <a:blip r:embed="rId1"/>
          <a:stretch/>
        </p:blipFill>
        <p:spPr>
          <a:xfrm>
            <a:off x="2971800" y="1486080"/>
            <a:ext cx="3449520" cy="5371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205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МУЖСКАЯ ОДЕЖД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Picture 6" descr="000803_1056_5190_vnvv"/>
          <p:cNvPicPr/>
          <p:nvPr/>
        </p:nvPicPr>
        <p:blipFill>
          <a:blip r:embed="rId1"/>
          <a:stretch/>
        </p:blipFill>
        <p:spPr>
          <a:xfrm>
            <a:off x="5638680" y="1219320"/>
            <a:ext cx="3308400" cy="4430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000803_1056_5194_vnvv"/>
          <p:cNvPicPr/>
          <p:nvPr/>
        </p:nvPicPr>
        <p:blipFill>
          <a:blip r:embed="rId2"/>
          <a:stretch/>
        </p:blipFill>
        <p:spPr>
          <a:xfrm>
            <a:off x="304920" y="2209680"/>
            <a:ext cx="4495680" cy="4394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90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ИДЖАК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Picture 5" descr="000803_1052_5381_vnvv"/>
          <p:cNvPicPr/>
          <p:nvPr/>
        </p:nvPicPr>
        <p:blipFill>
          <a:blip r:embed="rId1"/>
          <a:stretch/>
        </p:blipFill>
        <p:spPr>
          <a:xfrm>
            <a:off x="2486160" y="1447920"/>
            <a:ext cx="4584600" cy="502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79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327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КОСТЮМ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5" descr="000803_1052_5452_vnvv"/>
          <p:cNvPicPr/>
          <p:nvPr/>
        </p:nvPicPr>
        <p:blipFill>
          <a:blip r:embed="rId1"/>
          <a:stretch/>
        </p:blipFill>
        <p:spPr>
          <a:xfrm>
            <a:off x="3352680" y="228600"/>
            <a:ext cx="2806920" cy="6365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553080" y="533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 Black"/>
              </a:rPr>
              <a:t>ПИДЖАК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324480" y="52578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 Black"/>
              </a:rPr>
              <a:t>БРЮК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 flipH="1">
            <a:off x="5028840" y="91440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Line 9"/>
          <p:cNvSpPr/>
          <p:nvPr/>
        </p:nvSpPr>
        <p:spPr>
          <a:xfrm flipH="1" flipV="1">
            <a:off x="5181480" y="464832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60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ЖИНСОВАЯ КУРТ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Picture 5" descr="000803_1052_5411_vnvv"/>
          <p:cNvPicPr/>
          <p:nvPr/>
        </p:nvPicPr>
        <p:blipFill>
          <a:blip r:embed="rId1"/>
          <a:stretch/>
        </p:blipFill>
        <p:spPr>
          <a:xfrm>
            <a:off x="1905120" y="1523880"/>
            <a:ext cx="5357520" cy="442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55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ЖИНСОВЫЕ ШТАН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5" descr="000803_1052_5410_vnvv"/>
          <p:cNvPicPr/>
          <p:nvPr/>
        </p:nvPicPr>
        <p:blipFill>
          <a:blip r:embed="rId1"/>
          <a:stretch/>
        </p:blipFill>
        <p:spPr>
          <a:xfrm>
            <a:off x="3429000" y="1295280"/>
            <a:ext cx="2509920" cy="539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565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СВИТЕ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5" descr="000803_1052_5359_vnvv"/>
          <p:cNvPicPr/>
          <p:nvPr/>
        </p:nvPicPr>
        <p:blipFill>
          <a:blip r:embed="rId1"/>
          <a:stretch/>
        </p:blipFill>
        <p:spPr>
          <a:xfrm>
            <a:off x="2362320" y="1600200"/>
            <a:ext cx="4671720" cy="4676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87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РУБАШ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000803_1052_5419_vnvv"/>
          <p:cNvPicPr/>
          <p:nvPr/>
        </p:nvPicPr>
        <p:blipFill>
          <a:blip r:embed="rId1"/>
          <a:stretch/>
        </p:blipFill>
        <p:spPr>
          <a:xfrm>
            <a:off x="1752480" y="1600200"/>
            <a:ext cx="5738760" cy="4568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15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ШОРТ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5" descr="000803_1052_5432_vnvv"/>
          <p:cNvPicPr/>
          <p:nvPr/>
        </p:nvPicPr>
        <p:blipFill>
          <a:blip r:embed="rId1"/>
          <a:stretch/>
        </p:blipFill>
        <p:spPr>
          <a:xfrm>
            <a:off x="2514600" y="2286000"/>
            <a:ext cx="3962520" cy="3524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68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БАННЫЙ ХАЛАТ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5" descr="000803_1052_5376_vnvv"/>
          <p:cNvPicPr/>
          <p:nvPr/>
        </p:nvPicPr>
        <p:blipFill>
          <a:blip r:embed="rId1"/>
          <a:stretch/>
        </p:blipFill>
        <p:spPr>
          <a:xfrm>
            <a:off x="2743200" y="1066680"/>
            <a:ext cx="3621240" cy="5562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225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ЖЕНСКАЯ ОДЕЖД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" name="Picture 5" descr="000803_1052_5304_vnvv"/>
          <p:cNvPicPr/>
          <p:nvPr/>
        </p:nvPicPr>
        <p:blipFill>
          <a:blip r:embed="rId1"/>
          <a:stretch/>
        </p:blipFill>
        <p:spPr>
          <a:xfrm>
            <a:off x="6858000" y="380880"/>
            <a:ext cx="1930320" cy="5902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000803_1053_9736_vnvv"/>
          <p:cNvPicPr/>
          <p:nvPr/>
        </p:nvPicPr>
        <p:blipFill>
          <a:blip r:embed="rId2"/>
          <a:stretch/>
        </p:blipFill>
        <p:spPr>
          <a:xfrm>
            <a:off x="685800" y="914400"/>
            <a:ext cx="1841400" cy="5791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000803_1053_9796_vnvv"/>
          <p:cNvPicPr/>
          <p:nvPr/>
        </p:nvPicPr>
        <p:blipFill>
          <a:blip r:embed="rId3"/>
          <a:stretch/>
        </p:blipFill>
        <p:spPr>
          <a:xfrm>
            <a:off x="3276720" y="1143000"/>
            <a:ext cx="294300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714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ЖИЛЕТ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5" descr="000803_1052_5361_vnvv"/>
          <p:cNvPicPr/>
          <p:nvPr/>
        </p:nvPicPr>
        <p:blipFill>
          <a:blip r:embed="rId1"/>
          <a:stretch/>
        </p:blipFill>
        <p:spPr>
          <a:xfrm>
            <a:off x="2971800" y="1143000"/>
            <a:ext cx="3178080" cy="5257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72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АЛЬТО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5" descr="000803_1052_5399_vnvv"/>
          <p:cNvPicPr/>
          <p:nvPr/>
        </p:nvPicPr>
        <p:blipFill>
          <a:blip r:embed="rId1"/>
          <a:stretch/>
        </p:blipFill>
        <p:spPr>
          <a:xfrm>
            <a:off x="2971800" y="1219320"/>
            <a:ext cx="3855960" cy="5333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72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69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УБЛЕН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Picture 5" descr="000803_1052_5398_vnvv"/>
          <p:cNvPicPr/>
          <p:nvPr/>
        </p:nvPicPr>
        <p:blipFill>
          <a:blip r:embed="rId1"/>
          <a:stretch/>
        </p:blipFill>
        <p:spPr>
          <a:xfrm>
            <a:off x="3124080" y="1371600"/>
            <a:ext cx="3729240" cy="518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ЛАЩ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5" descr="000803_1052_5430_vnvv"/>
          <p:cNvPicPr/>
          <p:nvPr/>
        </p:nvPicPr>
        <p:blipFill>
          <a:blip r:embed="rId1"/>
          <a:stretch/>
        </p:blipFill>
        <p:spPr>
          <a:xfrm>
            <a:off x="3200400" y="1219320"/>
            <a:ext cx="2654280" cy="5510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5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АЛЬТО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5" descr="000803_1052_5389_vnvv"/>
          <p:cNvPicPr/>
          <p:nvPr/>
        </p:nvPicPr>
        <p:blipFill>
          <a:blip r:embed="rId1"/>
          <a:stretch/>
        </p:blipFill>
        <p:spPr>
          <a:xfrm>
            <a:off x="2666880" y="1447920"/>
            <a:ext cx="3829320" cy="519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86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ЛАТЬЕ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Picture 5" descr="000803_1052_5396_vnvv"/>
          <p:cNvPicPr/>
          <p:nvPr/>
        </p:nvPicPr>
        <p:blipFill>
          <a:blip r:embed="rId1"/>
          <a:stretch/>
        </p:blipFill>
        <p:spPr>
          <a:xfrm>
            <a:off x="3200400" y="1295280"/>
            <a:ext cx="2938320" cy="5334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ХАЛАТ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5" descr="000803_1052_5375_vnvv"/>
          <p:cNvPicPr/>
          <p:nvPr/>
        </p:nvPicPr>
        <p:blipFill>
          <a:blip r:embed="rId1"/>
          <a:stretch/>
        </p:blipFill>
        <p:spPr>
          <a:xfrm>
            <a:off x="2590920" y="1143000"/>
            <a:ext cx="4197240" cy="539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85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352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БЛУЗ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Picture 5" descr="000803_1052_5420_vnvv"/>
          <p:cNvPicPr/>
          <p:nvPr/>
        </p:nvPicPr>
        <p:blipFill>
          <a:blip r:embed="rId1"/>
          <a:stretch/>
        </p:blipFill>
        <p:spPr>
          <a:xfrm>
            <a:off x="3200400" y="1143000"/>
            <a:ext cx="3086280" cy="5483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6095880" y="5181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САРАФАН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Line 8"/>
          <p:cNvSpPr/>
          <p:nvPr/>
        </p:nvSpPr>
        <p:spPr>
          <a:xfrm>
            <a:off x="2743200" y="10666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Line 9"/>
          <p:cNvSpPr/>
          <p:nvPr/>
        </p:nvSpPr>
        <p:spPr>
          <a:xfrm flipH="1" flipV="1">
            <a:off x="5181480" y="4724280"/>
            <a:ext cx="10670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784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ЮБ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Picture 5" descr="000803_1052_5440_vnvv"/>
          <p:cNvPicPr/>
          <p:nvPr/>
        </p:nvPicPr>
        <p:blipFill>
          <a:blip r:embed="rId1"/>
          <a:stretch/>
        </p:blipFill>
        <p:spPr>
          <a:xfrm>
            <a:off x="3352680" y="1676520"/>
            <a:ext cx="2527560" cy="4937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86868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6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4:36:3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