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8DC-EC43-4B4B-A91E-D977D58C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72D-6AD5-4B3F-B821-8A13E6A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EFA-8C5E-46CF-8A19-8915E35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FAB-3687-4BA6-A37F-5B6ED13F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B85-92FD-4C7E-ACD5-C6D24106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646-E8CB-4E6F-8773-2505DF0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1E0-F8F3-4D33-855A-7AA67D31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D12-E4A2-4525-B4B3-F84A6A4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B7C-8CFD-49AB-8F5A-1171F170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08-68A5-45C7-A19B-B951BED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65D-19FB-44AC-A472-5D3A147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06E-D637-486A-8A8C-A4575F90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0E13-4416-411B-806D-B61BACA32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B5B-55C9-48FB-A829-2DFACCB8A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4946040"/>
            <a:ext cx="30240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5000760" y="3714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2 copy"/>
          <p:cNvPicPr/>
          <p:nvPr/>
        </p:nvPicPr>
        <p:blipFill>
          <a:blip r:embed="rId2"/>
          <a:stretch/>
        </p:blipFill>
        <p:spPr>
          <a:xfrm rot="9371400">
            <a:off x="544320" y="445680"/>
            <a:ext cx="2676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3E1-70F4-4F17-972C-28B39C7AF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F5B4-93F6-403F-9766-34E12B7B7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214-5583-403D-AE63-C61AA3281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5AB-3F1D-40F2-96F1-3706A49AB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1E4-60AF-4078-A8D3-A6585D3EA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FAC-8B23-49F0-BEFD-42944CD1E4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6CA-489F-48CE-958F-5C6F75D8A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39F-3CB6-4720-8150-FB7690DA9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A94E-1474-4241-8E8C-8BCA488F9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E01-BBB2-4C13-8606-232848A78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F797-7829-4246-95FF-639245809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52C7-FF48-4F5B-A9AB-A6B2CA6DC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F4D8-4B44-42D1-B25C-DEF10AAAF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61C1-AEBB-4EB4-AA7E-58DD64050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ОЕМ</cp:lastModifiedBy>
  <dcterms:modified xsi:type="dcterms:W3CDTF">2010-01-19T03:42:38Z</dcterms:modified>
  <cp:revision>9</cp:revision>
  <dc:subject/>
  <dc:title>НАСЕКОМЫЕ</dc:title>
</cp:coreProperties>
</file>