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B5A-306F-49C3-A9B7-52CD6FFB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A0F-FAEE-4FE1-9FBE-9B893DED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0A6-0070-42C5-B82D-4C0F8BCD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5F6-3D3C-4C1F-8BF9-3A32E214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D431-6EAA-46A3-9F92-AD29179F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7FAA-0FA8-493D-991C-81CBE0A9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F21D-6A49-4289-AE6F-2527A0C5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53E6-95A1-428D-958D-C670228E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2B21-356E-4639-A51A-3EAF0C49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02F8-1227-4EEA-9D2D-63EABE76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8EF2-C61E-449D-934E-ECBEAD9A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C29-9DA7-4ABF-82B2-EF845388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FBA9-F9DA-4F27-B0AC-60EB43B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E21D-5348-40D5-AB2B-96BB6F9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65F0-0999-413E-9F66-3715484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0A01-F709-43A5-A8F5-F4CC4374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9104-9667-42DD-93DB-F6AFBDDF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8A6-5BA7-49D3-A411-9FDA1615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022-78ED-4F81-B4DB-34AF64DD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02E-ED5B-40BF-88F2-BB2C69AF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8A0-AAAF-4792-AC90-A72D1ED5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A83-667A-4728-9A9F-EB827DE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EE9-18C4-4038-B319-CA0BBE8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114-1D3E-41E7-84BA-12DC06C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6EA1-9746-4044-B548-85A9D02BA1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F510-5BD9-4D29-A5F2-4236B08AC3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П Р О Ф Е С С И И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0451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Книгу переворошив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мотай себе на ус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се работы хорош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ыбира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 вкус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В.В.Маяк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«Кем быть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2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2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76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Д О К Т О Р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95640" y="1952640"/>
          <a:ext cx="106200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52640"/>
                    <a:ext cx="1062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79280" y="2282760"/>
            <a:ext cx="3456000" cy="1260720"/>
            <a:chOff x="179280" y="2282760"/>
            <a:chExt cx="3456000" cy="1260720"/>
          </a:xfrm>
        </p:grpSpPr>
        <p:graphicFrame>
          <p:nvGraphicFramePr>
            <p:cNvPr id="104" name=""/>
            <p:cNvGraphicFramePr/>
            <p:nvPr/>
          </p:nvGraphicFramePr>
          <p:xfrm>
            <a:off x="179280" y="2282760"/>
            <a:ext cx="2664000" cy="126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9280" y="2282760"/>
                      <a:ext cx="2664000" cy="12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3059280" y="2924280"/>
              <a:ext cx="576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79640" y="2263680"/>
            <a:ext cx="2808720" cy="1309680"/>
            <a:chOff x="5579640" y="2263680"/>
            <a:chExt cx="2808720" cy="1309680"/>
          </a:xfrm>
        </p:grpSpPr>
        <p:graphicFrame>
          <p:nvGraphicFramePr>
            <p:cNvPr id="108" name=""/>
            <p:cNvGraphicFramePr/>
            <p:nvPr/>
          </p:nvGraphicFramePr>
          <p:xfrm>
            <a:off x="6323040" y="2263680"/>
            <a:ext cx="2065320" cy="13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3040" y="2263680"/>
                      <a:ext cx="2065320" cy="13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 flipH="1">
              <a:off x="557964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32000" y="4221000"/>
            <a:ext cx="2664360" cy="2232360"/>
            <a:chOff x="4932000" y="4221000"/>
            <a:chExt cx="2664360" cy="2232360"/>
          </a:xfrm>
        </p:grpSpPr>
        <p:graphicFrame>
          <p:nvGraphicFramePr>
            <p:cNvPr id="112" name=""/>
            <p:cNvGraphicFramePr/>
            <p:nvPr/>
          </p:nvGraphicFramePr>
          <p:xfrm>
            <a:off x="5614920" y="4471920"/>
            <a:ext cx="1981440" cy="198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14920" y="4471920"/>
                      <a:ext cx="19814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 flipH="1" flipV="1">
              <a:off x="4932000" y="4221000"/>
              <a:ext cx="35892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547640" y="4221000"/>
            <a:ext cx="2592720" cy="1944720"/>
            <a:chOff x="1547640" y="4221000"/>
            <a:chExt cx="2592720" cy="1944720"/>
          </a:xfrm>
        </p:grpSpPr>
        <p:graphicFrame>
          <p:nvGraphicFramePr>
            <p:cNvPr id="116" name=""/>
            <p:cNvGraphicFramePr/>
            <p:nvPr/>
          </p:nvGraphicFramePr>
          <p:xfrm>
            <a:off x="1547640" y="4430880"/>
            <a:ext cx="2019600" cy="173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4430880"/>
                      <a:ext cx="2019600" cy="17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 flipV="1">
              <a:off x="3708360" y="4221000"/>
              <a:ext cx="43200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С П О Р Т С М Е Н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71640" y="2671920"/>
            <a:ext cx="2592360" cy="1981080"/>
            <a:chOff x="971640" y="2671920"/>
            <a:chExt cx="2592360" cy="1981080"/>
          </a:xfrm>
        </p:grpSpPr>
        <p:graphicFrame>
          <p:nvGraphicFramePr>
            <p:cNvPr id="121" name=""/>
            <p:cNvGraphicFramePr/>
            <p:nvPr/>
          </p:nvGraphicFramePr>
          <p:xfrm>
            <a:off x="971640" y="2671920"/>
            <a:ext cx="174960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671920"/>
                      <a:ext cx="17496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2914920" y="3795840"/>
              <a:ext cx="649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64000" y="2671920"/>
            <a:ext cx="2880000" cy="1981080"/>
            <a:chOff x="5364000" y="2671920"/>
            <a:chExt cx="2880000" cy="1981080"/>
          </a:xfrm>
        </p:grpSpPr>
        <p:graphicFrame>
          <p:nvGraphicFramePr>
            <p:cNvPr id="125" name=""/>
            <p:cNvGraphicFramePr/>
            <p:nvPr/>
          </p:nvGraphicFramePr>
          <p:xfrm>
            <a:off x="6222960" y="2671920"/>
            <a:ext cx="202104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2960" y="2671920"/>
                      <a:ext cx="20210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 flipH="1">
              <a:off x="5364000" y="3795840"/>
              <a:ext cx="6494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86280" y="2021040"/>
            <a:ext cx="116208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Х У Д О Ж Н И К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64000" y="1700280"/>
          <a:ext cx="182880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700280"/>
                    <a:ext cx="18288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5724000" y="2022480"/>
            <a:ext cx="2450160" cy="1982880"/>
            <a:chOff x="5724000" y="2022480"/>
            <a:chExt cx="2450160" cy="1982880"/>
          </a:xfrm>
        </p:grpSpPr>
        <p:graphicFrame>
          <p:nvGraphicFramePr>
            <p:cNvPr id="133" name=""/>
            <p:cNvGraphicFramePr/>
            <p:nvPr/>
          </p:nvGraphicFramePr>
          <p:xfrm>
            <a:off x="6588000" y="2022480"/>
            <a:ext cx="1586160" cy="198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88000" y="2022480"/>
                      <a:ext cx="1586160" cy="19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 flipH="1">
              <a:off x="572400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68360" y="2276640"/>
            <a:ext cx="2808360" cy="1438200"/>
            <a:chOff x="468360" y="2276640"/>
            <a:chExt cx="2808360" cy="1438200"/>
          </a:xfrm>
        </p:grpSpPr>
        <p:graphicFrame>
          <p:nvGraphicFramePr>
            <p:cNvPr id="137" name=""/>
            <p:cNvGraphicFramePr/>
            <p:nvPr/>
          </p:nvGraphicFramePr>
          <p:xfrm>
            <a:off x="468360" y="2276640"/>
            <a:ext cx="2095560" cy="14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2276640"/>
                      <a:ext cx="209556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70036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920" y="4005000"/>
            <a:ext cx="2376360" cy="2268720"/>
            <a:chOff x="1258920" y="4005000"/>
            <a:chExt cx="2376360" cy="2268720"/>
          </a:xfrm>
        </p:grpSpPr>
        <p:graphicFrame>
          <p:nvGraphicFramePr>
            <p:cNvPr id="141" name=""/>
            <p:cNvGraphicFramePr/>
            <p:nvPr/>
          </p:nvGraphicFramePr>
          <p:xfrm>
            <a:off x="1258920" y="4292640"/>
            <a:ext cx="13334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920" y="4292640"/>
                      <a:ext cx="1333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V="1">
              <a:off x="2916360" y="4005000"/>
              <a:ext cx="718920" cy="43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51280" y="4076640"/>
            <a:ext cx="1401840" cy="2486160"/>
            <a:chOff x="3851280" y="4076640"/>
            <a:chExt cx="1401840" cy="2486160"/>
          </a:xfrm>
        </p:grpSpPr>
        <p:graphicFrame>
          <p:nvGraphicFramePr>
            <p:cNvPr id="145" name=""/>
            <p:cNvGraphicFramePr/>
            <p:nvPr/>
          </p:nvGraphicFramePr>
          <p:xfrm>
            <a:off x="3851280" y="4581360"/>
            <a:ext cx="1401840" cy="1981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1280" y="4581360"/>
                      <a:ext cx="1401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V="1">
              <a:off x="4500720" y="4076640"/>
              <a:ext cx="0" cy="432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64000" y="3933360"/>
            <a:ext cx="2689560" cy="1857960"/>
            <a:chOff x="5364000" y="3933360"/>
            <a:chExt cx="2689560" cy="1857960"/>
          </a:xfrm>
        </p:grpSpPr>
        <p:graphicFrame>
          <p:nvGraphicFramePr>
            <p:cNvPr id="149" name=""/>
            <p:cNvGraphicFramePr/>
            <p:nvPr/>
          </p:nvGraphicFramePr>
          <p:xfrm>
            <a:off x="6443640" y="4724280"/>
            <a:ext cx="1609920" cy="106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3640" y="4724280"/>
                      <a:ext cx="160992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 flipH="1" flipV="1">
              <a:off x="5364000" y="3933360"/>
              <a:ext cx="936720" cy="647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Ш В Е Я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64000" y="1917720"/>
          <a:ext cx="230328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917720"/>
                    <a:ext cx="23032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324000" y="2525760"/>
            <a:ext cx="3024000" cy="1118880"/>
            <a:chOff x="324000" y="2525760"/>
            <a:chExt cx="3024000" cy="1118880"/>
          </a:xfrm>
        </p:grpSpPr>
        <p:graphicFrame>
          <p:nvGraphicFramePr>
            <p:cNvPr id="156" name=""/>
            <p:cNvGraphicFramePr/>
            <p:nvPr/>
          </p:nvGraphicFramePr>
          <p:xfrm>
            <a:off x="324000" y="2525760"/>
            <a:ext cx="2376360" cy="111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" y="2525760"/>
                      <a:ext cx="2376360" cy="11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2843280" y="299700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083280" y="2011320"/>
            <a:ext cx="2506680" cy="1704960"/>
            <a:chOff x="6083280" y="2011320"/>
            <a:chExt cx="2506680" cy="1704960"/>
          </a:xfrm>
        </p:grpSpPr>
        <p:graphicFrame>
          <p:nvGraphicFramePr>
            <p:cNvPr id="160" name=""/>
            <p:cNvGraphicFramePr/>
            <p:nvPr/>
          </p:nvGraphicFramePr>
          <p:xfrm>
            <a:off x="6732720" y="2011320"/>
            <a:ext cx="1857240" cy="170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32720" y="2011320"/>
                      <a:ext cx="185724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 flipH="1">
              <a:off x="6083280" y="301932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47640" y="4438440"/>
            <a:ext cx="2017800" cy="1657440"/>
            <a:chOff x="1547640" y="4438440"/>
            <a:chExt cx="2017800" cy="1657440"/>
          </a:xfrm>
        </p:grpSpPr>
        <p:graphicFrame>
          <p:nvGraphicFramePr>
            <p:cNvPr id="164" name=""/>
            <p:cNvGraphicFramePr/>
            <p:nvPr/>
          </p:nvGraphicFramePr>
          <p:xfrm>
            <a:off x="1547640" y="4724280"/>
            <a:ext cx="2017800" cy="13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20178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 flipV="1">
              <a:off x="2916360" y="4438440"/>
              <a:ext cx="431640" cy="430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651640" y="4436640"/>
            <a:ext cx="2015640" cy="1699200"/>
            <a:chOff x="5651640" y="4436640"/>
            <a:chExt cx="2015640" cy="1699200"/>
          </a:xfrm>
        </p:grpSpPr>
        <p:graphicFrame>
          <p:nvGraphicFramePr>
            <p:cNvPr id="168" name=""/>
            <p:cNvGraphicFramePr/>
            <p:nvPr/>
          </p:nvGraphicFramePr>
          <p:xfrm>
            <a:off x="6211800" y="4508640"/>
            <a:ext cx="1455480" cy="162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11800" y="4508640"/>
                      <a:ext cx="145548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 flipH="1" flipV="1">
              <a:off x="5651640" y="4436640"/>
              <a:ext cx="522000" cy="474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37:36Z</dcterms:created>
  <dc:creator>Engineer</dc:creator>
  <dc:description/>
  <dc:language>en-US</dc:language>
  <cp:lastModifiedBy>Engineer</cp:lastModifiedBy>
  <dcterms:modified xsi:type="dcterms:W3CDTF">2006-04-06T05:30:05Z</dcterms:modified>
  <cp:revision>31</cp:revision>
  <dc:subject/>
  <dc:title>Х У Д О Ж Н И К</dc:title>
</cp:coreProperties>
</file>