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414-B40C-4A6C-914A-0D8A35B4B2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04A7-8770-4ABF-9ABD-07C9A48A6E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869E-0EE2-48F3-9298-CEBAEB2F59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BCB5-831C-419B-A73F-3DCDEED1E8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740A-DF62-457A-96DC-A6B883DC41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66A2-4E9B-4FB0-B254-DD3E183984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D4E4-C09C-4CDB-92DE-0C846792E1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4F7B-324F-4112-ACFA-B9FE9DCF62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537B-63EF-4F66-97C6-AC3036A0BA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33C8-E12E-4258-8622-DA36105F40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3F1C-C0D2-44C2-BD06-337CE44592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D26A-FAC2-4104-B4AA-7CF7935A80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84B7-7848-4F09-A56A-19CA266672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B379-BEFC-4844-81E5-A1B467D77D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5083-F27F-40D6-B17C-0A8874F3E2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8B5B-4A80-4AC3-A409-083953E99E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EF9D-791D-43E0-A2B5-DA90ACD536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A15E-863D-40AE-A628-2C1BACFD90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B3C1-D1A7-441F-8B13-C70D2DD6AA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B989-F972-427A-9C89-EF4EA306BB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6F9-A1F9-4D25-8F2A-08B8C70580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5FE6-CF67-4F4A-B388-7F91908E05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888-D4A4-4E0C-B43A-D751AA172B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C2A-9B4A-4DB8-9D40-732124D8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367-02D1-40BD-8645-2C0B6992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E5D-8BC8-41EE-94C6-C85D8381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A18-04BB-4CE6-87DF-654B71C7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AE6-81AF-4708-8773-3F1C3510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C33-024E-4832-B53F-A92946E8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330-D978-4349-BCA7-42B2391C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D4E-058F-4D5D-96AE-FE8F3CC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C34-32F2-4756-B824-B07B777A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21C-0FDE-40AF-83FF-3F2FB89A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E59-C517-4D9C-8475-D39FA5EE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CC5-F33B-4A04-A33D-4E1DA5D4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A257-9EA1-4FDA-A077-DF2E40C348F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Baskerville Old Face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2664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ЖА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6" descr="000803_1052_5426_vnvv"/>
          <p:cNvPicPr/>
          <p:nvPr/>
        </p:nvPicPr>
        <p:blipFill>
          <a:blip r:embed="rId1"/>
          <a:stretch/>
        </p:blipFill>
        <p:spPr>
          <a:xfrm>
            <a:off x="2971800" y="1486080"/>
            <a:ext cx="3449520" cy="53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0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УЖ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000803_1056_5190_vnvv"/>
          <p:cNvPicPr/>
          <p:nvPr/>
        </p:nvPicPr>
        <p:blipFill>
          <a:blip r:embed="rId1"/>
          <a:stretch/>
        </p:blipFill>
        <p:spPr>
          <a:xfrm>
            <a:off x="5638680" y="1219320"/>
            <a:ext cx="3308400" cy="443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00803_1056_5194_vnvv"/>
          <p:cNvPicPr/>
          <p:nvPr/>
        </p:nvPicPr>
        <p:blipFill>
          <a:blip r:embed="rId2"/>
          <a:stretch/>
        </p:blipFill>
        <p:spPr>
          <a:xfrm>
            <a:off x="304920" y="2209680"/>
            <a:ext cx="4495680" cy="439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52_5381_vnvv"/>
          <p:cNvPicPr/>
          <p:nvPr/>
        </p:nvPicPr>
        <p:blipFill>
          <a:blip r:embed="rId1"/>
          <a:stretch/>
        </p:blipFill>
        <p:spPr>
          <a:xfrm>
            <a:off x="2486160" y="1447920"/>
            <a:ext cx="458460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9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27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ОСТЮМ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52_5452_vnvv"/>
          <p:cNvPicPr/>
          <p:nvPr/>
        </p:nvPicPr>
        <p:blipFill>
          <a:blip r:embed="rId1"/>
          <a:stretch/>
        </p:blipFill>
        <p:spPr>
          <a:xfrm>
            <a:off x="3352680" y="228600"/>
            <a:ext cx="2806920" cy="6365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553080" y="533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324480" y="5257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БРЮК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028840" y="9144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9"/>
          <p:cNvSpPr/>
          <p:nvPr/>
        </p:nvSpPr>
        <p:spPr>
          <a:xfrm flipH="1" flipV="1">
            <a:off x="5181480" y="46483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АЯ КУРТ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5" descr="000803_1052_5411_vnvv"/>
          <p:cNvPicPr/>
          <p:nvPr/>
        </p:nvPicPr>
        <p:blipFill>
          <a:blip r:embed="rId1"/>
          <a:stretch/>
        </p:blipFill>
        <p:spPr>
          <a:xfrm>
            <a:off x="1905120" y="1523880"/>
            <a:ext cx="5357520" cy="442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5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ЫЕ ШТА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000803_1052_5410_vnvv"/>
          <p:cNvPicPr/>
          <p:nvPr/>
        </p:nvPicPr>
        <p:blipFill>
          <a:blip r:embed="rId1"/>
          <a:stretch/>
        </p:blipFill>
        <p:spPr>
          <a:xfrm>
            <a:off x="3429000" y="1295280"/>
            <a:ext cx="2509920" cy="539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СВИТ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000803_1052_5359_vnvv"/>
          <p:cNvPicPr/>
          <p:nvPr/>
        </p:nvPicPr>
        <p:blipFill>
          <a:blip r:embed="rId1"/>
          <a:stretch/>
        </p:blipFill>
        <p:spPr>
          <a:xfrm>
            <a:off x="2362320" y="1600200"/>
            <a:ext cx="4671720" cy="467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87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РУБАШ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52_5419_vnvv"/>
          <p:cNvPicPr/>
          <p:nvPr/>
        </p:nvPicPr>
        <p:blipFill>
          <a:blip r:embed="rId1"/>
          <a:stretch/>
        </p:blipFill>
        <p:spPr>
          <a:xfrm>
            <a:off x="1752480" y="1600200"/>
            <a:ext cx="5738760" cy="45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5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ШОР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000803_1052_5432_vnvv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68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АННЫЙ ХАЛА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52_5376_vnvv"/>
          <p:cNvPicPr/>
          <p:nvPr/>
        </p:nvPicPr>
        <p:blipFill>
          <a:blip r:embed="rId1"/>
          <a:stretch/>
        </p:blipFill>
        <p:spPr>
          <a:xfrm>
            <a:off x="2743200" y="1066680"/>
            <a:ext cx="3621240" cy="556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2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ЖЕН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" descr="000803_1052_5304_vnvv"/>
          <p:cNvPicPr/>
          <p:nvPr/>
        </p:nvPicPr>
        <p:blipFill>
          <a:blip r:embed="rId1"/>
          <a:stretch/>
        </p:blipFill>
        <p:spPr>
          <a:xfrm>
            <a:off x="6858000" y="380880"/>
            <a:ext cx="1930320" cy="5902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3_9736_vnvv"/>
          <p:cNvPicPr/>
          <p:nvPr/>
        </p:nvPicPr>
        <p:blipFill>
          <a:blip r:embed="rId2"/>
          <a:stretch/>
        </p:blipFill>
        <p:spPr>
          <a:xfrm>
            <a:off x="685800" y="914400"/>
            <a:ext cx="1841400" cy="579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803_1053_9796_vnvv"/>
          <p:cNvPicPr/>
          <p:nvPr/>
        </p:nvPicPr>
        <p:blipFill>
          <a:blip r:embed="rId3"/>
          <a:stretch/>
        </p:blipFill>
        <p:spPr>
          <a:xfrm>
            <a:off x="3276720" y="1143000"/>
            <a:ext cx="29430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1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ЖИЛЕ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000803_1052_5361_vnvv"/>
          <p:cNvPicPr/>
          <p:nvPr/>
        </p:nvPicPr>
        <p:blipFill>
          <a:blip r:embed="rId1"/>
          <a:stretch/>
        </p:blipFill>
        <p:spPr>
          <a:xfrm>
            <a:off x="2971800" y="1143000"/>
            <a:ext cx="317808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2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000803_1052_5399_vnvv"/>
          <p:cNvPicPr/>
          <p:nvPr/>
        </p:nvPicPr>
        <p:blipFill>
          <a:blip r:embed="rId1"/>
          <a:stretch/>
        </p:blipFill>
        <p:spPr>
          <a:xfrm>
            <a:off x="2971800" y="1219320"/>
            <a:ext cx="3855960" cy="533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2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69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УБЛЕ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000803_1052_5398_vnvv"/>
          <p:cNvPicPr/>
          <p:nvPr/>
        </p:nvPicPr>
        <p:blipFill>
          <a:blip r:embed="rId1"/>
          <a:stretch/>
        </p:blipFill>
        <p:spPr>
          <a:xfrm>
            <a:off x="3124080" y="1371600"/>
            <a:ext cx="372924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Щ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000803_1052_5430_vnvv"/>
          <p:cNvPicPr/>
          <p:nvPr/>
        </p:nvPicPr>
        <p:blipFill>
          <a:blip r:embed="rId1"/>
          <a:stretch/>
        </p:blipFill>
        <p:spPr>
          <a:xfrm>
            <a:off x="3200400" y="1219320"/>
            <a:ext cx="2654280" cy="55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000803_1052_5389_vnvv"/>
          <p:cNvPicPr/>
          <p:nvPr/>
        </p:nvPicPr>
        <p:blipFill>
          <a:blip r:embed="rId1"/>
          <a:stretch/>
        </p:blipFill>
        <p:spPr>
          <a:xfrm>
            <a:off x="2666880" y="1447920"/>
            <a:ext cx="3829320" cy="519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Т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000803_1052_5396_vnvv"/>
          <p:cNvPicPr/>
          <p:nvPr/>
        </p:nvPicPr>
        <p:blipFill>
          <a:blip r:embed="rId1"/>
          <a:stretch/>
        </p:blipFill>
        <p:spPr>
          <a:xfrm>
            <a:off x="3200400" y="1295280"/>
            <a:ext cx="2938320" cy="533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ХАЛАТ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52_5375_vnvv"/>
          <p:cNvPicPr/>
          <p:nvPr/>
        </p:nvPicPr>
        <p:blipFill>
          <a:blip r:embed="rId1"/>
          <a:stretch/>
        </p:blipFill>
        <p:spPr>
          <a:xfrm>
            <a:off x="2590920" y="1143000"/>
            <a:ext cx="4197240" cy="539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85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ЛУЗ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2_5420_vnvv"/>
          <p:cNvPicPr/>
          <p:nvPr/>
        </p:nvPicPr>
        <p:blipFill>
          <a:blip r:embed="rId1"/>
          <a:stretch/>
        </p:blipFill>
        <p:spPr>
          <a:xfrm>
            <a:off x="3200400" y="1143000"/>
            <a:ext cx="3086280" cy="548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0958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АРАФ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743200" y="10666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181480" y="47242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ЮБ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2_5440_vnvv"/>
          <p:cNvPicPr/>
          <p:nvPr/>
        </p:nvPicPr>
        <p:blipFill>
          <a:blip r:embed="rId1"/>
          <a:stretch/>
        </p:blipFill>
        <p:spPr>
          <a:xfrm>
            <a:off x="3352680" y="1676520"/>
            <a:ext cx="2527560" cy="493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36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