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2B31-B67F-493F-9811-041C6BF4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8B65-05F4-4BC8-A388-AB5AC2CD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3E6-9DF3-464D-8AF7-FF096994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67E-2B27-4BBB-842A-02F9439E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3DF-EF4C-476D-99A9-71AD768C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6AC0-5AC1-47B9-89F0-8BA65E5C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0328-148B-4315-8DC1-3197EF4E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0654-E216-4B9A-A9C9-9D0A194D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E6D-8874-43C0-A7AA-5C1EF4BA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BAF-5C6E-4B12-A95F-3FC06060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F1C9-3AF7-4ECE-9A3A-3439DAA0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6C96-3D99-4777-B8E9-435C55A2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4144-DD97-494B-B4FB-0B123DA3FD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C1E6-9918-4220-A755-F1315C1C02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435640" y="4946040"/>
            <a:ext cx="3024000" cy="4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Изображение 14 in Насек11 copy"/>
          <p:cNvPicPr/>
          <p:nvPr/>
        </p:nvPicPr>
        <p:blipFill>
          <a:blip r:embed="rId1"/>
          <a:stretch/>
        </p:blipFill>
        <p:spPr>
          <a:xfrm>
            <a:off x="5000760" y="3714840"/>
            <a:ext cx="380988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Untitled-2 copy"/>
          <p:cNvPicPr/>
          <p:nvPr/>
        </p:nvPicPr>
        <p:blipFill>
          <a:blip r:embed="rId2"/>
          <a:stretch/>
        </p:blipFill>
        <p:spPr>
          <a:xfrm rot="9371400">
            <a:off x="544320" y="445680"/>
            <a:ext cx="26762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DC9B-CF94-43F2-A986-0F054A21A6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ечности для хва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ногих насекомых имеются хватательные конечности, которые используют для борьбы с соперниками или для ловчи добычи. Сильными передними конечностями богомол крепко держит добычу, когда её пое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3"/>
          <p:cNvPicPr/>
          <p:nvPr/>
        </p:nvPicPr>
        <p:blipFill>
          <a:blip r:embed="rId1"/>
          <a:stretch/>
        </p:blipFill>
        <p:spPr>
          <a:xfrm>
            <a:off x="4865760" y="1600200"/>
            <a:ext cx="3601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F6B5-53FF-4A3D-B47B-4459F8963D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жные но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о другим насекомым, гусеницы имеют три пары ног на груди. Кроме того, у них есть пять пар ложных ножек на брюшке. Эти ложные ножки представляют собой четыре пары брюшных мускульных выростов с маленькими крючками на концах и пару анальных ножек, снабженных присосками. Брюшные ножки и присоски помогают гусеницам прицепляться к листьям и стеб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332000" y="3500280"/>
            <a:ext cx="69134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2C64-CD7E-4B5E-98F2-82A0F3F93B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ылья и по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укообразные не умеют летать, а насекомые умеют. Способность летать позволяет им спасаться от хищников и совершать дальние путешествия в поисках пищи или партнера. У большинства насекомых имеются две пары крылье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A210-A5B4-4C83-B7DB-11038EC3F3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ние крылья жуков, например, майского жука, превратились в жесткие защитные чехлы для крыльев. Для полетов жуки пользуются только задними крыльями, которые спрятаны свернутыми под надкрыльями, пока не наступит время взлете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3429000"/>
            <a:ext cx="2458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е прозрачные крылья дают возможность достигать поразительно высокой скор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587640" y="2781000"/>
            <a:ext cx="2243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крылья поднимаются вверх и раздвигаются в стороны во время пол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Изображение 14 in Насек11 copy"/>
          <p:cNvPicPr/>
          <p:nvPr/>
        </p:nvPicPr>
        <p:blipFill>
          <a:blip r:embed="rId1"/>
          <a:stretch/>
        </p:blipFill>
        <p:spPr>
          <a:xfrm>
            <a:off x="2916360" y="34290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5B90-72FC-4DCD-8731-802DA2C007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471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сший пилотаж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 чтобы быстро и ровно лететь, стрекозы машут четырьмя крыльями. А взмахивая попеременно то передними, то задними крыльями, они могут проделывать удивительные акробатические номера, быстро меняя направлена полета, неподвижно зависая в воздухе и даже летать задом напе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2098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лагодаря сети жилок крылья очень прочны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732720" y="4724280"/>
            <a:ext cx="1954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ышцы груди заставляют крылья подниматься и опускать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Untitled-2 copy"/>
          <p:cNvPicPr/>
          <p:nvPr/>
        </p:nvPicPr>
        <p:blipFill>
          <a:blip r:embed="rId1"/>
          <a:stretch/>
        </p:blipFill>
        <p:spPr>
          <a:xfrm>
            <a:off x="2843280" y="2708280"/>
            <a:ext cx="3944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7858-BF81-4C49-BC67-A3A66D1E29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ужжальца му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ух задние крылья превращены в небольшие булавовидные придат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жжальца. Во время полета они поднимаются и опускаются, создавая противовес основным крыльям. Жужжальца служат стабилизаторами полета и ролями. Без них муха не могла бы ле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4861080" y="1557360"/>
            <a:ext cx="38750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3E0B-8854-422F-8572-483F013410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ленистоногое с шестью конечностями и телом, разделенным на три отде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у, грудь и брюшко, называется насекомым. Известно более миллиона видов насекомых, населяющих все среды обита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26920" y="1671480"/>
            <a:ext cx="79218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7B75-F1A3-4180-B8F9-28F4BB0093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атомия насекомы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груди насекомого имеются три пары конечностей и две пары крыльев (насекомы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ые беспозвоночные, которые умеют летать). В брюшке расположено сердце, пищеварительные и половые органы. На голове находятся глаза и усики, а также ро­товой аппарат, который может иметь разную форму в зависимости 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о, чем насекомое питается. Губчатый или трубчатый ротовой аппарат приспособлен для всасывания жидкой пищи, а крепкие че­люсти нужны, чтобы крошить добыч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B4F9-A7AF-4D75-9F19-0EBC6B502B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ротового аппа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95280" y="2133720"/>
            <a:ext cx="83534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211A-BF8C-4406-B8E6-9B23BB7D4E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ь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сеница выползает из своей старой шкур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превратиться во взрослую особь, молодое насекомое вынуждено линять - сбрасывать свой твердый наружный скел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нескольку раз в течение жизни. Под стар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уется новый; когда насекомое готово к линьке, старый покров лопается, и насекомое выбирается наружу. У некоторых личинок насекомых, например, у гусениц, наружные оболочки мягкие. Гусеницы тоже линяют несколько раз, пока не станут взрослыми и у них не образуется твердый наруж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, как у бабочек и мо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1767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9480-A1D9-48F4-A5E1-FE5492B217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ганы чув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насекомых и пауков есть усики и маленькие чувствительные волоски, которыми они различают запахи, вкус, вибрации и звуки. У большинства есть глаза, но, чтобы ориентироваться в окружающей среде, зрение для них менее важно, чем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53C3-64E1-4C86-8A67-9AEE374EFE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ус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ки помогают насекомым ориентироваться в окружающей среде. Они чувствительны к прикосновениям и вибрациям, а также к переносимым по воздуху запахам. У некоторых усиков имеются многочисленные боковые отростки, которые увеличивают поверхность, покрытую чувствительными ячейками и волосками. У паукообразных нет усиков, но их функции выполняют волоски, покрывающие т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3280" y="3573360"/>
            <a:ext cx="1770120" cy="2519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659640" y="3573360"/>
            <a:ext cx="2327040" cy="2637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651640" y="1052640"/>
            <a:ext cx="2592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AC39-76F6-483B-9C92-36EDA8DBA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ги и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 и пауки используют свои членистые ноги для прыганья, хождения, бега и для многих других целей. У сверчков, например, на коленях рас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ожены уши, а самцы кузнечиков «поют» песни самкам, потирая крылья задними конечностя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1AE6-D549-414C-AC08-87B88CB2CF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н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3816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ги насекомых различаются в соответствии с их использованием. У таракана длинные тонкие конечности приспособлены для бега, а медведка своими широкими мощными ногами роет землю. Водяные жуки плавают в воде, отталкиваясь своими похожими на весла ногами, окаймленными волосками, а волоски на ногах пчелы собирают пыль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516720" y="1557360"/>
            <a:ext cx="2347920" cy="3600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211640" y="1268280"/>
            <a:ext cx="22273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2:52:47Z</dcterms:created>
  <dc:creator>Temp</dc:creator>
  <dc:description/>
  <dc:language>en-US</dc:language>
  <cp:lastModifiedBy>ОЕМ</cp:lastModifiedBy>
  <dcterms:modified xsi:type="dcterms:W3CDTF">2010-01-19T03:42:38Z</dcterms:modified>
  <cp:revision>9</cp:revision>
  <dc:subject/>
  <dc:title>НАСЕКОМЫЕ</dc:title>
</cp:coreProperties>
</file>