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E47-F4EF-41AA-BEF2-5D0E99B2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926-0101-4B52-9CBA-DAAD80F9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A45-BC11-4C38-BB13-2C542A30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EB8-BCCE-4F8C-B361-FC85F07C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BF6-5428-40FD-8FD8-2BA88A68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5CA-CFB0-4D01-9F74-F4D20275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505A-D301-432B-B898-6DF6C83D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98B-C848-4447-A89C-9071605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E8D-2005-4C23-A480-1681F28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5B6-73FA-43CA-9C7F-ACA95710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2622-96FD-4C4B-8F33-3A67E3C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D30-D2C2-4343-AF9E-E4D76E5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EB7-B955-4D7C-8F19-E5AE48C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65CE-CA20-406D-ADAB-61C105D4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2D9F-C930-4D0D-9A8F-53AE4ED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7D6-9A29-4637-82DD-8E574428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073-8719-48A8-9609-8FBBE8B8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A5D-DD63-40F3-B3E2-B8DCA970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FCF-9B94-4F3E-960E-E43D5DC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495-718A-41F0-A918-A265F73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06B-CFED-41F6-9D96-6D158053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71C-B0E8-495D-A04C-3893ABF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3E3-CD56-453B-90C0-C1044E7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D3F-B1E8-44D5-AC20-B146490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E2F5-8715-4F1C-9DD3-8A1D206A7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4353-461F-4032-9A34-573929BD7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П Р О Ф Е С С И И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0451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Книгу перевороши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мотай себе на ус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се работы хорош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ыбир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вкус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В.В.Маяк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«Кем быть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6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 О К Т О Р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4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8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2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6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С М Е Н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1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5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Х У Д О Ж Н И 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3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7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1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5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9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Ш В Е Я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6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60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4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8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Engineer</cp:lastModifiedBy>
  <dcterms:modified xsi:type="dcterms:W3CDTF">2006-04-06T05:30:05Z</dcterms:modified>
  <cp:revision>31</cp:revision>
  <dc:subject/>
  <dc:title>Х У Д О Ж Н И К</dc:title>
</cp:coreProperties>
</file>