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5.wmf" ContentType="image/x-wmf"/>
  <Override PartName="/ppt/media/image15.jpeg" ContentType="image/jpeg"/>
  <Override PartName="/ppt/media/image21.jpeg" ContentType="image/jpeg"/>
  <Override PartName="/ppt/media/image6.wmf" ContentType="image/x-wmf"/>
  <Override PartName="/ppt/media/image31.wmf" ContentType="image/x-wmf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22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4.wmf" ContentType="image/x-wmf"/>
  <Override PartName="/ppt/media/image11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14.png" ContentType="image/png"/>
  <Override PartName="/ppt/media/image16.png" ContentType="image/png"/>
  <Override PartName="/ppt/media/image18.jpeg" ContentType="image/jpeg"/>
  <Override PartName="/ppt/media/image20.png" ContentType="image/png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0450-E6AD-4457-82F8-42B955AE5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7C8B-5B0F-4872-B8DD-6181EA456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CF14-5E59-4EC2-8387-2A886ABD9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8C76-1ABB-4D1A-AD9C-4030FE5FB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A1C5-9D21-41E7-AF22-6AF76FC85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FCBC-E74D-48F3-B034-F3DE209B9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EEA5-4C8E-47DF-8197-D222A1DE1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FC6B-37D5-4615-AC47-4A9C95A4F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CD92-3F4E-4DE0-9799-12BD7CC3D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E719-6280-4D94-AE7B-71F43BD76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280D-6B68-4476-9E48-994EF4DE1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B90D-4F4A-4A3F-937B-25F70D1D8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71F3-BC30-4FC0-86D1-4168CB0DE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D7C9-F39F-4365-9471-562193FDA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C33B-D333-404D-B292-1BD6796FE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EC2F-B172-4372-A992-1EB77336D5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9699-F689-4E86-9CA3-FD3FB16DB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B3D6-9243-4FDF-A668-0BAA45DD98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D421-0CC8-488D-84A8-6BB62B5B1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E184-ACF6-4FB9-9625-ED178E8EA6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37CA-32DB-4B5D-9E90-4F0B31FBC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6F2-09FA-4142-9EFF-A7F1479F9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6F53-46F5-48D4-9ABD-6C60BE59C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912-36E3-49CC-BA4D-180BDD93B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C350-99AF-46CD-9E91-2A2F2AD33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BE02-4D30-4B1D-BB13-99A3871B1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B90-BE67-4201-AC3E-F375C6D2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C33-65EA-41BE-861C-4D51E16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F72-7DF8-434A-8CE3-9966B37A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AE0-5CC4-440B-8020-93C94654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184-6487-4035-924A-D027586D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A58-BFB5-4718-96BC-9E2EC013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C56-F657-4EF0-8312-76946659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DEC-9527-4CC7-8F2D-70D81C20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083-E474-44C6-B810-FBC3F688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420-6430-4D8D-BAFD-B8DF857D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CF2-B154-47AF-8650-3B24C3C3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67D-7775-4529-96BA-CAE2CE7E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5240-5556-4F43-A15D-C95037B2F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3A0B-988A-4421-BAD7-F7A71C739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cccc"/>
                </a:solidFill>
                <a:uFillTx/>
                <a:latin typeface="Century Gothic"/>
              </a:rPr>
              <a:t>СУ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48769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утках есть утро, день, вечер,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ки это 24 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часть суток длится примерно одинаково - по 6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Mj03368630000[1]"/>
          <p:cNvPicPr/>
          <p:nvPr/>
        </p:nvPicPr>
        <p:blipFill>
          <a:blip r:embed="rId1"/>
          <a:stretch/>
        </p:blipFill>
        <p:spPr>
          <a:xfrm>
            <a:off x="6858000" y="1341360"/>
            <a:ext cx="160488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85345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7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4BE6-22C4-4A15-A109-9BC93BD4F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солнце находится в зените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высоко- высоко в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sunny_sun"/>
          <p:cNvPicPr/>
          <p:nvPr/>
        </p:nvPicPr>
        <p:blipFill>
          <a:blip r:embed="rId1"/>
          <a:stretch/>
        </p:blipFill>
        <p:spPr>
          <a:xfrm>
            <a:off x="1981080" y="326880"/>
            <a:ext cx="556272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594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10B4-0F26-49C0-8A58-B5F4C0A8F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у мамы очень много 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usy_mom_1"/>
          <p:cNvPicPr/>
          <p:nvPr/>
        </p:nvPicPr>
        <p:blipFill>
          <a:blip r:embed="rId1"/>
          <a:stretch/>
        </p:blipFill>
        <p:spPr>
          <a:xfrm>
            <a:off x="2666880" y="533520"/>
            <a:ext cx="4454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87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A819-F9B7-42B7-827C-AD7BF186E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ети днем гуляют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building_a_snowman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396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4"/>
          <p:cNvPicPr/>
          <p:nvPr/>
        </p:nvPicPr>
        <p:blipFill>
          <a:blip r:embed="rId2"/>
          <a:stretch/>
        </p:blipFill>
        <p:spPr>
          <a:xfrm>
            <a:off x="0" y="1295280"/>
            <a:ext cx="4419720" cy="38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9" name="Text Box 13"/>
          <p:cNvSpPr/>
          <p:nvPr/>
        </p:nvSpPr>
        <p:spPr>
          <a:xfrm>
            <a:off x="990720" y="5410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791320" y="5334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3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325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253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2FF3-4B61-42EE-9F37-A52856A73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дают обычно с 2 до 3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MCj04132620000[1]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460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85345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419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0C21-6362-4C96-B159-CD544670F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сле обеда, маленькие дети ложатся спать, чтобы набраться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DSC04114"/>
          <p:cNvPicPr/>
          <p:nvPr/>
        </p:nvPicPr>
        <p:blipFill>
          <a:blip r:embed="rId1"/>
          <a:stretch/>
        </p:blipFill>
        <p:spPr>
          <a:xfrm>
            <a:off x="2438280" y="380880"/>
            <a:ext cx="4186440" cy="514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585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C1D3-B744-4233-87D1-332ADB34D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87656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ВЕЧ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981080" y="579132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ья часть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 начинается в 17 часов и заканчивается в 2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030905 082"/>
          <p:cNvPicPr/>
          <p:nvPr/>
        </p:nvPicPr>
        <p:blipFill>
          <a:blip r:embed="rId1"/>
          <a:stretch/>
        </p:blipFill>
        <p:spPr>
          <a:xfrm>
            <a:off x="1447920" y="304920"/>
            <a:ext cx="6953040" cy="463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842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28A0-0970-40D0-A125-B01BD3E68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папа приходит с работы, вся семья в с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apyhome"/>
          <p:cNvPicPr/>
          <p:nvPr/>
        </p:nvPicPr>
        <p:blipFill>
          <a:blip r:embed="rId1">
            <a:grayscl/>
          </a:blip>
          <a:stretch/>
        </p:blipFill>
        <p:spPr>
          <a:xfrm>
            <a:off x="2666880" y="228600"/>
            <a:ext cx="425160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87631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62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A8A6-637D-4538-912A-57C00AC74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ают примерно в 7 часов ве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DSC04565"/>
          <p:cNvPicPr/>
          <p:nvPr/>
        </p:nvPicPr>
        <p:blipFill>
          <a:blip r:embed="rId1"/>
          <a:stretch/>
        </p:blipFill>
        <p:spPr>
          <a:xfrm>
            <a:off x="1981080" y="304920"/>
            <a:ext cx="541044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345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64AA-9BB5-4CB1-A171-4EAA61CD4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це приближается к горизонту- это время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SC04045"/>
          <p:cNvPicPr/>
          <p:nvPr/>
        </p:nvPicPr>
        <p:blipFill>
          <a:blip r:embed="rId1"/>
          <a:stretch/>
        </p:blipFill>
        <p:spPr>
          <a:xfrm>
            <a:off x="914400" y="2239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6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6FE4-A05A-455F-A0EE-FF6882CF8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сном все обязательно куп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MCj00889360000[1]"/>
          <p:cNvPicPr/>
          <p:nvPr/>
        </p:nvPicPr>
        <p:blipFill>
          <a:blip r:embed="rId1"/>
          <a:stretch/>
        </p:blipFill>
        <p:spPr>
          <a:xfrm>
            <a:off x="2590920" y="304920"/>
            <a:ext cx="4417920" cy="495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868680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333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724280"/>
            <a:ext cx="7848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У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вая часть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ачинается в 5 часов и заканчивается в 11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1571730000[1]"/>
          <p:cNvPicPr/>
          <p:nvPr/>
        </p:nvPicPr>
        <p:blipFill>
          <a:blip r:embed="rId1"/>
          <a:stretch/>
        </p:blipFill>
        <p:spPr>
          <a:xfrm>
            <a:off x="1676520" y="152280"/>
            <a:ext cx="6400800" cy="451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59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3E83-3FB7-49BF-B45A-604B94273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5627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ы любишь куп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MMj0283628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1981080" cy="196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MCj03573850000[1]"/>
          <p:cNvPicPr/>
          <p:nvPr/>
        </p:nvPicPr>
        <p:blipFill>
          <a:blip r:embed="rId2"/>
          <a:stretch/>
        </p:blipFill>
        <p:spPr>
          <a:xfrm>
            <a:off x="5791320" y="358128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SC00115"/>
          <p:cNvPicPr/>
          <p:nvPr/>
        </p:nvPicPr>
        <p:blipFill>
          <a:blip r:embed="rId3"/>
          <a:stretch/>
        </p:blipFill>
        <p:spPr>
          <a:xfrm>
            <a:off x="304920" y="1066680"/>
            <a:ext cx="5257800" cy="394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Picture 12" descr=""/>
          <p:cNvPicPr/>
          <p:nvPr/>
        </p:nvPicPr>
        <p:blipFill>
          <a:blip r:embed="rId4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39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95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3239-F792-4A57-8889-006A8BEE1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, перед сном дети любят читать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kartinki"/>
          <p:cNvPicPr/>
          <p:nvPr/>
        </p:nvPicPr>
        <p:blipFill>
          <a:blip r:embed="rId1"/>
          <a:stretch/>
        </p:blipFill>
        <p:spPr>
          <a:xfrm>
            <a:off x="4724280" y="2438280"/>
            <a:ext cx="415296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0" name="Picture 9" descr="noviygod-garmoniya 071"/>
          <p:cNvPicPr/>
          <p:nvPr/>
        </p:nvPicPr>
        <p:blipFill>
          <a:blip r:embed="rId2"/>
          <a:stretch/>
        </p:blipFill>
        <p:spPr>
          <a:xfrm>
            <a:off x="457200" y="457200"/>
            <a:ext cx="395604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46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690"/>
                            </p:stCondLst>
                            <p:childTnLst>
                              <p:par>
                                <p:cTn id="1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1BFD-330B-49C9-A89C-C1EF0C6A3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60958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 начинается в 23 часа и продолжается до 5 часов у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lun"/>
          <p:cNvPicPr/>
          <p:nvPr/>
        </p:nvPicPr>
        <p:blipFill>
          <a:blip r:embed="rId1"/>
          <a:stretch/>
        </p:blipFill>
        <p:spPr>
          <a:xfrm>
            <a:off x="1447920" y="228600"/>
            <a:ext cx="6400800" cy="506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966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F0A8-3980-4AFE-8857-0A5C1B08D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5867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солнышко спит, а на небе светят Луна и 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MPj01789760000[1]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5637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MCj03189040000[1]"/>
          <p:cNvPicPr/>
          <p:nvPr/>
        </p:nvPicPr>
        <p:blipFill>
          <a:blip r:embed="rId2"/>
          <a:stretch/>
        </p:blipFill>
        <p:spPr>
          <a:xfrm>
            <a:off x="3581280" y="533520"/>
            <a:ext cx="15192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562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B72-4DDB-4173-A4A8-258ACCF64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зажигают фонари. От огней на улице становится светло, как д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MG_2404"/>
          <p:cNvPicPr/>
          <p:nvPr/>
        </p:nvPicPr>
        <p:blipFill>
          <a:blip r:embed="rId1"/>
          <a:stretch/>
        </p:blipFill>
        <p:spPr>
          <a:xfrm>
            <a:off x="304920" y="1447920"/>
            <a:ext cx="5257800" cy="35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Picture 17" descr="IMG_2382"/>
          <p:cNvPicPr/>
          <p:nvPr/>
        </p:nvPicPr>
        <p:blipFill>
          <a:blip r:embed="rId2"/>
          <a:stretch/>
        </p:blipFill>
        <p:spPr>
          <a:xfrm>
            <a:off x="5791320" y="685800"/>
            <a:ext cx="3166920" cy="475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6" name="Picture 18" descr=""/>
          <p:cNvPicPr/>
          <p:nvPr/>
        </p:nvPicPr>
        <p:blipFill>
          <a:blip r:embed="rId3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84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8767-96C5-412E-AF6E-0D981721C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все люди ложатся 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sleepy"/>
          <p:cNvPicPr/>
          <p:nvPr/>
        </p:nvPicPr>
        <p:blipFill>
          <a:blip r:embed="rId1"/>
          <a:stretch/>
        </p:blipFill>
        <p:spPr>
          <a:xfrm>
            <a:off x="2362320" y="533520"/>
            <a:ext cx="4800600" cy="472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326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951E-623A-41C8-B205-5455AF38F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люди любят встреч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В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вые солнечны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j00904430000[1]"/>
          <p:cNvPicPr/>
          <p:nvPr/>
        </p:nvPicPr>
        <p:blipFill>
          <a:blip r:embed="rId1"/>
          <a:stretch/>
        </p:blipFill>
        <p:spPr>
          <a:xfrm>
            <a:off x="1295280" y="457200"/>
            <a:ext cx="7239240" cy="5226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66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391B-3A53-4698-AF12-A91EE1331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ышко поднимается над землей, это время называетс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лнце вс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утроъ"/>
          <p:cNvPicPr/>
          <p:nvPr/>
        </p:nvPicPr>
        <p:blipFill>
          <a:blip r:embed="rId1"/>
          <a:stretch/>
        </p:blipFill>
        <p:spPr>
          <a:xfrm>
            <a:off x="1752480" y="228600"/>
            <a:ext cx="5867640" cy="519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14" descr=""/>
          <p:cNvPicPr/>
          <p:nvPr/>
        </p:nvPicPr>
        <p:blipFill>
          <a:blip r:embed="rId2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84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68FD-DCB0-4536-84C7-086869BF6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1956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 просыпаются люди.            Доброе утро, Малыш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MCPE06995_0000[1]"/>
          <p:cNvPicPr/>
          <p:nvPr/>
        </p:nvPicPr>
        <p:blipFill>
          <a:blip r:embed="rId1"/>
          <a:stretch/>
        </p:blipFill>
        <p:spPr>
          <a:xfrm>
            <a:off x="1295280" y="990720"/>
            <a:ext cx="4267440" cy="384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hild_with_Mother_3"/>
          <p:cNvPicPr/>
          <p:nvPr/>
        </p:nvPicPr>
        <p:blipFill>
          <a:blip r:embed="rId2"/>
          <a:stretch/>
        </p:blipFill>
        <p:spPr>
          <a:xfrm>
            <a:off x="6851520" y="3581280"/>
            <a:ext cx="16718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49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0043-5FC2-4C7E-884A-032C596E7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ы чистишь зубы по ут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oothbrush"/>
          <p:cNvPicPr/>
          <p:nvPr/>
        </p:nvPicPr>
        <p:blipFill>
          <a:blip r:embed="rId1"/>
          <a:stretch/>
        </p:blipFill>
        <p:spPr>
          <a:xfrm>
            <a:off x="1447920" y="1371600"/>
            <a:ext cx="634824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8610480" y="701028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89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3112-2824-48BE-84BE-85F70E273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все завтракают. Взрослые идут на работу, а дети в садик или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utout_cookies"/>
          <p:cNvPicPr/>
          <p:nvPr/>
        </p:nvPicPr>
        <p:blipFill>
          <a:blip r:embed="rId1"/>
          <a:stretch/>
        </p:blipFill>
        <p:spPr>
          <a:xfrm>
            <a:off x="1523880" y="228600"/>
            <a:ext cx="6705720" cy="514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AC83-6C3C-47E9-B036-EF1554C26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ы еще совсем маленький, мама остается с тобой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mom_toddler"/>
          <p:cNvPicPr/>
          <p:nvPr/>
        </p:nvPicPr>
        <p:blipFill>
          <a:blip r:embed="rId1"/>
          <a:stretch/>
        </p:blipFill>
        <p:spPr>
          <a:xfrm>
            <a:off x="2971800" y="1066680"/>
            <a:ext cx="3414600" cy="359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63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8911-E37C-4E0B-8D3A-1A6DD9BAE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4800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27477286"/>
          <p:cNvPicPr/>
          <p:nvPr/>
        </p:nvPicPr>
        <p:blipFill>
          <a:blip r:embed="rId1"/>
          <a:stretch/>
        </p:blipFill>
        <p:spPr>
          <a:xfrm>
            <a:off x="1523880" y="228600"/>
            <a:ext cx="6365880" cy="477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2057400" y="60199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торая часть суток – самая основная. Продолжительность дня с 11  до 17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44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3:57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